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2EF7-CBC0-4ABD-BC84-4CB7020E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7B72-10AB-4C56-9EEC-3C0DB9FD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55A7-6D97-4DA6-A51E-C53611B6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0C39-88EA-463A-8E3C-31E056B5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199F-36E0-4628-BE0F-52B65CFE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A847-EC5C-4732-9A67-54ABCC53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56B8-1389-4AB9-8048-1EE4B0A6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C229-2758-4B39-8D40-528052D6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361F-F339-4981-9B0F-83E28538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4BED-58CB-4916-900B-442CC150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80D0-C848-419E-A252-CB1E10F9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F4E0-F033-4F24-A437-D56B6A2C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D179-89C3-4F9F-BF48-42900D6A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B51C-81E1-4E96-9EC0-76C0D845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2DE2-CA65-440D-B297-3C889335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DC43-5BE1-4E35-B879-2381C639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1616-CF09-4920-8875-8F613508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7AA7-D75D-413A-B611-46F04768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EA4-AF54-4148-B707-3D779443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3CE4-9C34-4BE3-A645-321CE401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6D81-BD89-4CEA-B270-8050D7FC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D2C4-022F-48C2-983C-DA6338E1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014B-6CB0-4818-B9D4-E07B240B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E1BC-57A7-436B-A1DB-1893ABD5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C9CD-C9CA-42DF-9306-BC982A2931A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179E-A360-48CE-A98E-261A635E281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../../../../All%20Users/Documents/&#919;%20&#956;&#959;&#965;&#963;&#953;&#954;&#942;%20&#956;&#959;&#965;/&#916;&#949;&#943;&#947;&#956;&#945;&#964;&#945;%20&#956;&#959;&#965;&#963;&#953;&#954;&#942;&#962;/New%20Stories%20(Highway%20Blues).wma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Ο ΤΖΙΤΖΙΚΑΣ ΚΑΙ Ο ΜΕΡΜΗΓΚΑΣ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50920" y="549000"/>
            <a:ext cx="362916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Μια φορά κι έναν καιρό, ήταν ένα μυρμήγκι που έφτιαξε τη φωλιά του στις ρίζες ενός δέντρου, μέσα στο δάσος.</a:t>
            </a: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Την άνοιξη και το καλοκαίρι, που ο καιρός ήταν καλός, το μυρμήγκι ξυπνούσε με την ανατολή του ηλίου και ξεκινούσε </a:t>
            </a: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τη δουλειά του.</a:t>
            </a:r>
            <a:br>
              <a:rPr sz="1400"/>
            </a:br>
            <a:endParaRPr b="0" lang="en-US" sz="1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2279520" cy="217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250920" y="3933720"/>
          <a:ext cx="3628800" cy="2173320"/>
        </p:xfrm>
        <a:graphic>
          <a:graphicData uri="http://schemas.openxmlformats.org/drawingml/2006/table">
            <a:tbl>
              <a:tblPr/>
              <a:tblGrid>
                <a:gridCol w="3628800"/>
              </a:tblGrid>
              <a:tr h="21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Έψαχνε συνεχώς να βρει διάφορους σπόρους και όταν έβρισκε κάποιον, τον φορτωνόταν στην πλάτη και τον μετέφερε στη φωλιά του όπου και τον αποθήκευε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032360" y="3922560"/>
          <a:ext cx="3617640" cy="2173320"/>
        </p:xfrm>
        <a:graphic>
          <a:graphicData uri="http://schemas.openxmlformats.org/drawingml/2006/table">
            <a:tbl>
              <a:tblPr/>
              <a:tblGrid>
                <a:gridCol w="3617640"/>
              </a:tblGrid>
              <a:tr h="21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7" name="Picture 19" descr="C:\Documents and Settings\Νικόλαος Μπαλκίζας\Local Settings\Temporary Internet files\Content.IE5\DOS5UHCT\MPj04013590000[1].jpg"/>
          <p:cNvPicPr/>
          <p:nvPr/>
        </p:nvPicPr>
        <p:blipFill>
          <a:blip r:embed="rId2"/>
          <a:stretch/>
        </p:blipFill>
        <p:spPr>
          <a:xfrm>
            <a:off x="4067280" y="3860640"/>
            <a:ext cx="360036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Έτσι περνούσαν οι μέρες η μια μετά την άλλη και ήρθε ο καιρός που έφυγε το καλοκαίρι και έδωσε τη θέση του στο φθινόπωρο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Picture 2" descr="C:\WINDOWS\Web\Wallpaper\Φθινόπωρο.jpg"/>
          <p:cNvPicPr/>
          <p:nvPr/>
        </p:nvPicPr>
        <p:blipFill>
          <a:blip r:embed="rId1"/>
          <a:stretch/>
        </p:blipFill>
        <p:spPr>
          <a:xfrm>
            <a:off x="3995640" y="1700280"/>
            <a:ext cx="36180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ΚΑΙ ΓΙΑ ΤΟ ΤΕΛΟΣ ΈΝΑ </a:t>
            </a: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ΤΡΑΓΟΥΔΑΚ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Picture 2" descr="C:\WINDOWS\Web\Wallpaper\Φθινόπωρο.jpg"/>
          <p:cNvPicPr/>
          <p:nvPr/>
        </p:nvPicPr>
        <p:blipFill>
          <a:blip r:embed="rId3"/>
          <a:stretch/>
        </p:blipFill>
        <p:spPr>
          <a:xfrm>
            <a:off x="263520" y="2490840"/>
            <a:ext cx="3616200" cy="2712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3:41:22Z</dcterms:created>
  <dc:creator>Ο.Σ.Κ.</dc:creator>
  <dc:description/>
  <dc:language>en-US</dc:language>
  <cp:lastModifiedBy>Ο.Σ.Κ.</cp:lastModifiedBy>
  <dcterms:modified xsi:type="dcterms:W3CDTF">2011-10-18T13:51:47Z</dcterms:modified>
  <cp:revision>5</cp:revision>
  <dc:subject/>
  <dc:title>Ο ΤΖΙΤΖΙΚΑΣ ΚΑΙ Ο ΜΕΡΜΗΓΚΑΣ</dc:title>
</cp:coreProperties>
</file>