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8504-D826-47D4-B5BC-0951AF5C3F17}"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8F83-84B9-4350-A2C0-7BBEF714C2FA}"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ΟΜΠΕΛ ΛΟΓΟΤΕΧΝΙΑΣ 195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C37F-AB55-4252-875E-DFA003897A84}"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               </a:t>
            </a:r>
            <a:r>
              <a:rPr b="0" i="1" lang="el-GR" sz="1200" spc="-1" strike="noStrike">
                <a:solidFill>
                  <a:srgbClr val="000000"/>
                </a:solidFill>
                <a:latin typeface="Arial"/>
              </a:rPr>
              <a:t>Περίληψη βιβλί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Το συγκεκριμένο βιβλίο&lt;Ο γέρος και η θάλασσα&gt; μας μιλάει για έναν ηλικιωμένο ψαρά, το Σαντιάγο , ο οποίος λάτρευε και αγαπούσε το ψάρεμα. Κάθε πρωινό έπαιρνε τη βάρκα του για να ελπίζοντας ότι θα’βρισκε καλή ψαριά όπως συνέβαινε άλλοτε σε όλους τους ψαράδες.Μια μέρα λοιπόν, ο Σαντιάγο ξυπνά πίνει γρήγορα τον καφέ του και φεύγει μόνος του με την βάρκα του από το λιμάνι μέσα στο σκοτάδι. Σε μια από τις προσπάθειές του ο Σαντιάγο βλέπει ότι ένα ψάρι του παίρνει το δόλωμά του. Τότε χαρούμενος προσπαθεί να το ανεβάσει πάνω. Αφού το καταφέρνει συνειδητοποιεί πως δεν είναι πολλά αλλά ένα.Ήταν ένας ξιφίας ο οποίος ήταν πιο μεγάλος και από την βάρκα του και αυτό κάνει τον ψαρά να πανικοβληθεί.Στην προσπάθειά του να το βάλει μέσα στο δίχτυ κόβεται το χέρι του.Ο ψαράς ήταν ψύχραιμος και ήθελε πολύ να πάρει το ψάρι και ας πέθαινε μετά.Επειδή όμως φοβόταν να μην του επιτεθεί  καρχαρίας παρέμεινε στην θάλασσα για πολλές μέρες.Ενα πρωί 2 καρχαρίες μύρισαν το αίμα κατευθύνθηκαν προς την βάρκα και πήραν τον ξιφία.Ο Σαντιάγο απογοητευμένος από αυτό που του συνέβη επέστρεψε στην καλύβα του για να κοιμηθεί.  </a:t>
            </a:r>
            <a:r>
              <a:rPr b="0" i="1"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B736-1A35-408C-A4E5-F9B388B8CC6C}"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Λίγες πληροφορίες για τον συγγραφέ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 Ερνέστ Χέμινγουει γεννήθηκε στις 21 Ιουλίου 1899 ήταν ένας από τους σημαντικότερους Αμερικάνους συγγραφείς του 20</a:t>
            </a:r>
            <a:r>
              <a:rPr b="0" lang="el-GR" sz="1200" spc="-1" strike="noStrike" baseline="30000">
                <a:solidFill>
                  <a:srgbClr val="000000"/>
                </a:solidFill>
                <a:latin typeface="Arial"/>
              </a:rPr>
              <a:t>ου</a:t>
            </a:r>
            <a:r>
              <a:rPr b="0" lang="el-GR" sz="1200" spc="-1" strike="noStrike">
                <a:solidFill>
                  <a:srgbClr val="000000"/>
                </a:solidFill>
                <a:latin typeface="Arial"/>
              </a:rPr>
              <a:t> αιώνα γνωστός ακόμα και για το δημοσιογραφικό του έργο.Αποτέλεσε  μέλος της&lt;&lt;Χαμένης Γενιάς&gt;&gt; των αμερικανών λογοτεχνών στο Παρίσι.Το 1953 τιμηθήκε με το βραβείο Πούλιτζερ ενώ τον επόμενο χρόνο βραβεύτηκε με το Νόμπελ Λογοτεχνίας.Πέθανε στις 2 Ιουλίου του 1961 σε ηλικία 61 ετών.</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9EC5-BFEA-4894-A587-F420DAE01317}"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3C4BE-25F1-4B6A-AA32-4DE364407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B694A-5E4F-4E4C-82BA-2C1B6AA7A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6B5D0-D689-4101-A981-C51A9998A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6D6DA-69CC-4C90-BAE9-46B5D16C8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07174B-FBD3-4766-87D3-EACEF7F789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AB5C03-8FFF-4F88-AF9E-E98FA663B5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D071D-F9B0-4FA1-A3F2-C1FE4F89BE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9A47D5-3E7E-415F-B114-CA6003F28A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8A882-7912-4EB2-B53D-AAFC91F675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4341C-B895-45A7-A297-B0CD4C74B3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D6FB8-69FC-4A0D-952C-3D1F47C36F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2C17-B070-4E1B-B487-A21B64E31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2E45A-4E37-4F92-8CC0-5EAD36026A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C6609-8B26-4DD9-8CA1-228D2653F0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A7956-27D7-4AB7-9735-72990EA042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9AE753-6737-441F-AEBB-D5481A7C6B1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1D2B6C-077F-4176-B9AD-46A0FE99B4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BD442-A2D4-453A-ACEE-B3BCF5688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22627-63CA-4030-B883-1E0433DBC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C5ABF-FDAA-49DF-9306-FC2702AC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E3D2-2A05-458D-9283-636FEB6E5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449A-E058-4B2F-A9E2-210699E8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8723-B891-4E97-8E70-C3B4E277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1FAB-1504-4E60-8F87-61E614062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EBBB-0012-4CF0-9A3E-556ABB432CCD}" type="slidenum">
              <a:rPr b="0" lang="el-G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1603-512F-49EF-A0BE-C9747A0E55AA}" type="slidenum">
              <a:rPr b="0" lang="el-G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 </a:t>
            </a:r>
            <a:r>
              <a:rPr b="0" lang="el-GR" sz="4400" spc="-1" strike="noStrike">
                <a:solidFill>
                  <a:srgbClr val="ffffff"/>
                </a:solidFill>
                <a:latin typeface="Tahoma"/>
              </a:rPr>
              <a:t>ΓΕΡΟΣ ΚΑΙ Η ΘΑΛΑΣΣΑ</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ΤΟΥ</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ΕΡΝΕΣΤ</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ΧΕΜΙΝΓΟΥΕΙ</a:t>
            </a:r>
            <a:endParaRPr b="0" lang="en-US" sz="3200" spc="-1" strike="noStrike">
              <a:solidFill>
                <a:srgbClr val="ffffff"/>
              </a:solidFill>
              <a:latin typeface="Tahoma"/>
            </a:endParaRPr>
          </a:p>
        </p:txBody>
      </p:sp>
      <p:sp>
        <p:nvSpPr>
          <p:cNvPr id="9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291600"/>
            <a:ext cx="8229600" cy="572796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Picture 6" descr="xemin"/>
          <p:cNvPicPr/>
          <p:nvPr/>
        </p:nvPicPr>
        <p:blipFill>
          <a:blip r:embed="rId1"/>
          <a:stretch/>
        </p:blipFill>
        <p:spPr>
          <a:xfrm>
            <a:off x="0" y="0"/>
            <a:ext cx="9144000" cy="6858000"/>
          </a:xfrm>
          <a:prstGeom prst="rect">
            <a:avLst/>
          </a:prstGeom>
          <a:ln w="0">
            <a:noFill/>
          </a:ln>
        </p:spPr>
      </p:pic>
      <p:sp>
        <p:nvSpPr>
          <p:cNvPr id="95" name="Rectangle 7"/>
          <p:cNvSpPr/>
          <p:nvPr/>
        </p:nvSpPr>
        <p:spPr>
          <a:xfrm>
            <a:off x="2899080" y="3246480"/>
            <a:ext cx="3347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ΝΟΜΠΕΛ ΛΟΓΟΤΕΧΝΙΑΣ 195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ΠΡΩΤΑΓΩΝΙΣΤΕΣ</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ΣΑΝΤΙΑΓΟ(ο ηλικιωμένος ψαράς)</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ΜΑΝΟΛΙΝΟ(το μικρό παιδί που βοηθούσε τον Σαντιάγο)</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ΟΙ ΑΛΛΟΙ ΨΑΡΑΔΕ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62864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ffffff"/>
                </a:solidFill>
                <a:latin typeface="Tahoma"/>
              </a:rPr>
              <a:t>θάλασσα&gt; μας μιλάει για έναν ηλικιωμένο</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ffffff"/>
              </a:solidFill>
              <a:latin typeface="Tahoma"/>
            </a:endParaRPr>
          </a:p>
        </p:txBody>
      </p:sp>
      <p:pic>
        <p:nvPicPr>
          <p:cNvPr id="100" name="Picture 5" descr="the-oldman-and-the-sea"/>
          <p:cNvPicPr/>
          <p:nvPr/>
        </p:nvPicPr>
        <p:blipFill>
          <a:blip r:embed="rId1"/>
          <a:stretch/>
        </p:blipFill>
        <p:spPr>
          <a:xfrm>
            <a:off x="0" y="0"/>
            <a:ext cx="9252000" cy="6858000"/>
          </a:xfrm>
          <a:prstGeom prst="rect">
            <a:avLst/>
          </a:prstGeom>
          <a:ln w="0">
            <a:noFill/>
          </a:ln>
        </p:spPr>
      </p:pic>
      <p:pic>
        <p:nvPicPr>
          <p:cNvPr id="101" name="Picture 10" descr=""/>
          <p:cNvPicPr/>
          <p:nvPr/>
        </p:nvPicPr>
        <p:blipFill>
          <a:blip r:embed="rId2"/>
          <a:stretch/>
        </p:blipFill>
        <p:spPr>
          <a:xfrm>
            <a:off x="8661240" y="6375240"/>
            <a:ext cx="304920" cy="304920"/>
          </a:xfrm>
          <a:prstGeom prst="rect">
            <a:avLst/>
          </a:prstGeom>
          <a:ln w="0">
            <a:noFill/>
          </a:ln>
        </p:spPr>
      </p:pic>
      <p:sp>
        <p:nvSpPr>
          <p:cNvPr id="102" name="Rectangle 12"/>
          <p:cNvSpPr/>
          <p:nvPr/>
        </p:nvSpPr>
        <p:spPr>
          <a:xfrm>
            <a:off x="2405160" y="93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3"/>
          <p:cNvSpPr/>
          <p:nvPr/>
        </p:nvSpPr>
        <p:spPr>
          <a:xfrm>
            <a:off x="0" y="549360"/>
            <a:ext cx="925200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Περίληψη βιβλίου</a:t>
            </a:r>
            <a:r>
              <a:rPr b="0" i="1" lang="el-GR"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Tahoma"/>
              </a:rPr>
              <a:t>Το συγκεκριμένο βιβλίο&lt;Ο γέρος και η θάλασσα&gt; μας μιλάει για έναν ηλικιωμένο ψαρά, το Σαντιάγο , ο οποίος λάτρευε και αγαπούσε το ψάρεμα. Κάθε πρωινό έπαιρνε τη βάρκα του για να ελπίζοντας ότι θα’βρισκε καλή ψαριά όπως συνέβαινε άλλοτε σε όλους τους ψαράδες.Μια μέρα λοιπόν, ο Σαντιάγο ξυπνά πίνει γρήγορα τον καφέ του και φεύγει μόνος του με την βάρκα του από το λιμάνι μέσα στο σκοτάδι. Σε μια από τις προσπάθειές του ο Σαντιάγο βλέπει ότι ένα ψάρι του παίρνει το δόλωμά του. Τότε χαρούμενος προσπαθεί να το ανεβάσει πάνω. Αφού το καταφέρνει συνειδητοποιεί πως δεν είναι πολλά αλλά ένα.Ήταν ένας ξιφίας ο οποίος ήταν πιο μεγάλος και από την βάρκα του και αυτό κάνει τον ψαρά να πανικοβληθεί.Στην προσπάθειά του να το βάλει μέσα στο δίχτυ κόβεται το χέρι του.Ο ψαράς ήταν ψύχραιμος και ήθελε πολύ να πάρει το ψάρι και ας πέθαινε μετά.Επειδή όμως φοβόταν να μην του επιτεθεί  καρχαρίας παρέμεινε στην θάλασσα για πολλές μέρες.Ενα πρωί 2 καρχαρίες μύρισαν το αίμα κατευθύνθηκαν προς την βάρκα και πήραν τον ξιφία.Ο Σαντιάγο απογοητευμένος από αυτό που του συνέβη επέστρεψε στην καλύβα του για να κοιμηθεί.  </a:t>
            </a:r>
            <a:r>
              <a:rPr b="0" i="1" lang="el-GR" sz="1800" spc="-1" strike="noStrike">
                <a:solidFill>
                  <a:srgbClr val="ffffff"/>
                </a:solidFill>
                <a:latin typeface="Tahoma"/>
              </a:rPr>
              <a:t>	</a:t>
            </a:r>
            <a:endParaRPr b="0" lang="en-US" sz="1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900000" y="4797360"/>
            <a:ext cx="11129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Το </a:t>
            </a:r>
            <a:r>
              <a:rPr b="0" i="1" lang="el-GR" sz="1800" spc="-1" strike="noStrike">
                <a:solidFill>
                  <a:srgbClr val="ffffff"/>
                </a:solidFill>
                <a:latin typeface="Tahoma"/>
              </a:rPr>
              <a:t>μήνυμα που μας μεταδίδει το βιβλίο είναι ότι ο άνθρωπος μπορεί να                                                                         καταστρέφεται αλλά ποτέ δεν νικιέται</a:t>
            </a:r>
            <a:endParaRPr b="0" lang="en-US" sz="1800" spc="-1" strike="noStrike">
              <a:solidFill>
                <a:srgbClr val="ffffff"/>
              </a:solidFill>
              <a:latin typeface="Tahoma"/>
            </a:endParaRPr>
          </a:p>
        </p:txBody>
      </p:sp>
      <p:sp>
        <p:nvSpPr>
          <p:cNvPr id="105" name="Rectangle 5"/>
          <p:cNvSpPr/>
          <p:nvPr/>
        </p:nvSpPr>
        <p:spPr>
          <a:xfrm>
            <a:off x="4572000" y="333360"/>
            <a:ext cx="4572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Λίγες πληροφορίες για τον συγγραφέα</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 </a:t>
            </a:r>
            <a:r>
              <a:rPr b="0" lang="el-GR" sz="1800" spc="-1" strike="noStrike">
                <a:solidFill>
                  <a:srgbClr val="ffffff"/>
                </a:solidFill>
                <a:latin typeface="Tahoma"/>
              </a:rPr>
              <a:t>Ο Ερνέστ Χέμινγουει γεννήθηκε στις 21 Ιουλίου 1899 ήταν ένας από τους σημαντικότερους Αμερικάνους συγγραφείς του 20ου αιώνα γνωστός ακόμα και για το δημοσιογραφικό του έργο.Αποτέλεσε  μέλος της&lt;&lt;Χαμένης Γενιάς&gt;&gt; των αμερικανών λογοτεχνών στο Παρίσι.Το 1953 τιμηθήκε με το βραβείο Πούλιτζερ ενώ τον επόμενο χρόνο βραβεύτηκε με το Νόμπελ Λογοτεχνίας.Πέθανε στις 2 Ιουλίου του 1961 σε ηλικία 61 ετών.</a:t>
            </a:r>
            <a:endParaRPr b="0" lang="en-US" sz="1800" spc="-1" strike="noStrike">
              <a:solidFill>
                <a:srgbClr val="ffffff"/>
              </a:solidFill>
              <a:latin typeface="Tahoma"/>
            </a:endParaRPr>
          </a:p>
        </p:txBody>
      </p:sp>
      <p:pic>
        <p:nvPicPr>
          <p:cNvPr id="106" name="Picture 6" descr=""/>
          <p:cNvPicPr/>
          <p:nvPr/>
        </p:nvPicPr>
        <p:blipFill>
          <a:blip r:embed="rId1"/>
          <a:stretch/>
        </p:blipFill>
        <p:spPr>
          <a:xfrm>
            <a:off x="8661240" y="6375240"/>
            <a:ext cx="304920" cy="304920"/>
          </a:xfrm>
          <a:prstGeom prst="rect">
            <a:avLst/>
          </a:prstGeom>
          <a:ln w="0">
            <a:noFill/>
          </a:ln>
        </p:spPr>
      </p:pic>
      <p:pic>
        <p:nvPicPr>
          <p:cNvPr id="107" name="Picture 8" descr="122226_15107"/>
          <p:cNvPicPr/>
          <p:nvPr/>
        </p:nvPicPr>
        <p:blipFill>
          <a:blip r:embed="rId2"/>
          <a:stretch/>
        </p:blipFill>
        <p:spPr>
          <a:xfrm>
            <a:off x="250920" y="549360"/>
            <a:ext cx="4105080" cy="3166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ff"/>
              </a:solidFill>
              <a:latin typeface="Tahoma"/>
            </a:endParaRPr>
          </a:p>
        </p:txBody>
      </p:sp>
      <p:sp>
        <p:nvSpPr>
          <p:cNvPr id="109" name=""/>
          <p:cNvSpPr txBox="1"/>
          <p:nvPr/>
        </p:nvSpPr>
        <p:spPr>
          <a:xfrm>
            <a:off x="457200" y="1904760"/>
            <a:ext cx="4038480" cy="198108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
          <p:cNvSpPr txBox="1"/>
          <p:nvPr/>
        </p:nvSpPr>
        <p:spPr>
          <a:xfrm>
            <a:off x="4648320" y="1904760"/>
            <a:ext cx="4038480" cy="198108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
          <p:cNvSpPr txBox="1"/>
          <p:nvPr/>
        </p:nvSpPr>
        <p:spPr>
          <a:xfrm>
            <a:off x="457200" y="4038480"/>
            <a:ext cx="4038480" cy="198144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
          <p:cNvSpPr txBox="1"/>
          <p:nvPr/>
        </p:nvSpPr>
        <p:spPr>
          <a:xfrm>
            <a:off x="4648320" y="4038480"/>
            <a:ext cx="4038480" cy="198144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Picture 10" descr="old-man-sea"/>
          <p:cNvPicPr/>
          <p:nvPr/>
        </p:nvPicPr>
        <p:blipFill>
          <a:blip r:embed="rId1"/>
          <a:stretch/>
        </p:blipFill>
        <p:spPr>
          <a:xfrm>
            <a:off x="0" y="0"/>
            <a:ext cx="9144000" cy="6858000"/>
          </a:xfrm>
          <a:prstGeom prst="rect">
            <a:avLst/>
          </a:prstGeom>
          <a:ln w="0">
            <a:noFill/>
          </a:ln>
        </p:spPr>
      </p:pic>
      <p:sp>
        <p:nvSpPr>
          <p:cNvPr id="114" name="WordArt 14"/>
          <p:cNvSpPr txBox="1"/>
          <p:nvPr/>
        </p:nvSpPr>
        <p:spPr>
          <a:xfrm>
            <a:off x="2557440" y="1333440"/>
            <a:ext cx="4029120" cy="4191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τέλος</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Ευαγγελία Σπυριδάκη</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amp;</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Κυριακή Ρεφενέ</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15:58:09Z</dcterms:created>
  <dc:creator>PCEM</dc:creator>
  <dc:description/>
  <dc:language>en-US</dc:language>
  <cp:lastModifiedBy>User</cp:lastModifiedBy>
  <dcterms:modified xsi:type="dcterms:W3CDTF">2013-03-31T19:20:44Z</dcterms:modified>
  <cp:revision>5</cp:revision>
  <dc:subject/>
  <dc:title>O ΓΕΡΟΣ ΚΑΙ Η ΘΑΛΑΣΣΑ</dc:title>
</cp:coreProperties>
</file>