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EE25-5EB1-4149-A20D-D7F39F85C3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AB2A-2EDA-40D4-93F0-DFC91B2B2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3D70-BEE2-4AF7-A995-16B31162E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19357-9398-40AD-B86C-46958BF82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B90C6-D88A-4DF9-9B2E-EE2F663C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89A2B0-D55E-4CCF-9138-CD93C1D5A6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E4454E-53DA-415C-9F25-6BA17406EE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2FE71F-1D45-4855-B97B-615517E98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A0834-E0A1-4B83-9D2D-7268D6617D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494CDE-6EC5-470B-9C1F-236B59FED2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1A34F-B740-4AA4-A814-68FE774B53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BD5533-D35E-4A4C-9E71-CC47EAF534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CC2BFF-0EAF-4133-9BE0-DE1AF302E7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4C0C64-129A-488B-8318-6211B4F6E4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AB27C-9BAB-4940-ACDB-AF2CFE9EC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7BC89-0275-471B-97F4-B4410C022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EB75F-FA11-45E2-BA76-CDDC2947B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48CBB-DD2D-4CD3-B7C5-A471FCB6A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DCAE1-D597-4723-BC21-CF45E51AB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F2BF7-F726-410D-86CE-D41144778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B7556-4CB1-4666-A2F9-C8AE5C840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471D9-EEA9-4624-ABB3-F02E39FF9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AB46A-4113-49BE-97CC-CDC4041C9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895A7-21B5-4C3B-9381-2B5B2FC9A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A3F97-4DDB-4B88-B4B4-73DBF2C31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873A7-14F8-413B-B1C2-A21F847AF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B50BA-24B7-4956-A536-2D42A7CB5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49791-063E-4353-A358-4BAB88B10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602AA-BDED-4C1B-AB67-94B294B31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38AB73-6DD1-479D-AA9C-376F3D6344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B4DFF4-6394-48DA-B24E-1BE6F73E3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027B1-73F8-4DC9-BB9D-92EEA19E5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AB446C-95B0-42E7-80F8-1E03DB0B8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3D18B5-9683-42F4-9908-C1F551593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6421D-A99D-4EC2-B9A8-927023C5B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B7220-4FD0-479C-8A86-E9B33151A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E2C7D-4361-4658-999F-14F519F66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DB7B1-1891-43B3-A9DF-002A0012F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EA64A6-9418-4F1D-9214-657C17701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D387C-F914-49B3-A347-F89B9BE843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AD0E6D-5C42-44A4-A2F7-03568D6B61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3682FF-8E17-4554-A505-79E29C4AEF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0933A2-BD5F-400B-B5C1-026E64316C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1EBD70-88D2-4F35-AC39-8F9B9BA96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6D24E6-9708-4562-B134-BCCE049EB3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4F4F7-8A98-49A5-AE6A-A186BD830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17DCD7-128B-4016-91E5-DBD651741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D8EF3-F85F-4354-9700-55D3E327DF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0EA0D-2303-4606-AB81-51B2F5AC7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1BD05-10C6-491F-9CE1-C52E015A7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276F1D-37AD-4AAD-BB1B-3A0F16D17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53A97-8E00-410C-B407-CA8F6AAE7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F9DA1-A492-4AE1-AD6F-EB8EDAF2E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747CFF-999E-4C6C-B824-FE75380A4B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5ED615-8E84-4816-9E95-BD2169B779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C42209-6082-4514-84A3-83F1095B7C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37BF9-BA71-4305-8615-1CF2FE637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302AA2-8F0B-4BE8-AC91-BC3FAF7FF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6F2B0A-474E-4B49-95E0-D67B0358E4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DAA7A-4C18-4947-AE0C-B095A4AFBC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4F0A24-E7DA-42CF-8343-72C0110CB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EAA1DD-B7EC-4888-B903-E80D9605E2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3D720-0C4B-42AD-A2A7-297AAEF7D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06BC5C-CBA0-4064-B823-7DE8B0CC4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6A7A5-F4C5-4BFC-8C4E-2929E2F33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455135-986E-4A3D-9E7B-947029821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1BA11E-091B-446D-8022-143033E335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BF710-AF82-4B7A-A344-3E783765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5249F0-06EB-4853-902C-E1A02B5509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852A40-294B-41BB-A437-7AA0283D59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DDA782-B664-47A2-8511-D8C334CD9F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4C2C12-5366-454C-B755-FC3C08A45D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B61E27-DF8A-4D45-88F6-BA3358BCC8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BD42F-ADFD-4F58-9173-813A60C92C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EDC4F5-DCC9-4AD1-AC7C-2428117D14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1C126B-C611-4CBF-BDA3-09A0CDA594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1EDE4-93F5-4ADA-BFDB-CC4C013AE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16F6B-D29C-4A3C-A6D5-1C6B7D10E7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B7B0A-B896-43B3-9FBE-989D3F13C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515265-4520-4AF8-B397-88E8458633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7505F9-BBD5-4269-AFD3-F5F94140D9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F37835-AA46-4727-AB3F-844D781906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49183F-9110-4BD2-A81E-26B0406B4A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26D0CE-E9CA-4917-B6FA-AD1128B1DA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6E6CEE-BADB-4BD1-8D75-2440FF882E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37A01F-83D0-4DAE-8894-D713653CCF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87BF33-75FF-4696-997D-B5BE61849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3A9E9-0C38-4CA8-A168-8E386144DC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F55DFD-A21D-429C-B7AE-F008EAF9D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C3EB3-4F9F-4461-9374-6352D2A45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94B712-13FF-42DE-BCEA-9229FCDEA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C06890-ABF7-4821-9CED-FDAB943FB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F52B10-CD24-42C5-99F8-4EB60AE33D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19A593-76B6-4EAB-8EDB-0FDF8050F5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E55394-A949-4ED1-B394-4706612A96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728290-5FA0-40D8-8D7F-94F6B7177F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4FE820-7736-49E2-A68B-D9E33CCCC3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263B4E-2A7F-4283-AD9A-533EAF3FC9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089B01-F175-437E-BAA0-F3165BD1EA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8FCA6D-F938-4767-82AF-5D8CF2510E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CF52-5808-402B-87B0-C19443BBF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CE3A33-EE2C-4A82-AB92-FF856F6737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09A3C-B9C0-40B7-9647-FB67966D57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3869B1-1198-4A29-9CF1-B83737F06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0159B-E020-4E34-921B-D4DDCB9CA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3AE589-959A-40C5-BE54-4FDA0BA42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9AC073-7977-4E13-AF14-ECEB72D129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9E612B-49C2-41D7-A73B-8A1664AEC2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0E2EEB-AA50-4F12-964E-911B9E8331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DE4D15-87FB-4A2C-AD5D-7B1FA4929C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5B4920-82D6-48DE-9544-BD7E799A5F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490C-9702-46B9-A8B6-5C7565649B6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4689-1135-4ECC-BE8B-E698D284E30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12FD-1D0F-4FCA-85AB-609E2A72A25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0F09-A789-4267-BECD-27FC7ED1FE4B}" type="slidenum">
              <a:rPr b="0" lang="en-US"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9C9E-6C9A-42E7-8F33-9C4885B56CA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6B7B-4D60-4389-8A63-6BABD44B11B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2C53-07A8-4316-8747-427F04D20C9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D851-81A9-4D3E-9E56-DB85B0E6702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7DFE-6089-4C46-A423-37350789F99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3" descr="pao.jpg"/>
          <p:cNvPicPr/>
          <p:nvPr/>
        </p:nvPicPr>
        <p:blipFill>
          <a:blip r:embed="rId1"/>
          <a:stretch/>
        </p:blipFill>
        <p:spPr>
          <a:xfrm>
            <a:off x="-6480" y="-6480"/>
            <a:ext cx="9156960" cy="6870960"/>
          </a:xfrm>
          <a:prstGeom prst="rect">
            <a:avLst/>
          </a:prstGeom>
          <a:ln w="0">
            <a:noFill/>
          </a:ln>
        </p:spPr>
      </p:pic>
      <p:pic>
        <p:nvPicPr>
          <p:cNvPr id="407" name="Title 1" descr=""/>
          <p:cNvPicPr/>
          <p:nvPr/>
        </p:nvPicPr>
        <p:blipFill>
          <a:blip r:embed="rId2"/>
          <a:stretch/>
        </p:blipFill>
        <p:spPr>
          <a:xfrm>
            <a:off x="182520" y="4761000"/>
            <a:ext cx="8699400" cy="1322280"/>
          </a:xfrm>
          <a:prstGeom prst="rect">
            <a:avLst/>
          </a:prstGeom>
          <a:ln w="0">
            <a:noFill/>
          </a:ln>
        </p:spPr>
      </p:pic>
      <p:sp>
        <p:nvSpPr>
          <p:cNvPr id="408" name="PlaceHolder 1"/>
          <p:cNvSpPr>
            <a:spLocks noGrp="1"/>
          </p:cNvSpPr>
          <p:nvPr>
            <p:ph type="subTitle"/>
          </p:nvPr>
        </p:nvSpPr>
        <p:spPr>
          <a:xfrm>
            <a:off x="380520" y="3886200"/>
            <a:ext cx="8458200" cy="914400"/>
          </a:xfrm>
          <a:prstGeom prst="rect">
            <a:avLst/>
          </a:prstGeom>
          <a:noFill/>
          <a:ln w="0">
            <a:noFill/>
          </a:ln>
        </p:spPr>
        <p:txBody>
          <a:bodyPr anchor="b">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b050"/>
                </a:solidFill>
                <a:latin typeface="Franklin Gothic Book"/>
              </a:rPr>
              <a:t>Σπέγγος Οδυσσέας</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b0f0"/>
                </a:solidFill>
                <a:latin typeface="Franklin Gothic Book"/>
              </a:rPr>
              <a:t>Συμεώνοβ Ιβάν</a:t>
            </a:r>
            <a:endParaRPr b="0" lang="en-US" sz="1900" spc="-1" strike="noStrike">
              <a:solidFill>
                <a:srgbClr val="4e3b30"/>
              </a:solidFill>
              <a:latin typeface="Franklin Gothic Book"/>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ff0000"/>
                </a:solidFill>
                <a:latin typeface="Franklin Gothic Book"/>
              </a:rPr>
              <a:t>Χίντρι Κλάιντι</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1" descr="pao.jpg"/>
          <p:cNvPicPr/>
          <p:nvPr/>
        </p:nvPicPr>
        <p:blipFill>
          <a:blip r:embed="rId1">
            <a:lum bright="6000"/>
          </a:blip>
          <a:stretch/>
        </p:blipFill>
        <p:spPr>
          <a:xfrm>
            <a:off x="1828800" y="0"/>
            <a:ext cx="5486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36360" y="244440"/>
            <a:ext cx="9034200" cy="171756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Franklin Gothic Book"/>
              </a:rPr>
              <a:t>Το Βιβλίο</a:t>
            </a:r>
            <a:r>
              <a:rPr b="0" lang="en-US" sz="3200" spc="-1" strike="noStrike">
                <a:solidFill>
                  <a:srgbClr val="4e3b30"/>
                </a:solidFill>
                <a:latin typeface="Franklin Gothic Book"/>
              </a:rPr>
              <a:t>:</a:t>
            </a:r>
            <a:r>
              <a:rPr b="0" lang="el-GR" sz="3200" spc="-1" strike="noStrike">
                <a:solidFill>
                  <a:srgbClr val="4e3b30"/>
                </a:solidFill>
                <a:latin typeface="Franklin Gothic Book"/>
              </a:rPr>
              <a:t>Είναι ο κύριος προταγ</a:t>
            </a:r>
            <a:r>
              <a:rPr b="0" lang="el-GR" sz="3200" spc="-1" strike="noStrike">
                <a:solidFill>
                  <a:srgbClr val="4e3b30"/>
                </a:solidFill>
                <a:latin typeface="Arial"/>
              </a:rPr>
              <a:t>ω</a:t>
            </a:r>
            <a:r>
              <a:rPr b="0" lang="el-GR" sz="3200" spc="-1" strike="noStrike">
                <a:solidFill>
                  <a:srgbClr val="4e3b30"/>
                </a:solidFill>
                <a:latin typeface="Franklin Gothic Book"/>
              </a:rPr>
              <a:t>νιστής.Είναι ένα βιβλίο που δεν ήθελε να διαβαστεί.</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Franklin Gothic Book"/>
              </a:rPr>
              <a:t>Κα.Αμαλία</a:t>
            </a:r>
            <a:r>
              <a:rPr b="0" lang="en-US" sz="3200" spc="-1" strike="noStrike">
                <a:solidFill>
                  <a:srgbClr val="4e3b30"/>
                </a:solidFill>
                <a:latin typeface="Franklin Gothic Book"/>
              </a:rPr>
              <a:t>:</a:t>
            </a:r>
            <a:r>
              <a:rPr b="0" lang="el-GR" sz="3200" spc="-1" strike="noStrike">
                <a:solidFill>
                  <a:srgbClr val="4e3b30"/>
                </a:solidFill>
                <a:latin typeface="Franklin Gothic Book"/>
              </a:rPr>
              <a:t>Είναι η βιβλιοθηκάριος της βιβλιοθήκης στην οποία ζούσε το βιβλίο.</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Franklin Gothic Book"/>
              </a:rPr>
              <a:t>Το παιδί με τα πράσινα γυαλιά</a:t>
            </a:r>
            <a:r>
              <a:rPr b="0" lang="en-US" sz="3200" spc="-1" strike="noStrike">
                <a:solidFill>
                  <a:srgbClr val="4e3b30"/>
                </a:solidFill>
                <a:latin typeface="Franklin Gothic Book"/>
              </a:rPr>
              <a:t>:</a:t>
            </a:r>
            <a:r>
              <a:rPr b="0" lang="el-GR" sz="3200" spc="-1" strike="noStrike">
                <a:solidFill>
                  <a:srgbClr val="4e3b30"/>
                </a:solidFill>
                <a:latin typeface="Franklin Gothic Book"/>
              </a:rPr>
              <a:t>Είναι το αγόρι που πήρε το βιβλίο.</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4e3b30"/>
                </a:solidFill>
                <a:latin typeface="Arial"/>
              </a:rPr>
              <a:t>Τα άλλα βιβλία της βιβλιοθήκης.</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4" descr="βιβλίο (3).jpg"/>
          <p:cNvPicPr/>
          <p:nvPr/>
        </p:nvPicPr>
        <p:blipFill>
          <a:blip r:embed="rId1"/>
          <a:stretch/>
        </p:blipFill>
        <p:spPr>
          <a:xfrm>
            <a:off x="0" y="0"/>
            <a:ext cx="9144000" cy="6858000"/>
          </a:xfrm>
          <a:prstGeom prst="rect">
            <a:avLst/>
          </a:prstGeom>
          <a:ln w="0">
            <a:noFill/>
          </a:ln>
        </p:spPr>
      </p:pic>
      <p:pic>
        <p:nvPicPr>
          <p:cNvPr id="413" name="Title 1" descr=""/>
          <p:cNvPicPr/>
          <p:nvPr/>
        </p:nvPicPr>
        <p:blipFill>
          <a:blip r:embed="rId2"/>
          <a:stretch/>
        </p:blipFill>
        <p:spPr>
          <a:xfrm>
            <a:off x="133200" y="268200"/>
            <a:ext cx="8864640" cy="103680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Franklin Gothic Book"/>
              </a:rPr>
              <a:t>Είναι ένα βιβλίο που δεν ήθελε να διαβαστεί επειδή φοβόταν μη λερωθεί και τσαλακωθεί.Και συνέχεια αυτό κρυβόταν πίσω από τα μεγάλα βιβλία όταν είχε πελατεία το βιβλιοπωλείο.Μια μέρα όμως ήρθε ένα παιδί με πράσινα γυαλιά που έψαχνε εδώ και καιρό ένα συγκεκριμένο βιβλίο.Κάτα λάθος το βιβλίο έπεσε στα χέρια της Αμαλίας και μετά βρέθηκε στα χέρια του παιδιού.</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Franklin Gothic Book"/>
              </a:rPr>
              <a:t>Τελικά το βιβλίο ανακάλυψε ότι ήταν ένα μουσικό βιβλίο βλέποντας το παιδί να παίζει βιολί βλέποντας τις νότες μέσα από το </a:t>
            </a:r>
            <a:r>
              <a:rPr b="0" lang="el-GR" sz="2400" spc="-1" strike="noStrike">
                <a:solidFill>
                  <a:srgbClr val="ffff00"/>
                </a:solidFill>
                <a:latin typeface="Arial"/>
              </a:rPr>
              <a:t>τις σελίδες του</a:t>
            </a:r>
            <a:r>
              <a:rPr b="0" lang="el-GR" sz="2400" spc="-1" strike="noStrike">
                <a:solidFill>
                  <a:srgbClr val="ffff00"/>
                </a:solidFill>
                <a:latin typeface="Franklin Gothic Book"/>
              </a:rPr>
              <a: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03320" y="450720"/>
            <a:ext cx="8894520" cy="1152720"/>
          </a:xfrm>
          <a:prstGeom prst="rect">
            <a:avLst/>
          </a:prstGeom>
          <a:ln w="0">
            <a:noFill/>
          </a:ln>
        </p:spPr>
      </p:pic>
      <p:pic>
        <p:nvPicPr>
          <p:cNvPr id="416" name="Content Placeholder 4" descr="βιβλίο (4).jpg"/>
          <p:cNvPicPr/>
          <p:nvPr/>
        </p:nvPicPr>
        <p:blipFill>
          <a:blip r:embed="rId2"/>
          <a:stretch/>
        </p:blipFill>
        <p:spPr>
          <a:xfrm>
            <a:off x="0" y="0"/>
            <a:ext cx="4211640" cy="6858000"/>
          </a:xfrm>
          <a:prstGeom prst="rect">
            <a:avLst/>
          </a:prstGeom>
          <a:ln w="0">
            <a:noFill/>
          </a:ln>
        </p:spPr>
      </p:pic>
      <p:pic>
        <p:nvPicPr>
          <p:cNvPr id="417" name="Content Placeholder 7" descr="1_2-277x300.jpg"/>
          <p:cNvPicPr/>
          <p:nvPr/>
        </p:nvPicPr>
        <p:blipFill>
          <a:blip r:embed="rId3"/>
          <a:stretch/>
        </p:blipFill>
        <p:spPr>
          <a:xfrm>
            <a:off x="4211640" y="0"/>
            <a:ext cx="4932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Title 1" descr=""/>
          <p:cNvPicPr/>
          <p:nvPr/>
        </p:nvPicPr>
        <p:blipFill>
          <a:blip r:embed="rId1"/>
          <a:stretch/>
        </p:blipFill>
        <p:spPr>
          <a:xfrm>
            <a:off x="182520" y="4761000"/>
            <a:ext cx="8675640" cy="1689120"/>
          </a:xfrm>
          <a:prstGeom prst="rect">
            <a:avLst/>
          </a:prstGeom>
          <a:ln w="0">
            <a:noFill/>
          </a:ln>
        </p:spPr>
      </p:pic>
      <p:sp>
        <p:nvSpPr>
          <p:cNvPr id="419" name="PlaceHolder 1"/>
          <p:cNvSpPr>
            <a:spLocks noGrp="1"/>
          </p:cNvSpPr>
          <p:nvPr>
            <p:ph type="subTitle"/>
          </p:nvPr>
        </p:nvSpPr>
        <p:spPr>
          <a:xfrm>
            <a:off x="380520" y="3886200"/>
            <a:ext cx="8458200" cy="914400"/>
          </a:xfrm>
          <a:prstGeom prst="rect">
            <a:avLst/>
          </a:prstGeom>
          <a:noFill/>
          <a:ln w="0">
            <a:noFill/>
          </a:ln>
        </p:spPr>
        <p:txBody>
          <a:bodyPr anchor="b">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443329"/>
                </a:solidFill>
                <a:latin typeface="Franklin Gothic Book"/>
              </a:rPr>
              <a:t>Γεννήθηκε στην Θεσσαλονίκη το Μάιο του 1974.</a:t>
            </a:r>
            <a:endParaRPr b="0" lang="en-US" sz="1100" spc="-1" strike="noStrike">
              <a:solidFill>
                <a:srgbClr val="4e3b30"/>
              </a:solidFill>
              <a:latin typeface="Franklin Gothic Book"/>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443329"/>
                </a:solidFill>
                <a:latin typeface="Franklin Gothic Book"/>
              </a:rPr>
              <a:t>Η ζωή της είχε πάντα σχέση με τα βιβλία.</a:t>
            </a:r>
            <a:endParaRPr b="0" lang="en-US" sz="1100" spc="-1" strike="noStrike">
              <a:solidFill>
                <a:srgbClr val="4e3b30"/>
              </a:solidFill>
              <a:latin typeface="Franklin Gothic Book"/>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443329"/>
                </a:solidFill>
                <a:latin typeface="Franklin Gothic Book"/>
              </a:rPr>
              <a:t>Από μικρή διάβαζε πολλά βιβλία.</a:t>
            </a:r>
            <a:endParaRPr b="0" lang="en-US" sz="1100" spc="-1" strike="noStrike">
              <a:solidFill>
                <a:srgbClr val="4e3b30"/>
              </a:solidFill>
              <a:latin typeface="Franklin Gothic Book"/>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443329"/>
                </a:solidFill>
                <a:latin typeface="Franklin Gothic Book"/>
              </a:rPr>
              <a:t>Μεγαλώνοντας άρχισε να διαβάζει ακόμα περισσότερα.</a:t>
            </a:r>
            <a:endParaRPr b="0" lang="en-US" sz="1100" spc="-1" strike="noStrike">
              <a:solidFill>
                <a:srgbClr val="4e3b30"/>
              </a:solidFill>
              <a:latin typeface="Franklin Gothic Book"/>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443329"/>
                </a:solidFill>
                <a:latin typeface="Franklin Gothic Book"/>
              </a:rPr>
              <a:t>Όταν τελείωσε το σχολείο πέρασε στη Σχολή Βιβλιοθ</a:t>
            </a:r>
            <a:r>
              <a:rPr b="0" lang="el-GR" sz="1100" spc="-1" strike="noStrike">
                <a:solidFill>
                  <a:srgbClr val="443329"/>
                </a:solidFill>
                <a:latin typeface="Arial"/>
              </a:rPr>
              <a:t>η</a:t>
            </a:r>
            <a:r>
              <a:rPr b="0" lang="el-GR" sz="1100" spc="-1" strike="noStrike">
                <a:solidFill>
                  <a:srgbClr val="443329"/>
                </a:solidFill>
                <a:latin typeface="Franklin Gothic Book"/>
              </a:rPr>
              <a:t>κονομίας.Εδώ και 10 χρόνια δουλ</a:t>
            </a:r>
            <a:r>
              <a:rPr b="0" lang="el-GR" sz="1100" spc="-1" strike="noStrike">
                <a:solidFill>
                  <a:srgbClr val="443329"/>
                </a:solidFill>
                <a:latin typeface="Arial"/>
              </a:rPr>
              <a:t>εύει</a:t>
            </a:r>
            <a:r>
              <a:rPr b="0" lang="el-GR" sz="1100" spc="-1" strike="noStrike">
                <a:solidFill>
                  <a:srgbClr val="443329"/>
                </a:solidFill>
                <a:latin typeface="Franklin Gothic Book"/>
              </a:rPr>
              <a:t> σε μια βιβλιοθήκη.</a:t>
            </a:r>
            <a:endParaRPr b="0" lang="en-US" sz="11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8T14:20:37Z</dcterms:created>
  <dc:creator>user</dc:creator>
  <dc:description/>
  <dc:language>en-US</dc:language>
  <cp:lastModifiedBy>User</cp:lastModifiedBy>
  <dcterms:modified xsi:type="dcterms:W3CDTF">2013-02-06T17:50:58Z</dcterms:modified>
  <cp:revision>24</cp:revision>
  <dc:subject/>
  <dc:title>Το βιβλίο που δεν ήθελε να διαβαστεί</dc:title>
</cp:coreProperties>
</file>