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breeze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click.wav" ContentType="audio/x-wav"/>
  <Override PartName="/ppt/media/image9.jpeg" ContentType="image/jpeg"/>
  <Override PartName="/ppt/media/bomb.wav" ContentType="audio/x-wav"/>
  <Override PartName="/ppt/media/image12.jpeg" ContentType="image/jpeg"/>
  <Override PartName="/ppt/media/image23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E5A1-52E9-4000-9D43-10DD95CA532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A1DB-5C45-4E19-82ED-6EC752D46809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3B5E-1AC3-4EBF-A4B5-FAA349665D2F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BED-7797-49EF-9F2C-FBD307947900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765F-9E8C-414E-893E-49E26D55C5EA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ABD-B8CD-449A-B79F-37951B540BFA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D6A-40DD-4B7A-A946-5B618FF2C89F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A29-D318-4501-A25C-632BAA4D816B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3F37-50A5-4BD4-B15A-17B2D093DEE1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F1A-C2D5-4475-8225-C9FD30597167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1C1E-0387-49AF-9490-CBF8CFDAC6F9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C84B-D7BD-49E2-A6FA-E753C35FACC8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E0E4-4329-43C3-8024-6D30C38341AC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401D-8081-497B-BC70-9EE87A08AC8F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D797-5095-4319-93DB-154C9A37F5DB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1A5-9807-40EB-B2B6-2B711116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4FE-CE2E-4C90-873F-A77FBA4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E1D-49CD-46FD-8D81-B4E73CE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773-4BD1-43AD-8EE6-B6809145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09B-755A-49A5-A4F9-3C049E15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536F-A9EA-4599-8610-AF3A8BFF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50F-DC76-467A-A554-B5ACDE08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EF98-EB55-42F9-8D6C-030BF35C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AFE9-94BF-4CB8-9DF1-83111312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CF6-C705-46A2-923E-41C6B19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D524-6DD2-4EB9-8184-11C7C29E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B7E-D69C-4BB9-A983-79A24DF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07F-D964-4BE8-A538-B569F0D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A911-95D9-4591-8C83-CFC3BE2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DCB-0AE1-474A-A674-9839AD87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9791-06A0-4405-8569-97DA29BB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5A31-32C7-4C21-8EF4-F7F37095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4D62-BA49-4D6A-B8B9-F653E655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A0D8-96A1-4C42-8C84-B51D588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924E-614B-4E15-AEFE-E74EB89E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8048-1798-40B3-89A5-03A5510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C068-1B6F-4E66-ABFE-B587E326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2C7-92F7-40CF-8CBF-3D369ED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1CA2-F08E-4DE1-A1F4-296C7F5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5AC1-85D2-4DDB-A8D1-14DC92F7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EC94-515A-4EEE-99D9-FB570E5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94DC-F554-48ED-9097-AC93715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77EF-0983-4683-9EDD-7647B07C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EF5F-5BBD-41EC-A378-8C99AFE8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8A7C-0E08-4380-9E76-6E4DB29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4811-77B1-42B9-8F1B-E412D75E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928B-ABC5-4C4B-858C-F9BC7884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AF90-7422-424F-8436-AC70E06E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F3C-0077-4627-9A8E-7F9D70A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58C3-0106-44DB-8C61-500B280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B5B5-6115-49AB-9AA4-B0CD3D1D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9951-F2C9-4BBA-87F5-D5E7C861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3D04-B459-4C80-AD85-8FCE5E1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9DAE-81B3-4517-9AF6-F1CFA255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9E34-7FDE-43F1-AF49-46A7E96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680E-519F-474B-8A48-8237EB5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498F-754D-4D28-80E8-D5DB401F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ABD0-7E88-4637-ABA9-D7578E78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599B-6A7E-434E-AE22-55428B30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CA3-801B-4741-A610-B6294EF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7F738-143C-4BDC-A323-B5CEC56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133B-899B-4F7C-A313-A6B6BB1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CDF2-CF17-499E-B755-3D1BFB47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53629-A0C0-4F3F-87B7-58950B88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A9F5-9505-4544-A870-36E98D30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3135A-7999-4AAB-92EC-DACC56B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0C14-CC5E-4144-A391-C6894E9E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9D08-A5A1-4EA5-84FF-0FB58CD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42A63-A45F-41FE-B7AC-FB1E152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D095-779C-47C8-B01B-141BA8C4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BEC-690E-4B5B-B005-97C902A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7A08-434D-425E-AF91-8BBA84C8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BEE5-BF95-4F51-9C0E-31874BB0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A3626-F82C-4AD0-8B56-E7BF2AA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D46A7-BD50-4AA3-A4F9-4561150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1A30-6EC3-41EA-B797-55078CCF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2F6A-F897-4D35-B1C4-85D0E221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20C3-2536-4CEC-8AC3-7986A019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1A6E-B91C-4547-975D-5BCA472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A011-0E25-4AB0-A09D-387FF0F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9AC9-DCDF-4171-BAAE-FAFCC2E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5DF-B0E8-4253-9190-BC0B7CE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9E4A-C871-4F9C-8B82-92CDEA62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4131F-28F5-4550-80E3-4A7EC35A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B972-CD40-4A52-91AF-52AB4147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2602-405D-415D-8CC3-5618B7F0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BFA1-70CD-479A-BDF3-49CE026E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9F9FB-5522-47A0-AE69-A780C58D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4773-D69C-4A8F-9AA7-B64C8D4F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4689-B34B-4A78-AEAD-A99AB2BF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0A12-7175-48AD-9EF9-A94629E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19954-98DC-4896-889F-8716270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3E5-5CAE-4970-8C9F-304D7D72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7767-5A37-4918-853C-BE259C3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4098D-9CA1-4C23-BB42-8960DD0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3146-586E-4064-B47F-A5648906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17B4B-C4CF-4898-A204-F791C4E7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9C1A-5119-4091-88E0-4E6080F8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0D6-DE17-4483-8F9C-B52B32C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CC6A-3B51-4165-8A4D-90D04D9DCBDB}" type="slidenum">
              <a:rPr b="0" lang="el-G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- Ισοσκελές τρίγωνο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2BC-5A24-4FD7-94D9-99B41D7EF0D1}" type="slidenum">
              <a:rPr b="0" lang="el-GR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3981-3ED8-4D3C-81B2-1F73F1113C23}" type="slidenum">
              <a:rPr b="0" lang="el-G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- Ορθογώνιο τρίγωνο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- Ισοσκελές τρίγωνο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- Ευθεία γραμμή σύνδεσης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- Ευθεία γραμμή σύνδεσης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EDFD-0442-4F78-B209-767D06E5F270}" type="slidenum">
              <a:rPr b="0" lang="el-G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65D-3842-4D93-BD8E-6E20A60E6694}" type="slidenum">
              <a:rPr b="0" lang="el-G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684-1DD4-4737-89EF-C12B019ABB88}" type="slidenum">
              <a:rPr b="0" lang="el-GR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BCF7-180E-4F0B-B2A8-EBFB80499B5A}" type="slidenum">
              <a:rPr b="0" lang="el-GR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- Τίτλος" descr=""/>
          <p:cNvPicPr/>
          <p:nvPr/>
        </p:nvPicPr>
        <p:blipFill>
          <a:blip r:embed="rId1"/>
          <a:stretch/>
        </p:blipFill>
        <p:spPr>
          <a:xfrm>
            <a:off x="523800" y="652320"/>
            <a:ext cx="8491680" cy="1603440"/>
          </a:xfrm>
          <a:prstGeom prst="rect">
            <a:avLst/>
          </a:prstGeom>
          <a:ln w="0">
            <a:noFill/>
          </a:ln>
        </p:spPr>
      </p:pic>
      <p:pic>
        <p:nvPicPr>
          <p:cNvPr id="309" name="2 - Υπότιτλος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9008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- Τίτλος" descr=""/>
          <p:cNvPicPr/>
          <p:nvPr/>
        </p:nvPicPr>
        <p:blipFill>
          <a:blip r:embed="rId1"/>
          <a:stretch/>
        </p:blipFill>
        <p:spPr>
          <a:xfrm>
            <a:off x="444600" y="255600"/>
            <a:ext cx="8254800" cy="1420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Ο Πέτερ που είχε γνωρίσει πριν μετακομίσουν στην σοφίτα  και  ο Πέτερ που γνώρισε εκεί έγιναν ένα. Η Άννα πιστεύει ότι είναι ερωτευμένη! Έχει σταματήσει να νιώθει μοναξιά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C:\Users\USER\Desktop\ANNA FRANK\imagesUIY78Y.jpg"/>
          <p:cNvPicPr/>
          <p:nvPr/>
        </p:nvPicPr>
        <p:blipFill>
          <a:blip r:embed="rId2"/>
          <a:stretch/>
        </p:blipFill>
        <p:spPr>
          <a:xfrm>
            <a:off x="3071880" y="4357800"/>
            <a:ext cx="1990800" cy="229536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  <p:sndAc>
      <p:stSnd>
        <p:snd r:embed="rId3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- Τίτλος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69940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Μια ανακοίνωση ότι θα γίνει συλλογή επιστολών και απομνημονευμάτων έκανε την Άννα να σκεφτεί ότι ίσως κάποτε να δημοσιευόταν  κάποια από τα έργα της όπως το ημερολόγιο της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Θέλει να γίνει δημοσιογράφος , κάνει διαφορές έρευνες , της αρέσει η ιστορία , αντιπαθεί τα μαθηματικά! Θέλει να ζει μέσα από τα κείμενά της και μετά το θάνατό της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9000">
    <p:wipe dir="u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2 - Ορθογώνιο"/>
          <p:cNvSpPr/>
          <p:nvPr/>
        </p:nvSpPr>
        <p:spPr>
          <a:xfrm>
            <a:off x="428760" y="4287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entury Gothic"/>
              </a:rPr>
              <a:t>Διαρρήκτες είχαν μπει στο μαγαζί . Η αστυνομία έφτασε μέχρι την πόρτα ντουλάπα που ήταν η είσοδος για την σοφίτα. Όλοι έμειναν πολλές ώρες ακίνητοι καθώς φοβούνταν να μην τους ανακαλύψουν . Η Άννα αναρωτιέται γιατί να είναι στιγματισμένοι οι Εβραίο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5 - Ορθογώνιο"/>
          <p:cNvGrpSpPr/>
          <p:nvPr/>
        </p:nvGrpSpPr>
        <p:grpSpPr>
          <a:xfrm>
            <a:off x="463680" y="2206800"/>
            <a:ext cx="8577000" cy="718920"/>
            <a:chOff x="463680" y="2206800"/>
            <a:chExt cx="8577000" cy="718920"/>
          </a:xfrm>
        </p:grpSpPr>
        <p:pic>
          <p:nvPicPr>
            <p:cNvPr id="341" name="5 - Ορθογώνιο" descr=""/>
            <p:cNvPicPr/>
            <p:nvPr/>
          </p:nvPicPr>
          <p:blipFill>
            <a:blip r:embed="rId1"/>
            <a:stretch/>
          </p:blipFill>
          <p:spPr>
            <a:xfrm>
              <a:off x="463680" y="2206800"/>
              <a:ext cx="85770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71680" y="2357280"/>
              <a:ext cx="835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ΜΙΑ ΑΠΌ ΤΙΣ ΣΗΜΑΝΤΙΚΟΤΕΡΕΣ ΗΜΕΡΕΣ ΤΗΣ ΑΝΝΑΣ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7 - Ορθογώνιο"/>
          <p:cNvSpPr/>
          <p:nvPr/>
        </p:nvSpPr>
        <p:spPr>
          <a:xfrm>
            <a:off x="928800" y="292896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entury Gothic"/>
              </a:rPr>
              <a:t>Είναι η 16 Απριλίου όταν έλαβε το πρώτο της φιλί από τον Πέτερ. Όταν μιλάει γι αυτόν λέει πως είναι παιδί ακόμη και αναζητά την ηρεμία και την ευτυχία . Θεωρεί τον εαυτό της ανεξάρτητο σωματικά και πνευματικά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2" descr="C:\Users\USER\Desktop\ANNA FRANK\1rey12b.gif"/>
          <p:cNvPicPr/>
          <p:nvPr/>
        </p:nvPicPr>
        <p:blipFill>
          <a:blip r:embed="rId2"/>
          <a:stretch/>
        </p:blipFill>
        <p:spPr>
          <a:xfrm>
            <a:off x="5286240" y="4500720"/>
            <a:ext cx="3576600" cy="207144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u"/>
    <p:sndAc>
      <p:stSnd>
        <p:snd r:embed="rId3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- Τίτλος" descr=""/>
          <p:cNvPicPr/>
          <p:nvPr/>
        </p:nvPicPr>
        <p:blipFill>
          <a:blip r:embed="rId1"/>
          <a:stretch/>
        </p:blipFill>
        <p:spPr>
          <a:xfrm>
            <a:off x="433440" y="122400"/>
            <a:ext cx="8350200" cy="1566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Για τα 15 γενέθλια της  η Άννα έλαβε ως δώρο την πεντάτομη &lt;&lt; Ιστορία της τέχνης&gt;&gt;. Ο Πέτερ της προσέφερε ένα μπουκέτο παπαρούνες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Η Άννα τελικά νομίζει ότι ο Πέτερ δεν θα ήταν ο φίλος που θα μοιραζόταν τις  σκέψεις της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Έγινε απόπειρα δολοφονίας του Χίτλερ και μάλιστα από γερμανό στρατηγ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2" descr="C:\Users\USER\Desktop\ANNA FRANK\2359168887377710.jpg"/>
          <p:cNvPicPr/>
          <p:nvPr/>
        </p:nvPicPr>
        <p:blipFill>
          <a:blip r:embed="rId2"/>
          <a:stretch/>
        </p:blipFill>
        <p:spPr>
          <a:xfrm>
            <a:off x="3429000" y="4429080"/>
            <a:ext cx="1500120" cy="22147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l"/>
    <p:sndAc>
      <p:stSnd>
        <p:snd r:embed="rId3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- Τίτλος" descr=""/>
          <p:cNvPicPr/>
          <p:nvPr/>
        </p:nvPicPr>
        <p:blipFill>
          <a:blip r:embed="rId1"/>
          <a:stretch/>
        </p:blipFill>
        <p:spPr>
          <a:xfrm>
            <a:off x="444600" y="255600"/>
            <a:ext cx="8254800" cy="14209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Γράφηκε την Τρίτη 1 Αυγούστου 1944. Μιλάει για τον εαυτό της λέει ότι η μια Άννα είναι επιπόλαια και παίρνει την ζωή στα ελαφρά και η άλλη Άννα είναι σοβαρή και τρυφερή και είναι πάντοτε βαθυστόχαστη. </a:t>
            </a:r>
            <a:r>
              <a:rPr b="1" lang="el-GR" sz="3000" spc="-1" strike="noStrike" u="sng">
                <a:solidFill>
                  <a:srgbClr val="b45f07"/>
                </a:solidFill>
                <a:uFillTx/>
                <a:latin typeface="Century Gothic"/>
              </a:rPr>
              <a:t>ΕΊΝΑΙ Η ΤΕΛΕΥΤΑΙΑ ΦΟΡΑ ΠΟΥ ΑΠΕΥΘΥΝΕΤΑΙ ΣΤΗΝ ΚΙΤΤΥ ΛΕΓΟΝΤΑΣ ΤΗΣ &lt;&lt; ΔΙΚΗ ΣΟΥ ΑΝΝΑ&gt;&gt;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2" descr="C:\Users\USER\Desktop\ANNA FRANK\HYT.jpg"/>
          <p:cNvPicPr/>
          <p:nvPr/>
        </p:nvPicPr>
        <p:blipFill>
          <a:blip r:embed="rId2"/>
          <a:stretch/>
        </p:blipFill>
        <p:spPr>
          <a:xfrm>
            <a:off x="6072120" y="5214960"/>
            <a:ext cx="2857680" cy="164304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  <p:sndAc>
      <p:stSnd>
        <p:snd r:embed="rId3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ΑΝΝΑ ΦΡΑΝΚ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ΠΑΤΕΡΑ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ΜΗΤΕΡΑ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ΜΑΡΓΟ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ΟΙΚΟΓΕΝΕΙΑ ΒΑΝ ΝΤΑΑΝ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ΑΛΜΠΕΡΤ ΝΤΥΣΣΕ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Users\USER\Desktop\ANNA FRANK\XARAKTIRES.jpg"/>
          <p:cNvPicPr/>
          <p:nvPr/>
        </p:nvPicPr>
        <p:blipFill>
          <a:blip r:embed="rId2"/>
          <a:stretch/>
        </p:blipFill>
        <p:spPr>
          <a:xfrm>
            <a:off x="7000920" y="2214720"/>
            <a:ext cx="1523880" cy="24858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85480" y="1856880"/>
            <a:ext cx="450036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Η Άννα Φρανκ έλαβε ως δώρο για τα 13 γενέθλια της ένα ημερολόγιο το οποίο θα γινόταν η έμπιστη φίλη που δεν είχε π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</a:t>
            </a: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τέ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 η Κίττυ. Έτσι άρχισε να της παρουσιάζει την ζωή της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Είναι μια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βραία που έχει μεταναστεύσει με τους γονείς της στην Ολλανδία .  Τα γεγονότα που μας περιγράφει δείχνουν να έχει μια κανονική ζωή . Μαζί με την αδελφή της είναι μαθήτριες γυμνασίο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7000">
    <p:wipe dir="r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Ένα περιστατικό σχετικά με την τιμωρία της από έναν καθηγητή λόγω της φλυαρίας της μας δείχνει την έξυπνη τακτική της ώστε να αποφεύγει μελλοντικές τιμωρίες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entury Gothic"/>
              </a:rPr>
              <a:t>Μας περιγράφει ακόμη τη ενδιαφέρουσα φιλιά της με τον 16χρονο Χάρρυ.  Στο τέλος της σχολικής χρονιάς πήρε καλούς αλλά όχι άριστους βαθμούς όπως η αδελφή της 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6000">
    <p:wipe dir="r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99489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Μια πρόσκληση των Ες-Ες  τους ανάγκασε να μεταφερθούν σε κρυψώνα  που βρισκόταν στο κτήριο που εργαζόταν ο πατέρας της. Έτσι μαζί με την οικογένεια Βαν Ντάαν  θα περνούσαν την ζωή τους σε μια σοφίτα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2" descr="C:\Users\USER\Desktop\ANNA FRANK\the-anne-frank-house.jpg"/>
          <p:cNvPicPr/>
          <p:nvPr/>
        </p:nvPicPr>
        <p:blipFill>
          <a:blip r:embed="rId2"/>
          <a:stretch/>
        </p:blipFill>
        <p:spPr>
          <a:xfrm>
            <a:off x="5643720" y="4857840"/>
            <a:ext cx="3028680" cy="2000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USER\Desktop\ANNA FRANK\anne-frank-bedroom.jpg"/>
          <p:cNvPicPr/>
          <p:nvPr/>
        </p:nvPicPr>
        <p:blipFill>
          <a:blip r:embed="rId3"/>
          <a:stretch/>
        </p:blipFill>
        <p:spPr>
          <a:xfrm>
            <a:off x="714240" y="4857840"/>
            <a:ext cx="4267440" cy="178596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u"/>
    <p:sndAc>
      <p:stSnd>
        <p:snd r:embed="rId4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- Τίτλος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502840" cy="15177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Η υποψία μήπως τους αντιληφθεί κανείς τους γέμιζε φόβο παρόλο που είχαν φροντίσει  να χαθούν τα ίχνη τους . Η κ.Βαν Ντάαν δεν είχε καλές σχέσης με την μητέρα της. Και η Άννα δεν τα πήγαινε καλά με την μητέρα της, όμως είχε ιδιαίτερη αδυναμία στον πατερά της. Ακόμη ζήλευε την αδελφή της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7000">
    <p:wipe dir="u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Ένας νέος συγκάτοικος , ο Άλπερτ Ντύσσελ θα μοιράζεται το δωμάτιο με την Άννα . Η κατάσταση που επικρατεί στην Ολλανδία είναι η ίδια δηλ. φόβος, πανικός και συνεχείς βομβαρδισμοί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2" descr="C:\Users\USER\Desktop\ANNA FRANK\Anne%20Frank's%20room.jpg"/>
          <p:cNvPicPr/>
          <p:nvPr/>
        </p:nvPicPr>
        <p:blipFill>
          <a:blip r:embed="rId2"/>
          <a:stretch/>
        </p:blipFill>
        <p:spPr>
          <a:xfrm>
            <a:off x="785880" y="4500720"/>
            <a:ext cx="3809880" cy="2095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Users\USER\Desktop\ANNA FRANK\images.jpg"/>
          <p:cNvPicPr/>
          <p:nvPr/>
        </p:nvPicPr>
        <p:blipFill>
          <a:blip r:embed="rId3"/>
          <a:stretch/>
        </p:blipFill>
        <p:spPr>
          <a:xfrm>
            <a:off x="6858000" y="4357800"/>
            <a:ext cx="2057400" cy="22287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u"/>
    <p:sndAc>
      <p:stSnd>
        <p:snd r:embed="rId4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1 - Τίτλος" descr=""/>
          <p:cNvPicPr/>
          <p:nvPr/>
        </p:nvPicPr>
        <p:blipFill>
          <a:blip r:embed="rId1"/>
          <a:stretch/>
        </p:blipFill>
        <p:spPr>
          <a:xfrm>
            <a:off x="324000" y="23760"/>
            <a:ext cx="8727840" cy="1774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Τον Ιούνιο του 1943 η Άννα  γιορτάζει τα γενέθλια της. Το καλύτερο δώρο που έλαβε ήταν ένα ποίημα που της έγραψε ο πατέρας της. Κάποιες κλοπές που έγιναν στο μαγαζί δημιουργούν ένταση. Ακόμη οι κάτοικοι της σοφίτας σκέφτονται το πρώτο πράγμα που θα κάνουν όταν βγουν παρά την άσχημη κατάσταση που επικρατεί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6000">
    <p:wipe dir="l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- Τίτλος" descr=""/>
          <p:cNvPicPr/>
          <p:nvPr/>
        </p:nvPicPr>
        <p:blipFill>
          <a:blip r:embed="rId1"/>
          <a:stretch/>
        </p:blipFill>
        <p:spPr>
          <a:xfrm>
            <a:off x="433440" y="244440"/>
            <a:ext cx="8277120" cy="1444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Century Gothic"/>
              </a:rPr>
              <a:t>Αρχικά η Άννα  δεν συμπαθούσε τον γιο των Βαν Ντάαν , τον Πέτερ . Σιγά  σιγά άρχισε να εκτιμά τις απόψεις του , να προσπαθεί να τον ενθαρρύνει , ενθουσιασμένη  καθώς είχε βρει κάποιον για να μιλάει. Ο Πέτερ αποτελεί επίκεντρο της και αντικείμενο της φιλίας της 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5000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1:12:48Z</dcterms:created>
  <dc:creator>USER</dc:creator>
  <dc:description/>
  <dc:language>en-US</dc:language>
  <cp:lastModifiedBy>User</cp:lastModifiedBy>
  <dcterms:modified xsi:type="dcterms:W3CDTF">2012-12-07T13:02:09Z</dcterms:modified>
  <cp:revision>41</cp:revision>
  <dc:subject/>
  <dc:title>ΤΟ ΗΜΕΡΟΛΟΓΙΟ ΤΗΣ ΑΝΝΑΣ ΦΡΑΝΚ.</dc:title>
</cp:coreProperties>
</file>