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39D-BFF4-4479-A874-8A0D025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EC6-7420-4978-92DF-45BDDCE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434-23F9-471D-B2C7-953A26FF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032-C0BF-4F4F-A864-F0054E0A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033-7384-40DE-BEE2-BAC4BE2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A02-B81C-4684-9C63-534FDEB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DB7-FFB0-48D5-8365-5870739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50C-C094-4F40-9DF1-DDE5513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F68-781E-4043-A308-7C70034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9F-017C-4C1E-91EA-0774D34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E99-90E3-4081-A686-858A7AC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A09-F96A-4293-BED5-96A1B66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343-61EF-4F1C-8ABB-2237FDA209C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333399"/>
                </a:solidFill>
                <a:latin typeface="Lucida Handwriting"/>
              </a:rPr>
              <a:t>Ο Γλάρος Ιωανάθαν Λιβινγκστο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5280" y="4598640"/>
            <a:ext cx="604836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Την εργασία επιμελήθηκε η μαθήτρια της Β’ τάξης Μαργαρίτα Καπίρ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614760" y="2838600"/>
            <a:ext cx="19144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User\Desktop\DSC02946.JPG"/>
          <p:cNvPicPr/>
          <p:nvPr/>
        </p:nvPicPr>
        <p:blipFill>
          <a:blip r:embed="rId1"/>
          <a:stretch/>
        </p:blipFill>
        <p:spPr>
          <a:xfrm rot="5240400">
            <a:off x="1738440" y="389520"/>
            <a:ext cx="636768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 u="sng">
                <a:solidFill>
                  <a:srgbClr val="333399"/>
                </a:solidFill>
                <a:uFillTx/>
                <a:latin typeface="Arial"/>
              </a:rPr>
              <a:t>Οι ήρωες του βιβλί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Ο γλάρος Ιωανάθαν Λιβινγκστ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Οι γονείς του Ιωανάθα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Ο γέροντας του παραδείσ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Ο Σάνιβα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Ο γλάρος Φλέτσερ Λίν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ο γλαρος"/>
          <p:cNvPicPr/>
          <p:nvPr/>
        </p:nvPicPr>
        <p:blipFill>
          <a:blip r:embed="rId1"/>
          <a:stretch/>
        </p:blipFill>
        <p:spPr>
          <a:xfrm>
            <a:off x="5796000" y="4809960"/>
            <a:ext cx="3348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Λίγα λόγια για τους ήρωες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 Ιωανάθαν ήταν ένας γλάρος γεμάτος αισιοδοξία για την ζωή και για το σμήνος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ι γονείς του Ιωανάθαν τον αγαπούσαν πολύ και ήθελαν το καλύτερο γι’ αυτό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 γέροντας ήταν σοφότερος του νέου σμήνους όπου άνηκε ο Ιωανάθα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 Σάνιβαλ ήταν ο δάσκαλος του Ιωανάθα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 Φλέτσερ ήταν ο πρώτος μαθητής του Ιωανάθα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el-GR" sz="4400" spc="-1" strike="noStrike" baseline="30000">
                <a:solidFill>
                  <a:srgbClr val="333399"/>
                </a:solidFill>
                <a:latin typeface="Arial"/>
              </a:rPr>
              <a:t>η</a:t>
            </a: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 εποχή: Η ατίμωση του Ιωανάθαν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95640" y="4436640"/>
            <a:ext cx="669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Ο γλάρος </a:t>
            </a:r>
            <a:r>
              <a:rPr b="0" i="1" lang="el-GR" sz="2800" spc="-1" strike="noStrike">
                <a:solidFill>
                  <a:srgbClr val="333399"/>
                </a:solidFill>
                <a:latin typeface="Arial"/>
              </a:rPr>
              <a:t>Ιωανάθαν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προσπαθούσε να μάθει να πετάει αυτός αλλά και το σμήνος του. Δεν το έβαζε κάτω και ήθελε να διδάξει σε όλο το σμήνος το ρόλο της ζωή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untitled11"/>
          <p:cNvPicPr/>
          <p:nvPr/>
        </p:nvPicPr>
        <p:blipFill>
          <a:blip r:embed="rId1"/>
          <a:stretch/>
        </p:blipFill>
        <p:spPr>
          <a:xfrm>
            <a:off x="6300720" y="2205000"/>
            <a:ext cx="28432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4400" spc="-1" strike="noStrike" baseline="30000">
                <a:solidFill>
                  <a:srgbClr val="333399"/>
                </a:solidFill>
                <a:latin typeface="Arial"/>
              </a:rPr>
              <a:t>η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 εποχή: Ο νέος κόσμος του </a:t>
            </a: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Ιωανάθαν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Μετά την ατίμωση του </a:t>
            </a:r>
            <a:r>
              <a:rPr b="0" i="1" lang="el-GR" sz="2800" spc="-1" strike="noStrike">
                <a:solidFill>
                  <a:srgbClr val="333399"/>
                </a:solidFill>
                <a:latin typeface="Arial"/>
              </a:rPr>
              <a:t>Ιωανάθαν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 από το σμήνος βρέθηκε αντιμέτωπος μ’ ένα νέο κόσμο που τον ονόμαζε παράδεισ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el-GR" sz="4400" spc="-1" strike="noStrike" baseline="30000">
                <a:solidFill>
                  <a:srgbClr val="333399"/>
                </a:solidFill>
                <a:latin typeface="Arial"/>
              </a:rPr>
              <a:t>η</a:t>
            </a:r>
            <a:r>
              <a:rPr b="1" i="1" lang="el-GR" sz="4400" spc="-1" strike="noStrike">
                <a:solidFill>
                  <a:srgbClr val="333399"/>
                </a:solidFill>
                <a:latin typeface="Arial"/>
              </a:rPr>
              <a:t> εποχή: Η επιστροφή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19280" y="4724280"/>
            <a:ext cx="7524720" cy="16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Μετά τον θάνατο του γέροντα ο </a:t>
            </a:r>
            <a:r>
              <a:rPr b="1" i="1" lang="el-GR" sz="2800" spc="-1" strike="noStrike">
                <a:solidFill>
                  <a:srgbClr val="333399"/>
                </a:solidFill>
                <a:latin typeface="Arial"/>
              </a:rPr>
              <a:t>Ιωανάθαν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αποφασίζει να γυρίσει στο σμήνος και παρά την εξόρυξή του εκείνος ήθελε να πραγματοποιήσει το όνειρο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sCAO2NL8D"/>
          <p:cNvPicPr/>
          <p:nvPr/>
        </p:nvPicPr>
        <p:blipFill>
          <a:blip r:embed="rId1"/>
          <a:stretch/>
        </p:blipFill>
        <p:spPr>
          <a:xfrm>
            <a:off x="5904000" y="2349360"/>
            <a:ext cx="32400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ολάζ εμπνευσμένο από το βιβλί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User\Desktop\DSC0294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ολάζ εμπνευσμένο από το βιβλί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DSC0294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ολάζ εμπνευσμένο από το βιβλί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User\Desktop\DSC0294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7:31:29Z</dcterms:created>
  <dc:creator>PC2</dc:creator>
  <dc:description/>
  <dc:language>en-US</dc:language>
  <cp:lastModifiedBy>User</cp:lastModifiedBy>
  <dcterms:modified xsi:type="dcterms:W3CDTF">2012-12-07T12:51:24Z</dcterms:modified>
  <cp:revision>3</cp:revision>
  <dc:subject/>
  <dc:title>Ο Γλάρος Ιωανάθαν Λιβινγκστον</dc:title>
</cp:coreProperties>
</file>