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56A-119A-45B6-A4EF-C12963EF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01B-2CB2-41F6-B3B7-8B6AE82A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A4E-CFB2-4382-AF0D-6B5DFC89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352-6D56-4289-9D0E-FD6275D1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AA5-404A-407D-A82C-DA629611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A57-B674-4EB1-8909-FB83AE17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F38-83CF-4362-BB3F-75AD64AE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658-2BDB-4F52-AD4A-486DA756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28E-C32F-4EB5-99BC-AF46B6CC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B54-1E0B-4D38-9ADB-4DC6E74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C7D-EC54-4D43-9B8C-369FCE68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9ED-2AB6-4F61-BE75-3C0B5C0A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C805-80CC-45A0-94D5-2D30A5648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3cnAp0JBIg" TargetMode="External"/><Relationship Id="rId2" Type="http://schemas.openxmlformats.org/officeDocument/2006/relationships/hyperlink" Target="http://www.youtube.com/watch?v=qNou0xg3_cY&amp;feature=related" TargetMode="External"/><Relationship Id="rId3" Type="http://schemas.openxmlformats.org/officeDocument/2006/relationships/hyperlink" Target="http://www.youtube.com/watch?v=qNou0xg3_cY&amp;feature=related" TargetMode="External"/><Relationship Id="rId4" Type="http://schemas.openxmlformats.org/officeDocument/2006/relationships/hyperlink" Target="http://www.youtube.com/watch?v=7Sieju0KI90" TargetMode="External"/><Relationship Id="rId5" Type="http://schemas.openxmlformats.org/officeDocument/2006/relationships/hyperlink" Target="http://www.youtube.com/watch?v=4IYDb6K5UF8" TargetMode="External"/><Relationship Id="rId6" Type="http://schemas.openxmlformats.org/officeDocument/2006/relationships/hyperlink" Target="http://www.youtube.com/watch?v=eQ3RfKPPO2o" TargetMode="External"/><Relationship Id="rId7" Type="http://schemas.openxmlformats.org/officeDocument/2006/relationships/hyperlink" Target="http://www.youtube.com/watch?v=T9lehHxv-C8" TargetMode="External"/><Relationship Id="rId8" Type="http://schemas.openxmlformats.org/officeDocument/2006/relationships/hyperlink" Target="http://www.youtube.com/watch?v=1VVOH7Ep_8w" TargetMode="External"/><Relationship Id="rId9" Type="http://schemas.openxmlformats.org/officeDocument/2006/relationships/hyperlink" Target="http://www.youtube.com/watch?v=1yVkBGZh2Wc&amp;feature=plcp" TargetMode="External"/><Relationship Id="rId10" Type="http://schemas.openxmlformats.org/officeDocument/2006/relationships/hyperlink" Target="http://www.youtube.com/watch?v=eQ3RfKPPO2o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946;&#953;&#957;&#964;&#949;&#959;%201%20(&#954;&#949;&#954;&#955;&#953;&#956;&#949;&#957;&#959;).wm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946;&#953;&#957;&#964;&#949;&#959;%202%20(&#956;&#949;&#964;&#945;&#946;&#953;&#946;&#945;&#963;&#951;%20&#959;&#961;&#956;&#951;&#962;).wm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946;&#953;&#957;&#964;&#949;&#959;%203%20(&#945;&#957;&#959;&#956;&#959;&#953;&#949;&#962;%20&#956;&#945;&#950;&#949;&#962;).wm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946;&#953;&#957;&#964;&#949;&#959;%204%20%20(&#954;&#961;&#953;&#945;&#961;&#953;&#945;).wmv" TargetMode="External"/><Relationship Id="rId2" Type="http://schemas.openxmlformats.org/officeDocument/2006/relationships/hyperlink" Target="file:///&#946;&#953;&#957;&#964;&#949;&#959;%205%20(&#945;&#957;&#964;&#943;&#952;&#949;&#964;&#949;&#962;%20&#959;&#961;&#956;&#949;&#962;%20&#963;&#964;&#959;%20&#948;&#953;&#945;&#963;&#964;&#951;&#956;&#945;).wm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959;&#961;&#956;&#951;%20&#948;&#949;&#953;&#947;&#956;&#945;&#964;&#953;&#954;&#951;/&#946;&#953;&#957;&#964;&#949;&#959;%207%20(&#949;&#960;&#953;&#948;&#949;&#953;&#958;&#951;%20&#945;&#948;&#959;).wm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9647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ΔΕΙΓΜΑΤΙΚΗ ΔΙΔΑΣΚΑΛΙΑ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,       </a:t>
            </a: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 στις 28-11-2012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στο ΓΕΛ Σύρο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του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 Ζορμπά Αλέξη-Αθανάσιου, Φυσικού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σε τμήμα μαθητών Β΄ Λυκείου, στη Φυσική Γενικής Παιδεί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Η Διδασκαλία αποτελεί μέρος του κεφαλαίου της  Μηχανικής Β΄ Λυκείου:  ΟΡΜΗ, ΑΡΧΗ ΔΙΑΤΗΡΗΣΗΣ ΟΡΜΗΣ και ΚΡΟΥ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mic Sans MS"/>
              </a:rPr>
              <a:t>Εκπαιδευτικοί στόχοι της Διδασκαλία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Επιδιώκεται  οι μαθητές και οι μαθήτριες να αναπτύξουν τις παρακάτω γνώσεις, δεξιότητες και στάσει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mic Sans MS"/>
              </a:rPr>
              <a:t>Α. Γνώ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-Να οικοδομήσουν την έννοια της ορμής με αφετηρία φαινόμενα της καθημερινότητα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Ο μαθητής να αντιληφθεί τους παράγοντες που επηρεάζουν την ορμή και να παράξει μόνος το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μαθηματικό τύπο της ορμή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-Να συσχετίσουν και να βρουν τα κοινά σημεία σε φαινομενικά διαφορετικά φαινόμεν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-Να εντοπίσουν τις προϋποθέσεις που πρέπει να ισχύουν, για να ισχύει το συγκεκριμέν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φαινόμενο (π.χ. πότε ισχύει η ΑΔΟ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- Να προβλέψει την εξέλιξη κάποιων φαινομέν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mic Sans MS"/>
              </a:rPr>
              <a:t>Β. Ικανότητε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-Να χρησιμοποιούν βίντεο και προσομοιώσεις ως εργαλείο μάθησης καθώς και ν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επισκέπτονται και  ιστοσελίδες επιστημονικού ενδιαφέροντος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-Να διαβάζουν και να ακολουθούν οδηγίες του φύλλου εργασί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-Να συνεργάζονται και να επικοινωνού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α μπορεί να κατασκευάσει απλές εφαρμογές με χρήση των παραπάνω εννοιώ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266040"/>
            <a:ext cx="88567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Περίπτωση 1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Στη λεγόμεν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ΕΛΑΣΤΙΚΗ ΚΡΟΥΣ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που είναι ένα «εξιδανικευμένο φαινόμενο»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θεωρούμε ότ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η κινητική ενέργεια του συστήματος διατηρείτα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Μπορούμε να θεωρήσουμε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προσεγγιστικ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τις κρούσεις μεταξύ ατσάλινων σφαιρών, ως ελαστικέ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Με τη βοήθεια του παρακάτω βίντεο 8, απαντήστ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Η αρχική ταχύτητα  1 κινούμενης μπάλας από δεξιά είναι ……………….με τη τελική ταχύτητα …….. κινούμενης μπάλας προς τα αριστερά.( Η αρχική μπάλα……….…………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Η αρχική ταχύτητα ….. κινούμενων μπαλών από δεξιά είναι ……………….με τη τελική ταχύτητα …….. κινούμενων μπαλών προς τα αριστερά. (οι αρχικές μπάλες ……..……….…………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22560"/>
            <a:ext cx="8640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Στο βίντεο 9 στο διάστημα, παρατηρήστε τι συμβαίνει με τις ταχύτητες που έχουν τα μπαλάκια του τένις, πριν την σύγκρουση τους και μετά την σύγκρουση του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515920"/>
            <a:ext cx="8569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ηλαδή γενικότερα όταν συγκρούονται (ελαστικά) δύο σώματα ΙΣΩΝ ΜΑΖΩΝ …………………………………………………………. ταχύτητες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2736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ίπτωση 2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νας δυνατός άνθρωπος κρατά το ποιο δυνατό όπλο του κόσμου. Πυροβολεί και και η σφαίρα εκτοξεύεται. Η συνέχεια στο βίντεο 10….. Να συμπληρώσετε τα παρακάτ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πριν το πυροβολισμ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συνολική ορμή του συστήματος (Άνθρωπος- όπλο- σφαίρα) είναι: ……………….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Μετά τον πυροβολισμ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σφαίρα εκτοξεύεται προς τα δεξιά με ορμή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άνθρωπος-μαζί με το όπλο κινούνται προς …………..με ορμή μέτρου 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συνολική ορμή του συστήματος (Άνθρωπος-όπλο-σφαίρα)  είναι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64464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φαρμογή των παραπάνω έχουμε στη πυροδότηση ενός πυραύλου  εκτός  βαρυτικού πεδίου. Ρόλο σφαίρας παίζουν τα εξερχόμενα ……………………. από το πύραυλο που κινούνται με μεγάλη ταχύτητ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13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Να ερμηνεύσετε το πείραμα- βίντεο 11 με το σπίρτο -πύραυλ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72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Ερωτήσεις για εφαρμογή των παραπάνω εννοιώ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ίτε το βίντεο 12, αντιγράψτε τα δεδομένα από το βίντεο και ΠΡΟΒΛΕΨΤ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Σχόλιο: όταν προκύπτει ένωση των συγκρουόμενων σωμάτων λέμε ότι έχουμε μι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ΛΑΣΤΙΚΗ ΚΡΟΥΣΗ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ιά η ορμή του κινούμενου τρένου πριν την σύγκρουση;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ιά η ορμή του αυτοκινήτου πριν την σύγκρουση;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ιά η ορμή του συστήματος αυτοκινήτου-τρένου πριν την σύγκρουση;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ιά η ορμή του συστήματος αυτοκινήτου-τρένου μετά την σύγκρουση;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ιά η ταχύτητα του συστήματος αυτοκινήτου-τρένου μετά την σύγκρουση;………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32839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Να εξηγήσετε τι θα συμβεί σε ένα αστροναύτη εάν βρεθεί κατά λάθος εκτός διαστημοπλοίου . Με ποιο τρόπο θα μπορούσε να βρεθεί ξανά στο διαστημόπλοι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938760"/>
            <a:ext cx="835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χετικά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h3cnAp0JBI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  (2.59-3.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qNou0xg3_cY&amp;feature=relate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0.12-1.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qNou0xg3_cY&amp;feature=relate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1.01-1.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outube.com/watch?v=7Sieju0KI9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youtube.com/watch?v=4IYDb6K5UF8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eQ3RfKPPO2o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1.31-1.42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T9lehHxv-C8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1VVOH7Ep_8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youtube.com/watch?v=1yVkBGZh2Wc&amp;feature=pl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youtube.com/watch?v=eQ3RfKPPO2o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3.26-4.3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476280"/>
            <a:ext cx="816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κπαιδευτικό υλικό που χρησιμοποιήθηκ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Διδακτικές προσεγγίσεις του Ανδρέα Ιωάννου Κασσέ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ng,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ανεπιστημιακή Φυσικ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χολικό βιβλίο Γ Λυκείου Φυσική Κατεύθυν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αθώς και τα προγράμματ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tube Downloa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video Conver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dows Movie mak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d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κ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41760"/>
            <a:ext cx="8702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Γ. Στά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Να ακούν και να σέβονται τη γνώμη των άλλ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Να ελέγχουν την ορθότητα των σκέψεών τους και να επανατοποθετούνται πάνω στα νέα δεδομέν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Να αναγνωρίζουν το σημαντικό ρόλο που έχει η διατήρηση της Ορμής στην καθημερινότητ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Εκπαιδευτικές τεχνικές που θα χρησιμοποιηθού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8360" y="1916280"/>
          <a:ext cx="8351280" cy="3051000"/>
        </p:xfrm>
        <a:graphic>
          <a:graphicData uri="http://schemas.openxmlformats.org/drawingml/2006/table">
            <a:tbl>
              <a:tblPr/>
              <a:tblGrid>
                <a:gridCol w="3310920"/>
                <a:gridCol w="1152360"/>
                <a:gridCol w="3888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Θέματ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Διάρκεια σε λεπτ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Εκπαιδευτικές τεχνικέ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Εισαγωγ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ύνδεση με προηγούμενη  διδακτική ώρα -Παρουσίαση του θέματος-Αναφορά των στόχω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Εισήγηση, επαναληπτικές ερωτήσεις σε μαθητέ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Δραστηριότητες: σύμφωνα με το φύλλο εργασί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Εργασία με μαθητές  με χρήση βίντεο  και συζήτηση στην τάξη – Συμπλήρωση φύλλου εργασίας -  Ανακαλυπτική μάθησ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Ανακεφαλαίωση - Επίλογος: σύνδεση με το επόμενο θέμ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Εισήγηση, επαναληπτικές ερωτήσεις σε μαθητέ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-189000" y="5133240"/>
            <a:ext cx="880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Εκπαιδευτικά μέσα που θα χρησιμοποιηθού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Βίντεο από το διαδίκτυο και  φύλλα εργασίας μαθητών/τριών, βιντεοπροβολέας, πίνακα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51640"/>
            <a:ext cx="8713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ΦΑΙΝΟΜΕΝ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μπιλιάρδο. Η μια μπίλια προσκρούει στην άλλ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ην Εθνική οδό. Το Ι.Χ.  φρενάρει απότομα και το φορτηγό που ερχόταν από πίσω πέφτει με φόρα πάνω τ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ακρωτήριο Κανάβεραλ. Καθώς εκτοξεύεται προς τα πάνω το διαστημικό σκάφος τα αέρια της καύσης εξέρχονται προς τα κάτω με τρομακτική ταχύτητ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αεροβόλο. Όταν πυροβολήσουμε χωρίς να το έχουμε στηρίξει καλά, το όπλο κλωτσάει προς τα πίσ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σα στη θάλασσα, ορισμένα οστρακοφόρα για να μετακινηθούν εκτοξεύουν μία ουσία, οπότε εκείνα κινούνται προς την αντίθετη κατεύθυνσ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λα τα παραπάνω φαινόμενα έχουν κάτι το κοιν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την ΕΡΜΗΝΕΙΑ τους , αλλά και την ΠΡΟΒΛΕΨΗ της εξέλιξης του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ησιμοποιούμε την έννοια της ΟΡΜΗΣ ενώ σε πολλές περιπτώσεις χρησιμοποιούμε το σπουδαίο νόμο της ΔΙΑΤΗΡΗΣΗΣ ΤΗΣ ΟΡΜΗ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Τι είναι όμως η ορμή; Με τι έχει σχέσ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89000"/>
            <a:ext cx="885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ράψε συνοπτικά στις παρακάτω κενές γραμμές πότε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νομίζεις εσύ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ως έχει ένα σώμα πολύ ορμ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η συνέχεια παρακολουθείστε το σύντομο </a:t>
            </a:r>
            <a:r>
              <a:rPr b="0" lang="el-G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βίντεο 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που κατηφορίζουν 2 σφαιρίδια και χτυπούν εμπόδι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ιο προκαλεί μεγαλύτερη ζημιά; 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;…………………………………………………………………………………………………………………………………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ορμή πιστεύετε πως είναι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ονόμετρ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ιανυσματικό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έγεθος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Κυκλώστ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ς σκεφτούμε τώρα το παράδειγμα ενός καλού πυγμάχου, που η γροθιά του κινείται με μεγάλη ορμή. Είναι σίγουρη η επιτυχία του; Από τι εξαρτάτα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μπέρασμα : Η ορμή είναι μέγεθος  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15920"/>
            <a:ext cx="8785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ελικό συμπέρασμα: Για να υπολογίσουμε αριθμητικά την ορμή ενός αντικειμέν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συμβολίζεται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, σημασία έχου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)  ……………………………. του   και  β) ………………………… το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σο η ……………………  αυξάνεται τόσο ……………………….. και η ορμή του κα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σο η ………………………  αυξάνεται τόσο …………………….. και η ορμή του, άρα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…………………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ύπο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ια άλλη σημαντική παρατήρηση είναι ότι η ορμή ενός σώματος είναι κάτι που μπορεί να ΜΕΤΑΒΙΒΑΖΕΤΑΙ από ένα σώμα σε ένα άλλ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παρακάτω </a:t>
            </a:r>
            <a:r>
              <a:rPr b="0" lang="el-G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βίντεο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ατηρούμε την ορμή που έχει αρχικά ένα σώμα να μεταβιβάζεται ΠΛΗΡΩΣ ή ΜΕΡΙΚΩΣ  στο/στα υπόλοιπα σώματ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 καταγράψετε τις παρατηρήσεις σ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δειγμ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ιλιάρδου: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δειγμα με μικρά σφαιρίδια: …………………………………………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525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Ομοιότητες και διαφορές μεταξύ ταχύτητας και ορμή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Ομοιότητε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η ταχύτητα ΚΑΙ  η ορμή είναι μεγέθη:…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η ταχύτητα ΚΑΙ  η ορμή είναι μεγέθη που έχουν σχέση με τη ……………………. ενός σώματο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Διαφορέ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ίτε το </a:t>
            </a:r>
            <a:r>
              <a:rPr b="0" lang="el-G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βίντεο 3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ύγκρουσης δύο ανόμοιων μαζώ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μπληρώστ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) Στη ορμή  ρόλο παίζει και η ……………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ην αυλή ενός κάστρου, το βράδυ, δύο προβολείς σαρώνουν το προαύλιο. Κάποια στιγμή οι φωτεινοί κύκλοι στο πάτωμα «συγκρούονται», αλλάζουν οι ταχύτητες κίνησης τους;……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) Άρα, η ορμή μπορεί να …………………………… από ένα  σώμα σε ένα άλλο, 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χύτητ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μως ………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33552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Η ορμή ενός συστήματος σωμάτων πως ορίζετα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ορμή ενός συστήματος από 2 ή περισσότερα σώματα ορίζεται το: «άθροισμα των ορμών του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ύμφωνα με τον παραπάνω ορισμό, η  ΟΡΜΗ του ΣΥΣΤΗΜΑΤΟΣ δύο σωμάτων, είναι δυνατόν να είναι μηδέν, παρότι και τα δύο σώματα  κινούνται!!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είτε το παρακάτω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βίντεο 4(κριάρια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και εξηγήστε πώς μπορεί να συμβαίνει αυτ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Ας δούμε επίσης και το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βίντεο 5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στο διαστημικό σταθμό. Οι δύο μπάλες μαζί (ως σύστημα) σχεδόν δεν κινούνται μετά τη σύγκρουση τους . Τι συμπεραίνετε για τις ορμές που είχαν η κάθε μι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χόλιο για τη μη πλήρη ακινησία;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4108320" y="2828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116000" y="2349360"/>
                <a:ext cx="66675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συστημ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αρχ</m:t>
                        </m:r>
                        <m:r>
                          <m:t xml:space="preserve">ή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συστημ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τέ</m:t>
                        </m:r>
                        <m:r>
                          <m:rPr>
                            <m:lit/>
                            <m:nor/>
                          </m:rPr>
                          <m:t xml:space="preserve">λος</m:t>
                        </m:r>
                      </m:sub>
                    </m:sSub>
                    <m:r>
                      <m:t xml:space="preserve">⇔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16000" y="3500280"/>
                <a:ext cx="2664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16000" y="2880"/>
            <a:ext cx="89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Εξηγήστε με τη βοήθεια του παρακάτω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βίντεο 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γιατί η μεσαία μπάλα δεν κινείται. Θεωρήστε ως σύστημα σωμάτων και τις 5 μπάλες μαζί. Επίσης είναι προφανές ότι το κέντρο μάζας ΚΑΙ ΤΩΝ 5 σφαιρών βρίσκεται πάνω στη μεσ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ί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α μπάλ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ε όλα τα παραπάνω βίντεο, δεχθήκαμε ότι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η ορμή του συστήματος ΔΙΑΤΗΡΕΙΤΑ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δηλαδή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70900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Εά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όλες οι ταχύτητε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) βρίσκονται ΠΑΝΩ ΣΤΗΝ ΙΔΙΑ ΕΥΘΕΙ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Β) ΚΑΙ ΚΙΝΟΥΝΤΑΙ ΠΡΟΣ ΤΗΝ ΙΔΙΑ ΚΑΤΕΥΘΥΝΣΗ   η τελευταία  σχέση γίνετα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695760"/>
            <a:ext cx="8496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αλγεβρική σχέση, χωρίς διανύσματ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</a:rPr>
              <a:t>Διατηρείται πάντα η ορμή ενός συστήματος σωμάτω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ΕΞΑΡΤΑΤΑΙ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Η ορμή ενός συστήματος διατηρείται εφόσον δεν ασκείται (συνολική) ΕΞΩΤΕΡΙΚΗ δύναμ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ΕΞΩΤΕΡΙΚΗ δύναμη ; Τι θα πει αυτό 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ο σύστημα αποτελείται από σώματα κινούμενα ή ακίνητ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ΕΞΩΤΕΡΙΚΕΣ δυνάμεις θεωρούνται οι δυνάμεις πο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ασκούνται στα σώματα του συστήματος  «από το υπόλοιπο Σύμπαν»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όχι εκείνες που ασκεί  ένα σώμα του συστήματος σε ένα άλλο σώμα του συστήματο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11628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Τι είναι κρούση; Τι ισχύει σε μια κρούσ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ΚΡΟΥΣΗ στη Φυσική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το φαινόμενο της απότομης αλλαγής της κίνησης τουλάχιστον ενός κινούμενου αντικειμένου όταν «συγκρούεται» με κάποι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άλλ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ις κρούσεις, η ορμή του συστήματος ΔΙΑΤΗΡΕΙΤΑΙ,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εάν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τά την διάρκεια της κρούσης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δεν ασκούνται ΕΞΩΤΕΡΙΚΕΣ δυνάμεις στο σύστημα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ίτε το βίντεο 7  με τις αλλεπάλληλες κρούσεις και συμπληρώστε σύμφωνα με ότι παρατηρήσατε στο βίντεο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560" y="2996640"/>
            <a:ext cx="8503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Όταν συμβαίνει μια κρούση, η ΟΡΜΗ ΤΟΥ ΣΥΣΤΗΜΑΤΟΣ 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3673080"/>
            <a:ext cx="84247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το παραπάνω </a:t>
            </a:r>
            <a:r>
              <a:rPr b="0" lang="el-GR" sz="1800" spc="-1" strike="noStrike" u="sng">
                <a:solidFill>
                  <a:srgbClr val="009999"/>
                </a:solidFill>
                <a:uFillTx/>
                <a:latin typeface="Comic Sans MS"/>
                <a:ea typeface="Times New Roman"/>
                <a:hlinkClick r:id="rId1"/>
              </a:rPr>
              <a:t>βίντεο 7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πιστεύετε ότι (κυκλώστε την απάντηση σας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Ναι, ασκούνται εξωτερικές δυνάμεις (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εξωτερικές 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788000" y="400536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91440" y="4291920"/>
            <a:ext cx="62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Όχι, δεν ασκούνται εξωτερικές δυνάμεις (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l-GR" sz="1200" spc="-1" strike="noStrike">
                <a:solidFill>
                  <a:srgbClr val="000000"/>
                </a:solidFill>
                <a:latin typeface="Comic Sans MS"/>
              </a:rPr>
              <a:t>εξωτερικές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= 0)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1433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Περιπτώσεις κρούσεων – Απλές εφαρμογ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ις «κρούσεις» η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ρμή του συστήματος διατηρείται  ΠΑΝΤΑ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   αλλ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η ΕΝΕΡΓΕΙΑ του συστήματο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άθροισμα  των κινητικών ενεργειών των σωμάτων πριν από τη σύγκρουση)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ειώνεται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9:50:54Z</dcterms:created>
  <dc:creator>Thanashs</dc:creator>
  <dc:description/>
  <dc:language>en-US</dc:language>
  <cp:lastModifiedBy>Thanashs</cp:lastModifiedBy>
  <dcterms:modified xsi:type="dcterms:W3CDTF">2012-11-27T21:37:08Z</dcterms:modified>
  <cp:revision>12</cp:revision>
  <dc:subject/>
  <dc:title>Διαφάνεια 1</dc:title>
</cp:coreProperties>
</file>