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0C6-EB5F-432D-9AC6-1E72790C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66E-5A00-49E9-8A04-37CDFCB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A96-A990-47D4-AB32-81FD6549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699-1C9A-4038-A91F-F6B87306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8C7A-81DE-4604-9987-5766337F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8E1-E454-4EA1-BE30-45C0E51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FE97-6FB3-411F-95B3-8C0656F7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A846-4A16-4454-8AFE-A4E2FF8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B32-DB47-4A46-87EB-3455992B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DCA6-4FDD-48DA-BB85-BC6B848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C93-098B-4E33-A5A7-2250FA5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B98-CF9F-4EA6-81B3-DDE6CAB0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80E-1DAD-4B36-9193-0FD57B1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9A45-10A0-4B86-9CA8-C9DEE34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982-F84A-4983-BBFF-1862AF32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3F91-2157-44EA-830A-33BB2ECC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1E35-59E5-4173-AEE3-06891765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FFC-8615-4679-9138-8FC89CB6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03F-188D-4785-BCB9-A01F286B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A65-7489-4B81-BCA0-C4A5C8D6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C4E-A9D3-45C3-BF06-E8BB81B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092-D9E4-463D-90E4-14B6709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E90-79A8-4218-AA8D-6AF556F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269-1EEF-426A-A2B6-C920A5D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298C-3CEC-48E7-9414-C7D7775742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81D9-DFF7-4B1A-ADED-BD90239E4A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«Απόσταση φρεναρίσματος των οχημάτων σε οδικές επιφάνειες»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Αντώνης Κλιαμενάκης – Γιάννης Κοφινά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Μάρτιος 200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95008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υτή η εργασία συνεγράφη τις ανάγκες του  μαθήματος της Τεχνολογίας Α’ Λυκείο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ΤΕΧΝΟΛΟΓΙ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80000" y="4581360"/>
            <a:ext cx="1520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Υλικά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Όχημα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 1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ικρής κλίμακα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έτρ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Χρονόμετρ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ερ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Λάδ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άγ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7440" y="45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56200" y="537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2480" y="41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15120" y="41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518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7832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0760" y="381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Start_2008_Hungary_01_PH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763640" y="2468520"/>
            <a:ext cx="547236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rington"/>
              </a:rPr>
              <a:t>ΤΕΛΟΣ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</a:t>
            </a:r>
            <a:r>
              <a:rPr b="0" lang="el-GR" sz="4400" spc="-1" strike="noStrike">
                <a:solidFill>
                  <a:srgbClr val="b2b2b2"/>
                </a:solidFill>
                <a:latin typeface="Arial"/>
              </a:rPr>
              <a:t>ι είναι;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ίναι η απόσταση που διανύει το όχημα από τη στιγμή που πατάμε το ποδομοχλό του φρένου μέχρι την απόλυτη ακινητοποίηση το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019680" cy="2409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3529080" cy="2376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95640" y="6165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Διάγραμμα υ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ε φρενάρισμ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65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Απόσταση φρεναρίσματος ενός οχήματο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9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Πού εξυπηρετούν τα φρένα;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την μείωση ατυχημάτ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Πλήρης έλεγχος του οχήματο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ημαντική συμβολή στην ενίσχυση της ενεργητικής ασφάλειας του οχήματ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1200" y="543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Start_2008_Hungary_01_PHC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3657600" cy="214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1726920" cy="1514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27640" y="4365720"/>
            <a:ext cx="1792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b2b2b2"/>
                </a:solidFill>
                <a:latin typeface="Arial"/>
              </a:rPr>
              <a:t>ΑΒ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ύστημα πέδησης με προστασία απέναντι στο μπλοκάρισμ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Αρχείο:Abs-punto.jpg"/>
          <p:cNvPicPr/>
          <p:nvPr/>
        </p:nvPicPr>
        <p:blipFill>
          <a:blip r:embed="rId1"/>
          <a:stretch/>
        </p:blipFill>
        <p:spPr>
          <a:xfrm>
            <a:off x="1619280" y="3141720"/>
            <a:ext cx="57610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Οι λειτουργίες το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Ενώ εφαρμόζεται δύναμη φρεναρίσματος και πριν ενεργοποιηθεί ο μηχανισμός του ABS, η δύναμη κατανέμεται μεταξύ των μπροστινών και πίσω τροχών, έτσι ώστε να μη μπλοκάρουν οι οπίσθιοι τροχοί πολύ νωρίτερα από τους πρόσθιους και να εξασφαλιστεί η σταθερή πορεία του αυτοκινήτο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Επιτυγχάνεται συχνά το ιδανικό διάστημα πέδηση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Το σύστημα αντιμπλοκαρίσματος τροχών ABS εκμεταλλεύεται σχεδόν πλήρως τα όρια που παρέχουν οι φυσικές ιδιότητες των ελαστικών και του οδοστρώματο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ΕΛΑΣΤΙΚΑ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ΤΥΠΟΙ ΕΛΑΣΤΙΚ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Λάστιχα για στεγνό και βρόχινο οδόστρωμ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Λάστιχα για χρήση σε χώμα ή λάσπη (ειδικά για τα 4Χ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Χειμερινά λάστιχ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ΕΤΑΙΡΙΕΣ ΕΛΑΣΤΙΚΩ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e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koh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nF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re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x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άλλε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76720" y="4437000"/>
            <a:ext cx="1942920" cy="13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20000" y="4437000"/>
            <a:ext cx="1728720" cy="136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64000" y="443700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020000" y="177336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364000" y="1773360"/>
            <a:ext cx="1513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ΥΠΟΘΕΣ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άν έχουμε στεγνό οδόστρωμα, τότε το αμαξίδιο μας θα έχει μια ικανοποιητική απόδοση στα φρέν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άν έχουμε βρεγμένο το οδόστρωμα μας τότε θα έχει μικρότερη απόδοση από την προηγούμενη περίπτωσ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άν έχουμε ολισθηρό οδόστρωμα, τότε το αμαξίδιο μας έχει χειρότερη απόδοση φρένω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Εάν έχουμε παγωμένο οδόστρωμα, τότε η απόδοση στα φρένα θα είναι αδύνατ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ΠΕΙΡΑΜΑ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thumbnail-3" descr=""/>
          <p:cNvPicPr/>
          <p:nvPr/>
        </p:nvPicPr>
        <p:blipFill>
          <a:blip r:embed="rId1"/>
          <a:stretch/>
        </p:blipFill>
        <p:spPr>
          <a:xfrm rot="16200000">
            <a:off x="387360" y="1204560"/>
            <a:ext cx="1600200" cy="1726920"/>
          </a:xfrm>
          <a:prstGeom prst="rect">
            <a:avLst/>
          </a:prstGeom>
          <a:ln w="0">
            <a:noFill/>
          </a:ln>
        </p:spPr>
      </p:pic>
      <p:pic>
        <p:nvPicPr>
          <p:cNvPr id="135" name="thumbnail-1" descr=""/>
          <p:cNvPicPr/>
          <p:nvPr/>
        </p:nvPicPr>
        <p:blipFill>
          <a:blip r:embed="rId2"/>
          <a:stretch/>
        </p:blipFill>
        <p:spPr>
          <a:xfrm>
            <a:off x="6443640" y="1557360"/>
            <a:ext cx="144144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2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172692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image" descr=""/>
          <p:cNvPicPr/>
          <p:nvPr/>
        </p:nvPicPr>
        <p:blipFill>
          <a:blip r:embed="rId4"/>
          <a:stretch/>
        </p:blipFill>
        <p:spPr>
          <a:xfrm>
            <a:off x="2268360" y="1413000"/>
            <a:ext cx="1872000" cy="151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50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840" y="5571000"/>
            <a:ext cx="238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284640"/>
            <a:ext cx="8280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Θα τοποθετήσουμε το μοντέλο μας σε στεγνό οδόστρωμ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Εν συνεχεία, θα τοποθετήσουμε το αμαξίδιο μας σε βρεγμένο οδόστρωμ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Μετά από αυτό, θα τοποθετήσουμε το μοντέλο μας σε παγωμένο οδόστρωμ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Τέλος, θα τοποθετήσουμε το μοντέλο μας σε ολισθηρό οδόστρωμα ( με λάδι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2:53:30Z</dcterms:created>
  <dc:creator>User</dc:creator>
  <dc:description/>
  <dc:language>en-US</dc:language>
  <cp:lastModifiedBy>TechLab</cp:lastModifiedBy>
  <dcterms:modified xsi:type="dcterms:W3CDTF">2009-03-13T10:28:57Z</dcterms:modified>
  <cp:revision>13</cp:revision>
  <dc:subject/>
  <dc:title>«Απόσταση φρεναρίσματος των οχημάτων σε οδικές επιφάνειες»</dc:title>
</cp:coreProperties>
</file>