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523-EDF8-48DC-8934-E8F017C8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B07-9F22-40BA-97C6-89F474E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7B4-79C9-47C8-BDBC-059A40FC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E44-9A7D-4459-A7EA-7F50B4FE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F69-A22A-4939-A1B3-17268F1E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DE9-3DD3-45AE-9FA3-CDE485BD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454-AD5C-422E-98B0-A190A930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890-3820-4BA2-834A-BEE94840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7D6-5E00-4237-B159-E987FDAE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AD2-706C-44A0-968B-4A16E8D3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F92-A56F-431D-B2D1-261B897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929-BE14-4069-8648-8779242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A56-4320-4145-A616-24A7A86F1B8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00"/>
                </a:solidFill>
                <a:uFillTx/>
                <a:latin typeface="Arial"/>
              </a:rPr>
              <a:t>Μ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Ε</a:t>
            </a:r>
            <a:r>
              <a:rPr b="0" lang="en-US" sz="4400" spc="-1" strike="noStrike" u="sng">
                <a:solidFill>
                  <a:srgbClr val="cccc00"/>
                </a:solidFill>
                <a:uFillTx/>
                <a:latin typeface="Arial"/>
              </a:rPr>
              <a:t>Λ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Ι</a:t>
            </a:r>
            <a:r>
              <a:rPr b="0" lang="en-US" sz="4400" spc="-1" strike="noStrike" u="sng">
                <a:solidFill>
                  <a:srgbClr val="cccc00"/>
                </a:solidFill>
                <a:uFillTx/>
                <a:latin typeface="Arial"/>
              </a:rPr>
              <a:t>Σ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Σ</a:t>
            </a:r>
            <a:r>
              <a:rPr b="0" lang="en-US" sz="4400" spc="-1" strike="noStrike" u="sng">
                <a:solidFill>
                  <a:srgbClr val="cccc00"/>
                </a:solidFill>
                <a:uFillTx/>
                <a:latin typeface="Arial"/>
              </a:rPr>
              <a:t>Ε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Μία  υποδειγματική  κοινων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έλ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396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136692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32360" y="3429000"/>
            <a:ext cx="35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Το μέλι είναι η φυσική γλυκιά ουσία που παράγουν οι μέλισσες από το νέκταρ των φυτών, το οποίο συλλέγουν, μετατρέπουν αναμειγνύοντας με ειδικές ύλες του σώματός τους και το φυλάσσουν στις κερήθρες της κυψέλ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Βασιλικός πολτ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366920" cy="12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248000" cy="396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32360" y="3716280"/>
            <a:ext cx="35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αράγεται στους υποφαρυγγικούς αδένες των νεαρών εργατριών, είναι λευκός, κρεμώδης με όξινη γεύση. Είναι πλούσια πηγή βιταμινών, ανόργανων στοιχείων και αμινοξέω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όπολη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366920" cy="1224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88000" y="3068640"/>
            <a:ext cx="35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Η πρόπολη είναι ρητινώδης κολλητική ουσία που συλλέγουν οι μέλισσες από διάφορα φυτά, την εμπλουτίζουν και την χρησιμοποιούν για να στεγανοποιήσουν και να απολυμάνουν το εσωτερικό της φωλιάς τ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4248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Κερ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366920" cy="1224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932360" y="407664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το προϊόν που παράγουν σε μικρά λέπια οι νεαρές εργάτριες από 4 ζεύγη κηρογόνων αδένων.Το κερί είναι ένα μείγμα από 300 περίπου ουσίε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1798560" cy="2030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916360" y="1989000"/>
            <a:ext cx="1798560" cy="203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68360" y="4076640"/>
            <a:ext cx="1798560" cy="203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2916360" y="4076640"/>
            <a:ext cx="17985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Δηλητήριο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136692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59280" y="3357720"/>
            <a:ext cx="35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Είναι ένα πολύπλοκο μείγμα χημικών ουσιών που έχει φαρμακευτική δράση και επηρεάζει την φυσιολογία του οργανισμού. Σύμφωνα με πρόσφατη έρευνα αποδείχτηκε ότι σκοτώνει τα καρκινογόνα κύτταρ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8360" y="1849320"/>
            <a:ext cx="417492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πικονίασ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3141720"/>
            <a:ext cx="35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ι μέλισσες βοηθούν στη γονιμοποίηση 60-70% των φυτικών ειδών. Άρα το ουσιαστικότερο « προϊόν» της μέλισσας είναι η επικονίαση, αφού αυτή η προσφορά της στη φύση ξεπερνάει την αξία όλων των προϊόντων της κυψέλ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97392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3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Η κυψέλ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1366920" cy="122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877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5877000"/>
            <a:ext cx="70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ία  τυπική  κυψέλη  την  άνοιξη  περιέχει  50 - 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000 μέλισσε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 rot="10800000">
            <a:off x="468360" y="47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/>
          <p:nvPr/>
        </p:nvCxnSpPr>
        <p:spPr>
          <a:xfrm>
            <a:off x="755280" y="288900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53" name=""/>
          <p:cNvSpPr/>
          <p:nvPr/>
        </p:nvSpPr>
        <p:spPr>
          <a:xfrm flipH="1" flipV="1">
            <a:off x="1763280" y="1483920"/>
            <a:ext cx="7164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51664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 εξαγωνικό  σχήμα  των  κελιών  της  κερήθρας  αξιοποιεί  με  τον καλύτερο  δυνατό  τρόπ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ν  διαθέσιμο  χώρ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973920" cy="424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476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Η κερήθ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333360"/>
            <a:ext cx="1366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476280"/>
            <a:ext cx="7632720" cy="4727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5445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πό  την  γέννηση  του  αυγού  θα χρειαστούν  21  μέρες  για να δημιουργηθεί  ένα  τέλειο  έντομο  εργάτριας, 24  μέρες  για τον κηφήνα  και  16  για  την  βασίλισσ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3109680" cy="388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ι  μέλισσες  ξαναρχίζουν  το  έργο  τους , εκτός  αν  κάποιος  μελισσοκόμος  τις  μαζέψει  και  τις  τοποθετήσει  σε  κυψέλ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76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ο μελίσσ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1366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7777080" cy="487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62480" y="333360"/>
            <a:ext cx="39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νατομία  της  μέλισσ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366920" cy="1224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87280" y="43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56000" y="981000"/>
            <a:ext cx="396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993080" cy="5099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73760" y="333360"/>
            <a:ext cx="42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Μορφολογία της μέλισσ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659640" y="333360"/>
            <a:ext cx="1366920" cy="12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56000" y="907920"/>
            <a:ext cx="396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Μια μέλισσα θα συλλέξει κατά τη διάρκεια της ζωής της λιγότερο από το ¼ του κουταλιού μέλ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Χρειάζονται περίπου 5 κιλά νέκταρ για να παραχθεί 1 κιλό μέλι. Για κάθε γρ νέκταρ η μέλισσα θα εργαστεί 3 μέρε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Περίπου 8 – 9 κιλά μέλι θα καταναλώσουν οι μέλισσες για να παραχθεί 1 κιλό κερ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Η ακτίνα πτήσης για ανεύρεση τροφής φτάνει τα 3-4 χλμ. Μπορεί να φτάσει και τα 6 χλμ σε περιόδους έλλειψ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Με την ενέργεια 28 γρ μελιού μια μέλισσα θα έκανε τον γύρο της Γη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 Η ταχύτητα πτήσης της μέλισσας είναι 41 χλμ/ώρ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69228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ξιοπερίεργα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19640" y="549360"/>
            <a:ext cx="13669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α προϊόντα της μέλισσ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Μέλ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Βασιλικός πολτό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Πρόπολ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Κερ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ύρ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ηλητήρι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Επικονία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13669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508720" y="4653000"/>
            <a:ext cx="1657080" cy="13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780000" y="3141720"/>
            <a:ext cx="1657080" cy="143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508720" y="3141720"/>
            <a:ext cx="1666800" cy="1439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780000" y="465300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5508720" y="1773360"/>
            <a:ext cx="1657080" cy="129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780000" y="1773360"/>
            <a:ext cx="165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8:46:08Z</dcterms:created>
  <dc:creator>acer</dc:creator>
  <dc:description/>
  <dc:language>en-US</dc:language>
  <cp:lastModifiedBy>Giwrgos</cp:lastModifiedBy>
  <dcterms:modified xsi:type="dcterms:W3CDTF">2009-01-21T19:11:25Z</dcterms:modified>
  <cp:revision>17</cp:revision>
  <dc:subject/>
  <dc:title>ΜΕΛΙΣΣΕΣ</dc:title>
</cp:coreProperties>
</file>