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drumroll.wav" ContentType="audio/x-wav"/>
  <Override PartName="/ppt/media/image15.gif" ContentType="image/gif"/>
  <Override PartName="/ppt/media/image14.jpeg" ContentType="image/jpeg"/>
  <Override PartName="/ppt/media/image1.wmf" ContentType="image/x-wmf"/>
  <Override PartName="/ppt/media/image13.gif" ContentType="image/gif"/>
  <Override PartName="/ppt/media/image2.jpeg" ContentType="image/jpeg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148-9D8C-41AF-A19F-9DDF3E8C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487-65B9-49E8-9BFD-B6C55432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1E1-A682-4A5A-8DE0-9BCADFA2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8DA-C192-4696-8165-555EAF09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173-79F7-49FA-A23C-CA2D2E2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EC8-0AE3-47C5-89F9-BA15C1EE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A4F-52A3-4849-AC8E-7724761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D7A-8546-4B13-9AE4-7808E9FD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B48-D7CC-4A50-9930-4FBA15A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0F4-2C88-460A-8EBD-C2AE6DB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839-75A8-4C26-9BA0-77DC30E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48B-7101-4408-BBC8-B374D06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DC9-4A43-49F9-987C-4A549BFD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3.xml"/><Relationship Id="rId3" Type="http://schemas.openxmlformats.org/officeDocument/2006/relationships/image" Target="../media/image1.wmf"/><Relationship Id="rId4" Type="http://schemas.openxmlformats.org/officeDocument/2006/relationships/slide" Target="slide23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400440" y="83808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μωρ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6172200" y="45720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ητέρ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o00769_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450540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533520" y="9144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ωρ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bd06924_" descr=""/>
          <p:cNvPicPr/>
          <p:nvPr/>
        </p:nvPicPr>
        <p:blipFill>
          <a:blip r:embed="rId1"/>
          <a:stretch/>
        </p:blipFill>
        <p:spPr>
          <a:xfrm>
            <a:off x="1143000" y="2868480"/>
            <a:ext cx="6858000" cy="39895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791320" y="38088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σχολεί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228600" y="45720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σπίτ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705040" y="167652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σχολεί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lip8825" descr=""/>
          <p:cNvPicPr/>
          <p:nvPr/>
        </p:nvPicPr>
        <p:blipFill>
          <a:blip r:embed="rId1"/>
          <a:stretch/>
        </p:blipFill>
        <p:spPr>
          <a:xfrm>
            <a:off x="3200400" y="1009800"/>
            <a:ext cx="3122640" cy="483840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715000" y="68580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Νίκ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457200" y="28954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Νίκ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00800" y="4876920"/>
            <a:ext cx="1866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Νίκο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lip8826" descr=""/>
          <p:cNvPicPr/>
          <p:nvPr/>
        </p:nvPicPr>
        <p:blipFill>
          <a:blip r:embed="rId1"/>
          <a:stretch/>
        </p:blipFill>
        <p:spPr>
          <a:xfrm>
            <a:off x="2666880" y="1009800"/>
            <a:ext cx="3654720" cy="48384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324480" y="289548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Νίκη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380880" y="68580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Νίκ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1866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Νίκ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5791320" y="289548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παππο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5867280" y="510552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πατέρα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943600" y="914400"/>
            <a:ext cx="270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παππού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228600"/>
            <a:ext cx="5029200" cy="5676840"/>
            <a:chOff x="609480" y="228600"/>
            <a:chExt cx="5029200" cy="5676840"/>
          </a:xfrm>
        </p:grpSpPr>
        <p:pic>
          <p:nvPicPr>
            <p:cNvPr id="121" name="pe02334_" descr=""/>
            <p:cNvPicPr/>
            <p:nvPr/>
          </p:nvPicPr>
          <p:blipFill>
            <a:blip r:embed="rId3"/>
            <a:stretch/>
          </p:blipFill>
          <p:spPr>
            <a:xfrm>
              <a:off x="609480" y="952560"/>
              <a:ext cx="484992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flipH="1">
              <a:off x="3886200" y="228600"/>
              <a:ext cx="1752480" cy="1981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lip7274" descr=""/>
          <p:cNvPicPr/>
          <p:nvPr/>
        </p:nvPicPr>
        <p:blipFill>
          <a:blip r:embed="rId1"/>
          <a:stretch/>
        </p:blipFill>
        <p:spPr>
          <a:xfrm>
            <a:off x="2362320" y="365040"/>
            <a:ext cx="3703680" cy="519768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/>
          </p:cNvPr>
          <p:cNvSpPr/>
          <p:nvPr/>
        </p:nvSpPr>
        <p:spPr>
          <a:xfrm>
            <a:off x="5867280" y="426708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γιαγιά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/>
          </p:cNvPr>
          <p:cNvSpPr/>
          <p:nvPr/>
        </p:nvSpPr>
        <p:spPr>
          <a:xfrm>
            <a:off x="304920" y="2895480"/>
            <a:ext cx="281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ητέρ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19560" y="13716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γιαγι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685800"/>
            <a:ext cx="2133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Times New Roman"/>
              </a:rPr>
              <a:t>μωρ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5715000" y="45720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ητέρ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172200" y="45720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ωρ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o00769_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17664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so00769_" descr=""/>
          <p:cNvPicPr/>
          <p:nvPr/>
        </p:nvPicPr>
        <p:blipFill>
          <a:blip r:embed="rId4"/>
          <a:stretch/>
        </p:blipFill>
        <p:spPr>
          <a:xfrm>
            <a:off x="1066680" y="2743200"/>
            <a:ext cx="31766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family%5B1%5D" descr="">
            <a:hlinkClick r:id="" action="ppaction://hlinkshowjump?jump=las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smileyfacecry%5B1%5D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14600" y="2514600"/>
            <a:ext cx="4114800" cy="4078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09760" y="304920"/>
            <a:ext cx="632448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Προσπάθησ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ξανά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43080" y="83808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ΕΙΣΑΙ ΞΕΦΤΕΡΙ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50" name="manyhatssmiley%5B1%5D" descr=""/>
          <p:cNvPicPr/>
          <p:nvPr/>
        </p:nvPicPr>
        <p:blipFill>
          <a:blip r:embed="rId2"/>
          <a:stretch/>
        </p:blipFill>
        <p:spPr>
          <a:xfrm>
            <a:off x="2286000" y="2724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6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1" presetSubtype="8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Effect filter="wheel(8)" transition="out">
                                      <p:cBhvr additive="repl">
                                        <p:cTn id="71" dur="2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lip555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32360" cy="4668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629040" y="426708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σπίτ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5791320" y="106668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Arial"/>
              </a:rPr>
              <a:t>σχολεί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09480" y="6094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Arial"/>
              </a:rPr>
              <a:t>σχολεί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bd05495_" descr=""/>
          <p:cNvPicPr/>
          <p:nvPr/>
        </p:nvPicPr>
        <p:blipFill>
          <a:blip r:embed="rId1"/>
          <a:stretch/>
        </p:blipFill>
        <p:spPr>
          <a:xfrm>
            <a:off x="2611440" y="228600"/>
            <a:ext cx="3919680" cy="39276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5867280" y="411480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σχολεί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57200" y="419112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ικόπεδ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5040" y="525780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οικογένει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5334120" y="68580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ωρ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638680" y="510552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πατέρα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105160" y="289548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μητέρ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04920"/>
            <a:ext cx="4876560" cy="6019200"/>
            <a:chOff x="380880" y="304920"/>
            <a:chExt cx="4876560" cy="6019200"/>
          </a:xfrm>
        </p:grpSpPr>
        <p:pic>
          <p:nvPicPr>
            <p:cNvPr id="73" name="pe02319_" descr=""/>
            <p:cNvPicPr/>
            <p:nvPr/>
          </p:nvPicPr>
          <p:blipFill>
            <a:blip r:embed="rId4"/>
            <a:stretch/>
          </p:blipFill>
          <p:spPr>
            <a:xfrm>
              <a:off x="380880" y="910440"/>
              <a:ext cx="3993120" cy="54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H="1">
              <a:off x="3245040" y="304920"/>
              <a:ext cx="2012400" cy="1615680"/>
            </a:xfrm>
            <a:prstGeom prst="line">
              <a:avLst/>
            </a:prstGeom>
            <a:ln w="92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family%5B1%5D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395136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5400000">
            <a:off x="4380840" y="285732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Comic Sans MS"/>
              </a:rPr>
              <a:t>Μπράβο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00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048120" y="548640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παππού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457200" y="114300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μητέρ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380988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πατέρα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42800" y="304920"/>
            <a:ext cx="7572600" cy="5279760"/>
            <a:chOff x="1342800" y="304920"/>
            <a:chExt cx="7572600" cy="5279760"/>
          </a:xfrm>
        </p:grpSpPr>
        <p:pic>
          <p:nvPicPr>
            <p:cNvPr id="83" name="pe02338_" descr=""/>
            <p:cNvPicPr/>
            <p:nvPr/>
          </p:nvPicPr>
          <p:blipFill>
            <a:blip r:embed="rId4"/>
            <a:stretch/>
          </p:blipFill>
          <p:spPr>
            <a:xfrm>
              <a:off x="3505320" y="304920"/>
              <a:ext cx="5410080" cy="52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342800" y="629280"/>
              <a:ext cx="3334320" cy="7228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00:08Z</dcterms:created>
  <dc:creator>STEPHANI SOPHIE</dc:creator>
  <dc:description/>
  <dc:language>en-US</dc:language>
  <cp:lastModifiedBy>PC2000 USER</cp:lastModifiedBy>
  <dcterms:modified xsi:type="dcterms:W3CDTF">2004-09-26T18:07:37Z</dcterms:modified>
  <cp:revision>11</cp:revision>
  <dc:subject/>
  <dc:title>Η κιθάρα ήταν</dc:title>
</cp:coreProperties>
</file>