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wmf" ContentType="image/x-wmf"/>
  <Override PartName="/ppt/media/drumroll.wav" ContentType="audio/x-wav"/>
  <Override PartName="/ppt/media/image15.png" ContentType="image/png"/>
  <Override PartName="/ppt/media/applause.wav" ContentType="audio/x-wav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928-0A76-4BA3-9FF4-A875B61E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E06-A688-4E4B-BDEF-E8C15931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B9E-7396-406A-A0A6-9D6573B8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F92-B024-47D6-85AA-7E34C93C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375-1480-4E96-B9E8-965FFD8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D92-F9E3-402B-9BB1-D39452AF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689-B289-47D7-9C12-5C8C1F9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4F3-6322-4372-A367-4B2521E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A7C-8824-4F7A-A039-B727A1A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D0C-AB74-4BEE-8B25-3ECC89C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F62-8A96-4233-9C4F-4ABF4DF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F77-68A1-4CA1-B963-0283878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A267-558B-4233-8802-FDABCB7D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wmf"/><Relationship Id="rId3" Type="http://schemas.openxmlformats.org/officeDocument/2006/relationships/slide" Target="slide27.xml"/><Relationship Id="rId4" Type="http://schemas.openxmlformats.org/officeDocument/2006/relationships/image" Target="../media/image2.wmf"/><Relationship Id="rId5" Type="http://schemas.openxmlformats.org/officeDocument/2006/relationships/oleObject" Target="../embeddings/oleObject1.bin"/><Relationship Id="rId6" Type="http://schemas.openxmlformats.org/officeDocument/2006/relationships/slide" Target="slide27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7.xml"/><Relationship Id="rId3" Type="http://schemas.openxmlformats.org/officeDocument/2006/relationships/image" Target="../media/image16.png"/><Relationship Id="rId4" Type="http://schemas.openxmlformats.org/officeDocument/2006/relationships/slide" Target="slide27.xml"/><Relationship Id="rId5" Type="http://schemas.openxmlformats.org/officeDocument/2006/relationships/image" Target="../media/image17.wm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image" Target="../media/image20.png"/><Relationship Id="rId6" Type="http://schemas.openxmlformats.org/officeDocument/2006/relationships/slide" Target="slide27.xml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2.wmf"/><Relationship Id="rId3" Type="http://schemas.openxmlformats.org/officeDocument/2006/relationships/oleObject" Target="../embeddings/oleObject1.bin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image" Target="../media/image23.png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image" Target="../media/image25.wmf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6.wm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27.wmf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8.png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0.wm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2.wm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.wmf"/><Relationship Id="rId3" Type="http://schemas.openxmlformats.org/officeDocument/2006/relationships/slide" Target="slide27.xml"/><Relationship Id="rId4" Type="http://schemas.openxmlformats.org/officeDocument/2006/relationships/image" Target="../media/image7.wmf"/><Relationship Id="rId5" Type="http://schemas.openxmlformats.org/officeDocument/2006/relationships/slide" Target="slide27.xml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9.wmf"/><Relationship Id="rId3" Type="http://schemas.openxmlformats.org/officeDocument/2006/relationships/slide" Target="slide27.xml"/><Relationship Id="rId4" Type="http://schemas.openxmlformats.org/officeDocument/2006/relationships/image" Target="../media/image10.wmf"/><Relationship Id="rId5" Type="http://schemas.openxmlformats.org/officeDocument/2006/relationships/oleObject" Target="../embeddings/oleObject1.bin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slide" Target="slide27.xml"/><Relationship Id="rId5" Type="http://schemas.openxmlformats.org/officeDocument/2006/relationships/image" Target="../media/image13.png"/><Relationship Id="rId6" Type="http://schemas.openxmlformats.org/officeDocument/2006/relationships/slide" Target="slide27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slide" Target="slide27.xml"/><Relationship Id="rId5" Type="http://schemas.openxmlformats.org/officeDocument/2006/relationships/image" Target="../media/image15.png"/><Relationship Id="rId6" Type="http://schemas.openxmlformats.org/officeDocument/2006/relationships/slide" Target="slide27.xml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μήλο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j0079112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733920"/>
            <a:ext cx="266688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hm0038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9320" y="3809880"/>
            <a:ext cx="2401920" cy="24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5562720" y="228600"/>
          <a:ext cx="277308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62720" y="228600"/>
                    <a:ext cx="2773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0" y="38858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παν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62720" y="304920"/>
          <a:ext cx="2558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04920"/>
                    <a:ext cx="2558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j007908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90720" y="304920"/>
            <a:ext cx="2786040" cy="3047760"/>
          </a:xfrm>
          <a:prstGeom prst="rect">
            <a:avLst/>
          </a:prstGeom>
          <a:ln w="0">
            <a:noFill/>
          </a:ln>
        </p:spPr>
      </p:pic>
      <p:pic>
        <p:nvPicPr>
          <p:cNvPr id="94" name="tn01339_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3733920"/>
            <a:ext cx="233532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2361960" y="4572000"/>
            <a:ext cx="152388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3200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τόπ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r00237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429000"/>
            <a:ext cx="2954160" cy="30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364000" y="304920"/>
          <a:ext cx="2627640" cy="28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4000" y="304920"/>
                    <a:ext cx="26276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fd01039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20" y="2590920"/>
            <a:ext cx="318276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563868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hh00727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886200"/>
            <a:ext cx="2666880" cy="2637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876920" y="60912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ρολό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76320"/>
          <a:ext cx="26370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76320"/>
                    <a:ext cx="2637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j0079112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733920"/>
            <a:ext cx="266688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666520" y="3885840"/>
            <a:ext cx="3505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ποτό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981080"/>
          <a:ext cx="2292120" cy="37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>
                    <a:hlinkClick r:id="" action="ppaction://hlinkshowjump?jump=nextslide"/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81080"/>
                    <a:ext cx="2292120" cy="37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hm00385_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56120" y="380880"/>
            <a:ext cx="2831760" cy="2792520"/>
          </a:xfrm>
          <a:prstGeom prst="rect">
            <a:avLst/>
          </a:prstGeom>
          <a:ln w="0">
            <a:noFill/>
          </a:ln>
        </p:spPr>
      </p:pic>
      <p:pic>
        <p:nvPicPr>
          <p:cNvPr id="126" name="tn01339_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77120" y="2819520"/>
            <a:ext cx="23349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724280" y="411444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κύμ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na01678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3429000" cy="2973240"/>
          </a:xfrm>
          <a:prstGeom prst="rect">
            <a:avLst/>
          </a:prstGeom>
          <a:ln w="0">
            <a:noFill/>
          </a:ln>
        </p:spPr>
      </p:pic>
      <p:pic>
        <p:nvPicPr>
          <p:cNvPr id="134" name="hm0030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57200"/>
            <a:ext cx="248436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clip324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657600"/>
            <a:ext cx="27748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762120"/>
            <a:ext cx="3733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έλατο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10080" y="1828800"/>
          <a:ext cx="317520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>
                    <a:hlinkClick r:id="" action="ppaction://hlinkshowjump?jump=nextslide"/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828800"/>
                    <a:ext cx="317520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clip050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3809880"/>
            <a:ext cx="20239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71880" y="3886200"/>
            <a:ext cx="4800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παλάτ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l00345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17680"/>
            <a:ext cx="3733920" cy="2911320"/>
          </a:xfrm>
          <a:prstGeom prst="rect">
            <a:avLst/>
          </a:prstGeom>
          <a:ln w="0">
            <a:noFill/>
          </a:ln>
        </p:spPr>
      </p:pic>
      <p:pic>
        <p:nvPicPr>
          <p:cNvPr id="151" name="ph02761j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80960"/>
            <a:ext cx="380988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886200"/>
            <a:ext cx="5143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σαλάμ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d00453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22280"/>
            <a:ext cx="3505320" cy="3006720"/>
          </a:xfrm>
          <a:prstGeom prst="rect">
            <a:avLst/>
          </a:prstGeom>
          <a:ln w="0">
            <a:noFill/>
          </a:ln>
        </p:spPr>
      </p:pic>
      <p:pic>
        <p:nvPicPr>
          <p:cNvPr id="159" name="fd00460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41440"/>
            <a:ext cx="406872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s00869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j0079099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41520" y="1752480"/>
            <a:ext cx="4124520" cy="4648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523880" y="457200"/>
            <a:ext cx="6096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Προσπάθησε ξανά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25146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ΕΙΣΑΙ ΞΕΦΤΕΡΙ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8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1" presetSubtype="8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Effect filter="wheel(8)" transition="out">
                                      <p:cBhvr additive="repl">
                                        <p:cTn id="88" dur="24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2880" y="6854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κότ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an01919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581280"/>
            <a:ext cx="255132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clip324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228600"/>
            <a:ext cx="27748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so01388_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9320" y="3733920"/>
            <a:ext cx="1955520" cy="27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8858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νερό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bd05466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29200" y="3551400"/>
            <a:ext cx="3691080" cy="2962080"/>
          </a:xfrm>
          <a:prstGeom prst="rect">
            <a:avLst/>
          </a:prstGeom>
          <a:ln w="0">
            <a:noFill/>
          </a:ln>
        </p:spPr>
      </p:pic>
      <p:pic>
        <p:nvPicPr>
          <p:cNvPr id="62" name="en00656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1320" y="457200"/>
            <a:ext cx="1795320" cy="25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14400" y="0"/>
          <a:ext cx="31622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>
                    <a:hlinkClick r:id="" action="ppaction://hlinkshowjump?jump=nextslide"/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0"/>
                    <a:ext cx="3162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209680" y="2133720"/>
            <a:ext cx="3657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μάτ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hm00380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09480"/>
            <a:ext cx="2379600" cy="20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766960" y="4648320"/>
          <a:ext cx="361008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66960" y="4648320"/>
                    <a:ext cx="36100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hm0038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48520" y="685800"/>
            <a:ext cx="19476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3962520"/>
            <a:ext cx="3657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0" spc="-1" strike="noStrike">
                <a:solidFill>
                  <a:srgbClr val="000000"/>
                </a:solidFill>
                <a:latin typeface="Times New Roman"/>
              </a:rPr>
              <a:t>γάτ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n01692_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28600"/>
            <a:ext cx="224604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43000" y="304920"/>
          <a:ext cx="213516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304920"/>
                    <a:ext cx="213516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en00656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3657600"/>
            <a:ext cx="1795680" cy="255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00:08Z</dcterms:created>
  <dc:creator>STEPHANI SOPHIE</dc:creator>
  <dc:description/>
  <dc:language>en-US</dc:language>
  <cp:lastModifiedBy>PC2000 USER</cp:lastModifiedBy>
  <dcterms:modified xsi:type="dcterms:W3CDTF">2005-11-05T15:29:12Z</dcterms:modified>
  <cp:revision>13</cp:revision>
  <dc:subject/>
  <dc:title>Η κιθάρα ήταν</dc:title>
</cp:coreProperties>
</file>