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media/image7.wmf" ContentType="image/x-wmf"/>
  <Override PartName="/ppt/media/drumroll.wav" ContentType="audio/x-wav"/>
  <Override PartName="/ppt/media/image15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407-DE76-426D-AA77-1DCA3D84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EF7-4F10-4788-8306-678594A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4D0-2652-4528-9EBF-E387356A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0CB-2BD7-419F-B683-F07E2F61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E5C-242B-467C-A582-077892A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058-DE47-41E8-9CD1-A008D08A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94F-9B44-43B2-BB6E-2C03DDC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77A-5213-4336-B3E8-A3864FD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F7A-940C-4F71-8911-9EC21AC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152-F4CF-4432-ACEF-7CFA1276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BB3-DCBD-4E80-A511-DF739CE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72A-5C12-4E49-B79B-0E993599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DE58-C581-4EF3-8C82-D1F9A801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slide27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7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slide27.xml"/><Relationship Id="rId4" Type="http://schemas.openxmlformats.org/officeDocument/2006/relationships/image" Target="../media/image13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slide27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slide27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7.xm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" Target="slide27.xm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slide27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343400" y="5029200"/>
            <a:ext cx="533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6400800" y="457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523880" y="76212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fd00995_" descr=""/>
          <p:cNvPicPr/>
          <p:nvPr/>
        </p:nvPicPr>
        <p:blipFill>
          <a:blip r:embed="rId4"/>
          <a:stretch/>
        </p:blipFill>
        <p:spPr>
          <a:xfrm>
            <a:off x="0" y="1768320"/>
            <a:ext cx="8678880" cy="33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2640" y="365760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  <a:hlinkClick r:id="rId2"/>
          </p:cNvPr>
          <p:cNvSpPr/>
          <p:nvPr/>
        </p:nvSpPr>
        <p:spPr>
          <a:xfrm>
            <a:off x="7162920" y="358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4152960" y="495288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lip1054" descr=""/>
          <p:cNvPicPr/>
          <p:nvPr/>
        </p:nvPicPr>
        <p:blipFill>
          <a:blip r:embed="rId4"/>
          <a:stretch/>
        </p:blipFill>
        <p:spPr>
          <a:xfrm>
            <a:off x="2892600" y="1371600"/>
            <a:ext cx="3357360" cy="30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5714640" y="2057400"/>
            <a:ext cx="20574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510552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678168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152960" y="510552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lip0606" descr=""/>
          <p:cNvPicPr/>
          <p:nvPr/>
        </p:nvPicPr>
        <p:blipFill>
          <a:blip r:embed="rId3"/>
          <a:stretch/>
        </p:blipFill>
        <p:spPr>
          <a:xfrm>
            <a:off x="1924200" y="533520"/>
            <a:ext cx="529560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238520" y="480060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525780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86600" y="9144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fd00536_" descr=""/>
          <p:cNvPicPr/>
          <p:nvPr/>
        </p:nvPicPr>
        <p:blipFill>
          <a:blip r:embed="rId4"/>
          <a:stretch/>
        </p:blipFill>
        <p:spPr>
          <a:xfrm>
            <a:off x="396720" y="609480"/>
            <a:ext cx="41752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42640" y="365760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162920" y="358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662940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bd07340_" descr=""/>
          <p:cNvPicPr/>
          <p:nvPr/>
        </p:nvPicPr>
        <p:blipFill>
          <a:blip r:embed="rId4"/>
          <a:stretch/>
        </p:blipFill>
        <p:spPr>
          <a:xfrm>
            <a:off x="2967120" y="609480"/>
            <a:ext cx="291924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81120" y="106668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723888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  <a:hlinkClick r:id="rId2"/>
          </p:cNvPr>
          <p:cNvSpPr/>
          <p:nvPr/>
        </p:nvSpPr>
        <p:spPr>
          <a:xfrm>
            <a:off x="5105520" y="449568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h02932j" descr=""/>
          <p:cNvPicPr/>
          <p:nvPr/>
        </p:nvPicPr>
        <p:blipFill>
          <a:blip r:embed="rId3"/>
          <a:stretch/>
        </p:blipFill>
        <p:spPr>
          <a:xfrm>
            <a:off x="558720" y="419040"/>
            <a:ext cx="40132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1143000" y="76212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086600" y="449568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7162920" y="53352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viewtrampoline" descr="Athena in Trampoline"/>
          <p:cNvPicPr/>
          <p:nvPr/>
        </p:nvPicPr>
        <p:blipFill>
          <a:blip r:embed="rId4"/>
          <a:srcRect l="13743" t="0" r="13743" b="45364"/>
          <a:stretch/>
        </p:blipFill>
        <p:spPr>
          <a:xfrm>
            <a:off x="2046240" y="380880"/>
            <a:ext cx="5051520" cy="5181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5" action="ppaction://hlinksldjump"/>
          </p:cNvPr>
          <p:cNvSpPr/>
          <p:nvPr/>
        </p:nvSpPr>
        <p:spPr>
          <a:xfrm>
            <a:off x="1295280" y="464832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181120" y="1066680"/>
            <a:ext cx="762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/>
          </p:cNvPr>
          <p:cNvSpPr/>
          <p:nvPr/>
        </p:nvSpPr>
        <p:spPr>
          <a:xfrm>
            <a:off x="723888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  <a:hlinkClick r:id="rId2"/>
          </p:cNvPr>
          <p:cNvSpPr/>
          <p:nvPr/>
        </p:nvSpPr>
        <p:spPr>
          <a:xfrm>
            <a:off x="5105520" y="449568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d05612_" descr=""/>
          <p:cNvPicPr/>
          <p:nvPr/>
        </p:nvPicPr>
        <p:blipFill>
          <a:blip r:embed="rId3"/>
          <a:stretch/>
        </p:blipFill>
        <p:spPr>
          <a:xfrm>
            <a:off x="609480" y="419040"/>
            <a:ext cx="47419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191120" y="990720"/>
            <a:ext cx="761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/>
          </p:cNvPr>
          <p:cNvSpPr/>
          <p:nvPr/>
        </p:nvSpPr>
        <p:spPr>
          <a:xfrm>
            <a:off x="1219320" y="990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010280" y="91440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d07175_" descr=""/>
          <p:cNvPicPr/>
          <p:nvPr/>
        </p:nvPicPr>
        <p:blipFill>
          <a:blip r:embed="rId3"/>
          <a:stretch/>
        </p:blipFill>
        <p:spPr>
          <a:xfrm>
            <a:off x="1066680" y="2033640"/>
            <a:ext cx="68580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bs00869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j0079099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41520" y="1752480"/>
            <a:ext cx="4124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523880" y="457200"/>
            <a:ext cx="6096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Προσπάθησε ξανά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25146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ΕΙΣΑΙ ΞΕΦΤΕΡΙ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8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1" presetSubtype="8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Effect filter="wheel(8)" transition="out">
                                      <p:cBhvr additive="repl">
                                        <p:cTn id="88" dur="24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1219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257800" y="5029200"/>
            <a:ext cx="129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238880" y="251460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na01598_" descr=""/>
          <p:cNvPicPr/>
          <p:nvPr/>
        </p:nvPicPr>
        <p:blipFill>
          <a:blip r:embed="rId4"/>
          <a:stretch/>
        </p:blipFill>
        <p:spPr>
          <a:xfrm>
            <a:off x="2284560" y="0"/>
            <a:ext cx="45748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685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7696080" y="28195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1143000" y="44197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14680" y="533520"/>
            <a:ext cx="571500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ip1136" descr=""/>
          <p:cNvPicPr/>
          <p:nvPr/>
        </p:nvPicPr>
        <p:blipFill>
          <a:blip r:embed="rId1"/>
          <a:stretch/>
        </p:blipFill>
        <p:spPr>
          <a:xfrm>
            <a:off x="2781360" y="1774800"/>
            <a:ext cx="3581280" cy="330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76640" y="685800"/>
            <a:ext cx="990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  <a:hlinkClick r:id="rId3"/>
          </p:cNvPr>
          <p:cNvSpPr/>
          <p:nvPr/>
        </p:nvSpPr>
        <p:spPr>
          <a:xfrm>
            <a:off x="1295280" y="28195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6934320" y="281952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s00869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24200" y="2100240"/>
            <a:ext cx="5295600" cy="437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552760" y="304920"/>
            <a:ext cx="4038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Κέρδισες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47560" y="99072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  <a:hlinkClick r:id="rId2"/>
          </p:cNvPr>
          <p:cNvSpPr/>
          <p:nvPr/>
        </p:nvSpPr>
        <p:spPr>
          <a:xfrm>
            <a:off x="1447920" y="396252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3505320" y="251460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 u="sng">
                <a:solidFill>
                  <a:srgbClr val="000000"/>
                </a:solidFill>
                <a:uFillTx/>
                <a:latin typeface="Times New Roman"/>
              </a:rPr>
              <a:t>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4120" y="781200"/>
            <a:ext cx="1722240" cy="529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00:08Z</dcterms:created>
  <dc:creator>STEPHANI SOPHIE</dc:creator>
  <dc:description/>
  <dc:language>en-US</dc:language>
  <cp:lastModifiedBy>PC2000 USER</cp:lastModifiedBy>
  <dcterms:modified xsi:type="dcterms:W3CDTF">2004-09-16T19:58:22Z</dcterms:modified>
  <cp:revision>10</cp:revision>
  <dc:subject/>
  <dc:title>Η κιθάρα ήταν</dc:title>
</cp:coreProperties>
</file>