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10.gif" ContentType="image/gif"/>
  <Override PartName="/ppt/media/image12.jpeg" ContentType="image/jpeg"/>
  <Override PartName="/ppt/media/image5.wmf" ContentType="image/x-wmf"/>
  <Override PartName="/ppt/media/glass.wav" ContentType="audio/x-wav"/>
  <Override PartName="/ppt/media/image3.gif" ContentType="image/gif"/>
  <Override PartName="/ppt/media/image1.jpeg" ContentType="image/jpeg"/>
  <Override PartName="/ppt/media/image7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11.gif" ContentType="image/gi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98A-C515-40A3-AEB0-42CE3A92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3D1-8297-4B64-89B5-D0842A95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717-0653-409F-BC65-4808BCBE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4E8-4ED1-4C74-88F4-9ACE5811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B65-B8D6-48CF-B53D-2D28A10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1FD-4E80-45E8-8B84-1512E5F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64F-08A1-44DD-80F6-FC0C7E0F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CA1-812D-4925-8DE4-F12EDBF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579-E5AC-470B-A91F-C37B45E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2BE-A1C6-4296-B484-D854C0A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851-9F49-4047-BB0A-FE5B134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0AD-EE4E-44EE-9715-34A3A421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D61-4E94-417E-9144-A6303D2D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slide" Target="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ricoche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ricochet.wav" TargetMode="Externa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cochet.wav" TargetMode="External"/><Relationship Id="rId2" Type="http://schemas.openxmlformats.org/officeDocument/2006/relationships/hyperlink" Target="file:///tmp/home/.config/libreoffice/4/user/gallery/ricoche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ricochet.wav" TargetMode="Externa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810240" cy="317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0" y="2778120"/>
            <a:ext cx="4278240" cy="407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838080" y="3657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876920" y="83808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  <a:hlinkClick r:id="rId6"/>
          </p:cNvPr>
          <p:cNvSpPr/>
          <p:nvPr/>
        </p:nvSpPr>
        <p:spPr>
          <a:xfrm>
            <a:off x="3200400" y="362592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7010280" y="5335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876920" y="265104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/>
          </p:cNvPr>
          <p:cNvSpPr/>
          <p:nvPr/>
        </p:nvSpPr>
        <p:spPr>
          <a:xfrm>
            <a:off x="4152960" y="6858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43434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4"/>
          </p:cNvPr>
          <p:cNvSpPr/>
          <p:nvPr/>
        </p:nvSpPr>
        <p:spPr>
          <a:xfrm>
            <a:off x="7010280" y="6858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938160" y="1181160"/>
            <a:ext cx="3633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/>
          </p:cNvPr>
          <p:cNvSpPr/>
          <p:nvPr/>
        </p:nvSpPr>
        <p:spPr>
          <a:xfrm>
            <a:off x="4876920" y="265104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/>
          </p:cNvPr>
          <p:cNvSpPr/>
          <p:nvPr/>
        </p:nvSpPr>
        <p:spPr>
          <a:xfrm>
            <a:off x="4152960" y="6858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43434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/>
          </p:cNvPr>
          <p:cNvSpPr/>
          <p:nvPr/>
        </p:nvSpPr>
        <p:spPr>
          <a:xfrm>
            <a:off x="7010280" y="6858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022400" y="1523880"/>
            <a:ext cx="3549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2200" y="1676520"/>
          <a:ext cx="381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2200" y="1676520"/>
                    <a:ext cx="381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3333cc"/>
                </a:solidFill>
                <a:latin typeface="Arial"/>
              </a:rPr>
              <a:t>Λάθο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25146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ΕΙΣΑΙ ΞΕΦΤΕΡΙ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withEffect" fill="hold" presetClass="exit" presetID="21" presetSubtype="8">
                                  <p:stCondLst>
                                    <p:cond delay="1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38080" y="3657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4152960" y="6858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  <a:hlinkClick r:id="rId3"/>
          </p:cNvPr>
          <p:cNvSpPr/>
          <p:nvPr/>
        </p:nvSpPr>
        <p:spPr>
          <a:xfrm>
            <a:off x="1523880" y="6858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7010280" y="6858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48120" y="26668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4876920" y="265104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4152960" y="6858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43434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7010280" y="6858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7600" y="304920"/>
          <a:ext cx="4154400" cy="624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304920"/>
                    <a:ext cx="41544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5410080" y="3808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ι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38080" y="38088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41911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010280" y="187308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53341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d05960_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4520" y="1676520"/>
            <a:ext cx="4313160" cy="4647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0" spc="-1" strike="noStrike">
                <a:solidFill>
                  <a:srgbClr val="ff0000"/>
                </a:solidFill>
                <a:latin typeface="Arial"/>
              </a:rPr>
              <a:t>Μπράβο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29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876920" y="265104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4152960" y="6858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43434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7010280" y="6858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6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44640" y="1998720"/>
            <a:ext cx="3627360" cy="286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52:58Z</dcterms:created>
  <dc:creator>PC2000 USER</dc:creator>
  <dc:description/>
  <dc:language>en-US</dc:language>
  <cp:lastModifiedBy>Ministry of Education and Culture</cp:lastModifiedBy>
  <dcterms:modified xsi:type="dcterms:W3CDTF">2004-10-12T06:19:43Z</dcterms:modified>
  <cp:revision>3</cp:revision>
  <dc:subject/>
  <dc:title>PowerPoint Presentation</dc:title>
</cp:coreProperties>
</file>