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69D7-7B0D-4615-B4C4-40FDE7AA8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695-2BD5-4BE4-8768-42FC7352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61E-DF0D-43F2-BB2D-20D52181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39B-97D9-4E96-8420-CEC78EBA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B618-E5C0-46C2-AF52-359F34FA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B59-2FF6-4954-B9FC-1F06C728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115-6D98-4F61-A343-91F41621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826-F2B8-438B-89D7-2EE89668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570-CCCA-49FF-A43C-F5EBAEBE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B43C-C5CC-4424-964C-358DF5F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5DB0-1254-423E-9A7A-886B2F3F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637-E28B-46CC-AB61-780FC3B4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7BE9-A458-4F49-A528-7FA183F6F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ΕΥΡΩΠΗ ΣΤΑ ΝΕΟΤΕΡΑ ΧΡΟΝΙΑ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ΓΑΛΛΙΚΗ ΕΠΑΝΑΣΤΑ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419720" y="1828440"/>
            <a:ext cx="403848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ΤΟ ΚΑΘΕΣΤΩΣ ΤΩΝ ΕΥΓΕΝΩΝ ΤΙΜΩΡΕ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2743200" cy="3733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335268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ΕΠΑΝΑΣΤΑΣΗ ΑΡΧΙΖΕ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0" y="17521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Ο ΛΑΟΣ ΕΠΑΝΑΣΤΑΤΕ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3504960" cy="3200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27432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Η ΕΠΑΝΑΣΤΑΣΗ ΚΕΡΔΙΖΕΙ ΕΔΑΦΟ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Ο ΛΑΟΣ ΑΝΤΑΠΟΔΙΔΕ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ΖΗΤΑ ΕΛΕΥΘΕΡΙΑ-ΙΣΟ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3733920" cy="3276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57800" y="2743200"/>
            <a:ext cx="3048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Ι ΗΓΕΤΕΣ ΚΑΙ ΤΟ ΔΙΕΥΘΥΝΤΗΡΙ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Η ΜΟΙΡΑ ΤΩΝ ΗΓΕΤ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59056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274320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ΝΑΠΟΛΕΩΝ ΣΤΕΦΕΤΑΙ ΑΥΤΟΚΡΑΤΟΡΑ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ΣΤΕΦΕΙ ΚΑΙ ΤΗΝ ΙΩΣΗΦΙΝΑ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28600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29200" y="2819520"/>
            <a:ext cx="2943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ΤΟ ΝΟΗΜΑ ΤΗΣ ΕΠΑΝΑΣΤΑΣΗΣ ΧΑΝΕΤΑ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Η ΠΟΛΥΤΕΛΗΣ ΖΩΗ ΤΩΝ ΕΥΓΕΝΩΝ ΣΥΝΣΧΙΖΕΤ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ΟΙ ΠΟΛΕΜΟΙ ΣΥΝΕΧΙΖΟΝΤΑ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609640" cy="1752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281916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Η ΗΤΤΑ ΤΟΥ ΝΑΠΟΛΕΟΝΤΑ ΚΑΙ ΤΗΣ ΓΑΛΛΙ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ΜΠΟΡΕΙ Η ΕΥΡΩΠΗ ΝΑ ΑΛΛΑΞΕ ΤΡΟΠΟΥΣ ΠΟΛΙΤΚΗΣ ΔΙΑΧΕΙΡΙΣΗΣ ΑΛΛΑ ΑΥΤΟ ΚΟΣΤΙΣΕ ΠΟΛΛΕΣ ΖΩ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ΟΙ ΑΝΙΣΟΤΗΤΕΣ ΔΕΝ ΕΠΑΨΑΝ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429000" cy="289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2514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RAS</cp:lastModifiedBy>
  <dcterms:modified xsi:type="dcterms:W3CDTF">2011-04-23T22:20:1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