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A5E-6F9C-4721-BC4D-6AA86DEFEDA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99F-9B2B-4E1A-92E6-CA160D008D4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46E-998D-4AFB-89B4-F5A6158F99E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25C2-99B9-4436-979F-BEA7DDF9296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8DA-7D49-40EC-9D1C-BFF67EE8AC7C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360-C2CB-4AAB-B16D-58A13975352A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AFFA-B6C1-41A2-92A7-3FEF06B9CDC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99D-3625-4741-BC5E-40CBD4F06D8B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6680-1118-48F5-B9ED-AF3ADC86055E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5F51-9287-44F9-9C44-430A46F5700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597-0CD4-4AAB-B790-601537B8AE6B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ADC6-D4F1-415C-A10E-03F9B7A9AF0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76E-892F-4A88-ADC6-99DEB38AF1B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5E2-547F-468C-8DC9-4CAEA7FD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5E4-C399-4CB7-A257-56492B13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44E-2B12-48A5-A9E1-479E3B9F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970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9028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6034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3970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19028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D7F-1A39-4659-91B0-A201570D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1F2C-A9AC-435C-9E4A-48D60E28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95D5-1E67-4CBA-BF29-A106D2C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BAC-9ED2-4D09-9713-56EABC3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8570-E3F2-4AEC-ABE7-E024F067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8508-6345-4009-9947-8ADBFDE1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711080" y="-3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D35-2FD2-4E7C-AFD6-0CF4852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DEC8-2F5A-4A95-9B24-E3146B53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E50-BCC2-48D2-8FCB-709C245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4582-6FD3-4110-A817-C203B21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E4B-C886-4E61-9208-258A69A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E88B-E738-4BC6-96C3-3CCB0D13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19A6-DECE-4205-8EC7-8EB702C8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9704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90280" y="13712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6034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39704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190280" y="3839040"/>
            <a:ext cx="266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DE42-6A0F-46D6-B3F3-5ACFA3F1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712-3611-4027-8C40-FD02A254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D50-BBD8-4919-BD3A-784F9C0B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EAD-0FD0-4A78-AC98-BA13485D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11080" y="-360"/>
            <a:ext cx="819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489-F332-4CA2-AA13-F5882BC8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214-1138-4978-9B9F-5F57FDB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836680" y="38390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E4A-DA09-438C-98A9-134AF982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36680" y="1371240"/>
            <a:ext cx="403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3440" y="3839040"/>
            <a:ext cx="82612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583-E6BE-43EE-8D14-87ED11D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2"/>
          <p:cNvSpPr/>
          <p:nvPr/>
        </p:nvSpPr>
        <p:spPr>
          <a:xfrm>
            <a:off x="9372600" y="6394320"/>
            <a:ext cx="533520" cy="46368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1587600" cy="6856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" name="Picture 5" descr=""/>
          <p:cNvPicPr/>
          <p:nvPr/>
        </p:nvPicPr>
        <p:blipFill>
          <a:blip r:embed="rId3"/>
          <a:stretch/>
        </p:blipFill>
        <p:spPr>
          <a:xfrm>
            <a:off x="9360" y="49320"/>
            <a:ext cx="1582920" cy="1498320"/>
          </a:xfrm>
          <a:prstGeom prst="rect">
            <a:avLst/>
          </a:prstGeom>
          <a:ln w="0">
            <a:noFill/>
          </a:ln>
        </p:spPr>
      </p:pic>
      <p:sp>
        <p:nvSpPr>
          <p:cNvPr id="3" name="Freeform 6"/>
          <p:cNvSpPr/>
          <p:nvPr/>
        </p:nvSpPr>
        <p:spPr>
          <a:xfrm>
            <a:off x="9360" y="162396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9360" y="331308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9360" y="5016600"/>
            <a:ext cx="1532160" cy="1454040"/>
          </a:xfrm>
          <a:prstGeom prst="pie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712880" y="1154160"/>
            <a:ext cx="8191440" cy="168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717560" y="132876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8" name="Line 12"/>
          <p:cNvSpPr/>
          <p:nvPr/>
        </p:nvSpPr>
        <p:spPr>
          <a:xfrm>
            <a:off x="1717560" y="129060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9" name="Line 13"/>
          <p:cNvSpPr/>
          <p:nvPr/>
        </p:nvSpPr>
        <p:spPr>
          <a:xfrm>
            <a:off x="1717560" y="124308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0" name="Line 14"/>
          <p:cNvSpPr/>
          <p:nvPr/>
        </p:nvSpPr>
        <p:spPr>
          <a:xfrm>
            <a:off x="1719360" y="1187280"/>
            <a:ext cx="81867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1" name="Freeform 15"/>
          <p:cNvSpPr/>
          <p:nvPr/>
        </p:nvSpPr>
        <p:spPr>
          <a:xfrm>
            <a:off x="1708200" y="1143000"/>
            <a:ext cx="8194680" cy="189000"/>
          </a:xfrm>
          <a:prstGeom prst="pie">
            <a:avLst/>
          </a:prstGeom>
          <a:noFill/>
          <a:ln cap="rnd"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A106-10C7-44B1-9797-745E5244407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21A3-3C92-4566-81BA-BCC5BF5244E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849600" cy="6856560"/>
            <a:chOff x="0" y="0"/>
            <a:chExt cx="9849600" cy="6856560"/>
          </a:xfrm>
        </p:grpSpPr>
        <p:grpSp>
          <p:nvGrpSpPr>
            <p:cNvPr id="54" name="Group 3"/>
            <p:cNvGrpSpPr/>
            <p:nvPr/>
          </p:nvGrpSpPr>
          <p:grpSpPr>
            <a:xfrm>
              <a:off x="1654200" y="3090960"/>
              <a:ext cx="8195400" cy="188640"/>
              <a:chOff x="1654200" y="3090960"/>
              <a:chExt cx="8195400" cy="188640"/>
            </a:xfrm>
          </p:grpSpPr>
          <p:sp>
            <p:nvSpPr>
              <p:cNvPr id="55" name="Rectangle 4"/>
              <p:cNvSpPr/>
              <p:nvPr/>
            </p:nvSpPr>
            <p:spPr>
              <a:xfrm>
                <a:off x="1659240" y="3101760"/>
                <a:ext cx="819036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6" name="Line 5"/>
              <p:cNvSpPr/>
              <p:nvPr/>
            </p:nvSpPr>
            <p:spPr>
              <a:xfrm>
                <a:off x="1662480" y="327636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7" name="Line 6"/>
              <p:cNvSpPr/>
              <p:nvPr/>
            </p:nvSpPr>
            <p:spPr>
              <a:xfrm>
                <a:off x="1662480" y="323820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1662480" y="319068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59" name="Line 8"/>
              <p:cNvSpPr/>
              <p:nvPr/>
            </p:nvSpPr>
            <p:spPr>
              <a:xfrm>
                <a:off x="1662480" y="3136680"/>
                <a:ext cx="818712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sp>
            <p:nvSpPr>
              <p:cNvPr id="60" name="Freeform 9"/>
              <p:cNvSpPr/>
              <p:nvPr/>
            </p:nvSpPr>
            <p:spPr>
              <a:xfrm>
                <a:off x="1654200" y="3090960"/>
                <a:ext cx="819360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</p:grpSp>
        <p:grpSp>
          <p:nvGrpSpPr>
            <p:cNvPr id="61" name="Group 10"/>
            <p:cNvGrpSpPr/>
            <p:nvPr/>
          </p:nvGrpSpPr>
          <p:grpSpPr>
            <a:xfrm>
              <a:off x="0" y="0"/>
              <a:ext cx="1594800" cy="6856560"/>
              <a:chOff x="0" y="0"/>
              <a:chExt cx="1594800" cy="6856560"/>
            </a:xfrm>
          </p:grpSpPr>
          <p:sp>
            <p:nvSpPr>
              <p:cNvPr id="62" name="Rectangle 11"/>
              <p:cNvSpPr/>
              <p:nvPr/>
            </p:nvSpPr>
            <p:spPr>
              <a:xfrm>
                <a:off x="0" y="0"/>
                <a:ext cx="158688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UB-Optima"/>
                </a:endParaRPr>
              </a:p>
            </p:txBody>
          </p:sp>
          <p:grpSp>
            <p:nvGrpSpPr>
              <p:cNvPr id="63" name="Group 12"/>
              <p:cNvGrpSpPr/>
              <p:nvPr/>
            </p:nvGrpSpPr>
            <p:grpSpPr>
              <a:xfrm>
                <a:off x="0" y="65160"/>
                <a:ext cx="1594800" cy="6405480"/>
                <a:chOff x="0" y="65160"/>
                <a:chExt cx="1594800" cy="6405480"/>
              </a:xfrm>
            </p:grpSpPr>
            <p:pic>
              <p:nvPicPr>
                <p:cNvPr id="64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58148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Freeform 14"/>
                <p:cNvSpPr/>
                <p:nvPr/>
              </p:nvSpPr>
              <p:spPr>
                <a:xfrm>
                  <a:off x="65160" y="65160"/>
                  <a:ext cx="1529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  <p:sp>
              <p:nvSpPr>
                <p:cNvPr id="66" name="Freeform 15"/>
                <p:cNvSpPr/>
                <p:nvPr/>
              </p:nvSpPr>
              <p:spPr>
                <a:xfrm>
                  <a:off x="10080" y="3313080"/>
                  <a:ext cx="1530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  <p:sp>
              <p:nvSpPr>
                <p:cNvPr id="67" name="Freeform 16"/>
                <p:cNvSpPr/>
                <p:nvPr/>
              </p:nvSpPr>
              <p:spPr>
                <a:xfrm>
                  <a:off x="10080" y="5016600"/>
                  <a:ext cx="1530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UB-Optima"/>
                  </a:endParaRPr>
                </a:p>
              </p:txBody>
            </p:sp>
          </p:grp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1080" y="-360"/>
            <a:ext cx="819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603440" y="1371240"/>
            <a:ext cx="8261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65096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B0E7-F38E-47C3-92F8-E182E486C7A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946680" y="6350040"/>
            <a:ext cx="373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007480" y="6350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FC3C-CD1D-4E6F-9A65-654AE0E31812}" type="slidenum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Tahoma"/>
              </a:rPr>
              <a:t>ΑΝΑΠΤΥΞΗ ΕΦΑΡΜΟΓΩΝ ΣΕ ΠΡΟΓΡΑΜΜΑΤΙΣΤΙΚΟ ΠΕΡΙΒΑΛΛΟΝ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2743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ahoma"/>
              </a:rPr>
              <a:t>Συγγραφείς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Α.Βακά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Η. Γιαννόπου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Ν. Ιωαννίδ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Χ.Κοίλι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Κ. Μάλαμ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Ι. Μανωλόπου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ahoma"/>
              </a:rPr>
              <a:t>Π. Πολίτη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E:\CLIPART\COMPUTER\COMP6.GIF"/>
          <p:cNvPicPr/>
          <p:nvPr/>
        </p:nvPicPr>
        <p:blipFill>
          <a:blip r:embed="rId1"/>
          <a:stretch/>
        </p:blipFill>
        <p:spPr>
          <a:xfrm>
            <a:off x="7086600" y="4724280"/>
            <a:ext cx="2054160" cy="1752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295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Γ΄ τάξη Τεχνολογικής  Κατεύθυν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Ενιαίου Λυκείου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267080" y="4038480"/>
            <a:ext cx="5791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Διδάσκων: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</a:rPr>
              <a:t>Τσιωτάκης Παναγιώτη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9150-3DB9-4196-8A22-C6A1D036392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D734-6AC6-458A-AEFB-B351A21BCB7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Ονόματα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371600" y="1371600"/>
            <a:ext cx="8610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 ονόματα αυτά μπορούν να αποτελούνται από γράμματ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ζά ή κεφαλαία του ελληνικού ή του λατινικού αλφαβήτου (Α-Ω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-Ζ), ψηφία (0-9) καθώς και τον χαρακτήρα κάτω παύλα (underscore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_), ενώ πρέπει υποχρεωτικά να αρχίζουν με γράμμα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ρικές λέξεις χρησιμοποιούνται από την ίδια τ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ΩΣΣ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γκεκριμένους λόγους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.χ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οι λέξεις ΠΡΟΓΡΑΜΜΑ, ΑΚΕΡΑΙΟΣ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κ.λπ, αυτές οι λέξεις δεν μπορούν να χρησιμοποιηθούν ω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νόματα. Οι λέξεις αυτές αποκαλούνται δεσμευμένε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876-A8FE-4412-8557-BF8D5B99E3D5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12D-31B7-4FFD-9DE3-AAE2D0870C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Ονόματα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76520" y="1447920"/>
            <a:ext cx="815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αδείγματα ονομάτων που είναι αποδεκτά από τ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ΩΣΣ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: Α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νομα, Τιμή, Τυπική_Απόκλιση, Α100, ΦΠΑ, μέγιστο, Υπολογισμός_Ταχύτητα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αραδείγματα ονομάτων που δεν είναι αποδεκτά είναι: 100Α, Μέ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μή, Κόστος$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9428-E53D-4C6E-B158-2D8F67A6E570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0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1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CE8-5E50-4D21-83A7-9F32BE5415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94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562-113D-463A-9DAA-3E4B3549FD60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9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2C9-FE69-4A80-AE8D-F050EBF89DF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Μεταβλητέ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523880" y="14479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ια μεταβλητή λοιπόν, παριστάνει μία ποσότητα που η τιμή της μπορεί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 μεταβάλ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ται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μεταβλητές αντιστοιχούντα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 το μεταγλωττιστή σε συγκεκριμένες θέσεις μνήμη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τιμή της μεταβλητής είναι η τιμή που βρίσκεται στην αντίστοιχη θέ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νήμης και όπως αναφέρθηκε μπορεί να μεταβάλλεται κατά τη διάρκει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 εκτέλεσης του προγράμματο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πορούμε να παρομοιάσουμε τη μεταβλητή σαν ένα γραμματοκιβώτιο, το όνομ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 μεταβλητής και ως περιεχόμενο εσωτερικά, την τιμή που έχει εκείν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 συγκεκριμένη στιγμή η μεταβλητή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CB33-2721-4127-B1F5-78FC1B30AED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89F-C5D3-40FB-A901-01DE1067B26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05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Μεταβλητέ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523880" y="14479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όνομα κάθε μεταβλητής, ακολουθεί τους κανόνες δημιουργίας ονομάτων,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λαδή αποτελείται από γράμματα, ψηφία καθώς και τον χαρακτήρα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, ενώ το όνομα κάθε μεταβλητής είναι μοναδικό για κάθε πρόγραμμα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C11-43FB-4AF8-AFEA-F65881A8586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0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1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58C3-0E8A-4FF8-B250-06EA7087AEB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12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Μεταβλητέ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5181480" cy="301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80010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84CC-DB89-4C36-B88B-7CC5FE109718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8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19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411-7595-4AC1-B177-85EEF594909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22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3C1-3597-467C-BDA0-37A2699D4E0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4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E58-AD72-411D-9194-4225BA27ECC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οί τελεστέ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44792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αριθμητικοί τελεστές που υποστηρίζονται από τ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ΩΣΣ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λύπτου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ς βασικές πράξεις: πρόσθεση, αφαίρεση, πολλαπλασιασμό κα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ίρεση ενώ υποστηρίζεται και η ύψωση σε δύναμη, η ακέραια διαίρεση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το υπόλοιπο της ακέραιας διαίρεση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1619280" y="3924360"/>
            <a:ext cx="7829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F1B-093C-44A5-832E-EA07B59C6E0A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2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3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0BF-51BF-4BD0-B605-494F997D3D6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36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3BBD-B0D5-4E54-93C6-16A4A78DAD08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3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B93B-4F7A-4DAE-B620-6EEA57320AB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Συναρτή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1752480" y="1447920"/>
            <a:ext cx="8001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87C-6948-4B7B-8B39-47FF0FBCADB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2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3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E0F3-65C9-461B-BF88-8D33557E568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26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F8F-185B-4BB7-B430-E00771A3C26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5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6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8E7-195A-4684-A81B-151403E2971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49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60CB-0D93-40B5-BF1D-14F876E0F0C1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401B-DC33-4300-9954-4CECC84C5D5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ές εκφρά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523880" y="1371600"/>
            <a:ext cx="83822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ταν μια τιμή προκύπτει από υπολογισμό, τότε αναφερόμαστε σ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κφράσεις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ressions)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τη σύνταξη μιας αριθμητικής έκφρασης χρησιμοποιούνται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ητικές σταθερές, μεταβλητές, συναρτήσεις, αριθμητικοί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λεστές και παρενθέσεις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αριθμητικές εκφράσεις υλοποιούν απλές 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ύνθετες μαθηματικές πράξεις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03CF-E2E2-46BA-9082-AECFD66EF317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5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D6A-9E50-4586-98E7-DD8DDA5213A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60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ές εκφρά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3" name="Rectangle 1028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 έκφραση παριστάνει μια συγκεκριμένη αριθμητική τιμή, η οποία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ρίσκεται μετά την εκτέλεση των πράξεων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’ αυτό είναι απαραίτητο όλες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μεταβλητές, που εμφανίζονται σε μια έκφραση να έχουν οριστεί προηγούμενα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ηλαδή να έχουν κάποια τιμή</a:t>
            </a:r>
            <a:endParaRPr b="0" lang="en-US" sz="32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8296-B047-491D-9DDB-FC46DAD80531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6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AECC-A21A-437C-8224-3BBDED5335C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67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ές εκφρά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70" name="Picture 1029" descr=""/>
          <p:cNvPicPr/>
          <p:nvPr/>
        </p:nvPicPr>
        <p:blipFill>
          <a:blip r:embed="rId3"/>
          <a:stretch/>
        </p:blipFill>
        <p:spPr>
          <a:xfrm>
            <a:off x="1752480" y="152388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148-50CA-4ABE-81FA-CD8B21382658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2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EC7-1DA6-4958-B01C-2AAA7045896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74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ές εκφρά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2286000" y="1600200"/>
            <a:ext cx="52578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1308-0670-4477-9581-D69ACABB9515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7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0A91-F821-4C76-B6F6-A145CB62379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Αριθμητικές εκφράσει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60020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ταν η ιεραρχία είναι ίδια, τότε οι πράξεις εκτελούνται από τ’ αριστερά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ς τα δεξιά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πράξη που πρέπει να προηγηθεί περικλείεται σε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 ζεύγος παρενθέσων, οπότε και εκτελείται πρώτη. Π.χ. η έκφραση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3*4 δίδει ως αποτέλεσμα 14, ενώ η (2+3)*4 δίδει 20, διότι εκτελείται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ώτα η πρόσθεση και μετά ο πολλαπλασιασμό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F97A-31BF-4FFC-86FB-14F6C12B3A0E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6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7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BEF-AE44-47FD-A336-6A27CE69792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90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227-F279-4B32-A342-E315293B587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2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293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DAC7-36D8-4353-9666-B7FEBF66BF5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κχώρηση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1676520" y="1523880"/>
            <a:ext cx="8076960" cy="4343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6629400" y="1924200"/>
            <a:ext cx="29718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11D-43C9-4D87-B67F-ED7DBE9029DB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0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1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30D-5777-4EE1-AB86-79395C855D9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04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BDA-44D8-4ED1-9506-A487BE3B8B0B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0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CF8-51AE-4067-8224-E0DCB2A42DF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08" name="Object 1026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ισόδου – εξόδου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11" name="Picture 1029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1DA-4AC8-45A5-B8E5-B34254FA9115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5B7-00C4-47FE-8112-BF366225D20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30" name="Object 1026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Το αλφάβητο της ΓΛΩΣΣΑ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33" name="Picture 1029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5334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E6E-1F66-4C34-A0DC-F11FA2F32B5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062-07A3-4502-BF96-FD3F4990DD2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15" name="Object 1026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ισόδου – εξόδου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18" name="Rectangle 1028"/>
          <p:cNvSpPr/>
          <p:nvPr/>
        </p:nvSpPr>
        <p:spPr>
          <a:xfrm>
            <a:off x="160020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εντολ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ΒΑΣ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είται πάντοτε από ένα ή περισσότερα ονόματα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ταβλητών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υπάρχουν περισσότερες από μία μεταβλητές τότε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υτές χωρίζονται με κόμμα (,)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 την εκτέλεση του προγράμματος η εντολ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ΒΑΣ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κόπτει την εκτέλεσή του και το πρόγραμμα περιμένε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ν εισαγωγή από το πληκτρολόγιο τιμών, που θα εκχωρηθούν στις μεταβλητέ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8DF-50E9-4045-A0F7-0685748517A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0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1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C79-FB09-48B5-865E-27357342F1C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22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ισόδου – εξόδου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807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529C-3AB5-45CD-8DDD-27245D0A05C1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2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4CFA-C6BA-4EFC-A339-493CE1AC9D9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29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ισόδου – εξόδου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523880" y="14479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εντολή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χει ως αποτέλεσμα την εμφάνιση τιμών στη μονάδα εξόδου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σκευή εξόδου μπορεί να είναι η οθόνη του υπολογιστή, ο εκτυπωτής,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οηθητική μνήμη ή γενικά οποιαδήποτε συσκευή εξόδου έχει οριστεί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 πρόγραμμα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λίστα των στοιχείων μπορεί να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έχει σταθερές τιμές και ονόματα μεταβλητών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A10-B303-4EEE-815F-904D4411F7AC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4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5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83A7-4C10-4B43-8441-8A635C416F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36" name="Object 2048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Εντολή εισόδου – εξόδου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39" name="Rectangle 1028"/>
          <p:cNvSpPr/>
          <p:nvPr/>
        </p:nvSpPr>
        <p:spPr>
          <a:xfrm>
            <a:off x="160020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 την εκτέλεση του προγράμματος η εντολή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καλεί την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μφάνιση στην οθόνη των σταθερών τιμών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αν κάποιο όνομα μεταβλητής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εριέχεται στη λίστα τότε αρχικά ανακτάται η τιμή της και στη συνέχεια η τιμή αυτή εμφανίζεται στην οθόνη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80DF-A21C-4149-9805-DB070F048AB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1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2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F15-4D4C-472B-B542-94966FD246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45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B399-73C5-455E-BC43-F26831B6F2C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7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48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D58-B49F-407E-AF3A-2B2EE2671D2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49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1027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Δομή προγράμματο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2" name="Rectangle 1028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πως κάθε εντολή ακολουθεί αυστηρούς συντακτικούς κανόνες, έτσι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ολόκληρο το πρόγραμμα έχει αυστηρούς κανόνες για τον τρόπο που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ομείται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πρώτη εντολή κάθε προγράμματος είναι υποχρεωτικά η επικεφαλίδα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 προγράμματος, η οποία είναι η λέξη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ΓΡΑΜΜΑ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ούμενη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 το όνομα του προγράμματο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νομ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ρέπει να υπακούει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ους κανόνες δημιουργίας ονομάτων της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ΩΣΣΑ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209-AF85-4AAB-A3E0-B758DA33C9F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4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5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722-A6C2-423D-9858-E9A44F506E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56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Δομή προγράμματο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60020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 συνέχεια ακολουθεί το τμήμα δήλωσης των σταθερών του προγράμματο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μέσως μετά είναι το τμήμα δήλωσης μεταβλητών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ολουθεί το κύριο μέρος του προγράμματος, που περιλαμβάνει όλε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ις εκτελέσιμες εντολέ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ι εντολές αυτές περιλαμβάνονται υποχρεωτικά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μεσα στις λέξει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Χ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ΕΛΟΣ_ΠΡΟΓΡΑΜΜΑΤΟ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άθε εντολή γράφεται σε ξεχωριστή γραμμή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E7F-ED6A-4CA4-B1B1-C871A9E1F12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B29A-EABE-42EC-84C8-E281A1B240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63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Δομή προγράμματο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μία εντολή πρέπει να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νεχιστεί και στην επόμενη γραμμή, τότε ο πρώτος χαρακτήρας αυτής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ης γραμμής πρέπει να είναι ο χαρακτήρας &amp;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ο πρώτος χαρακτήρας είναι το θαυμαστικό (!), σημαίνει ότι αυτή η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μμή περιέχει σχόλια και όχι εκτελέσιμες εντολέ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48BA-72F2-40ED-B3B7-0A68770B07C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6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6D1-1FB0-4847-B4A3-630F60724F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70" name="Object 1024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Δομή προγράμματο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8076960" cy="1523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4"/>
          <a:stretch/>
        </p:blipFill>
        <p:spPr>
          <a:xfrm>
            <a:off x="1676520" y="1371600"/>
            <a:ext cx="80769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9A45-42DA-487D-90BE-55604E45C85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6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7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6FB-11CA-47E5-A585-FA1AE4EBDE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285640" y="29714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996633"/>
                </a:solidFill>
                <a:latin typeface="Arial"/>
              </a:rPr>
              <a:t>Βιβλίο Μαθητ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848720" y="4419720"/>
            <a:ext cx="1485720" cy="13716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76320" y="609480"/>
            <a:ext cx="975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38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3800"/>
            </a:br>
            <a:r>
              <a:rPr b="1" lang="el-GR" sz="3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6F5-CF1D-4940-826D-D3075440537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5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6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629-9D73-4C5D-AD82-1ECFE29D4EF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39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5AA-98F1-48E8-BF85-71C1D62E636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2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3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FA3B-4539-4B79-AA14-C4C5EA0E78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84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4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1523880" y="16002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Οι τύποι μεταβλητών που δέχεται η ΓΛΩΣΣΑ είναι μόνο ΠΡΑΓΜΑΤΙΚΕΣ και ΑΚΕΡΑΙΕ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Οι δηλώσεις των σταθερών προηγούνται πάντοτε των δηλώσεων των μεταβλητών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Τα σχόλια τοποθετούνται πάντα στην αρχή του προγράμματο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286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04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049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044D-9DCA-4861-AB9A-D5697944A7A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2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3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7B47-BA58-4A89-AF67-AFDF5571070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523880" y="144792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Ποια από τις παρακάτω εντολές αυξάνει τη μεταβλητή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λήθος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 μία μονάδα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 Πλήθος&lt;-Πλήθος+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) Πλήθος&lt;- +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) Πλήθος&lt;- 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) Πλήθος+1&lt;-Πλήθο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1523880" y="2514600"/>
            <a:ext cx="38862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C517-5022-40B2-B44C-752269CECE37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0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1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165-1013-4276-B1C2-72D6990DB6B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02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600200" y="13716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Ποια η τιμή της μεταβλητής Α μετά την εκτέλεση της παρακάτω εντολής: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&lt;- (5+4/2*2)*2-(3*2+5-3)^2+9/3-2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 -53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) -37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) -125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) –45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600200" y="5029200"/>
            <a:ext cx="12193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61CF-C933-49E9-9A74-5AA55C0C441F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0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90FB-598D-499D-B527-F87C62950AB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10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Ερωτήσει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676520" y="144792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ΠΡΟΓΡΑΜΜΑ Τεστ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……</a:t>
            </a: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Π=3.14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ΜΕΤΑΒΛΗΤΕ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………………</a:t>
            </a: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.. :Ε, Ακτίνα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ΑΡΧΗ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ΔΙΑΒΑΣΕ Ακτίνα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Ε &lt;-Π*Ακτίνα^2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ΓΡΑΨΕ ‘Εμβαδό :’, …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……</a:t>
            </a:r>
            <a:r>
              <a:rPr b="0" lang="el-GR" sz="2800" spc="-1" strike="noStrike">
                <a:solidFill>
                  <a:srgbClr val="000000"/>
                </a:solidFill>
                <a:latin typeface="CourierNe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752480" y="1828800"/>
            <a:ext cx="19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ΤΑΘΕΡΕ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676520" y="34290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ΑΓΜΑΤΙΚΕ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800600" y="5486400"/>
            <a:ext cx="4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1752480" y="594360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ΕΛΟΣ_ΠΡΟΓΡΑΜΜΑΤ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985F-7068-430A-86C2-84C8AC4E1D82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19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20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7D3-7623-4B15-B7D2-00714EFAB9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21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Συμβουλές – Υποδείξεις 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 προγράμματα πρέπει να είναι απλά και κατανοητά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 ονόματα σταθερών – μεταβλητών να υπονοούν τη χρήση του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ενές γραμμές και σχόλια για αναγνωσιμότητα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λληλη χρήση σταθερών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χικοποίηση μεταβλητών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φυγή πολύπλοκων υπολογισμών – διαίρεσή τους σε απλού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F7FD-EC1D-4A17-BE00-48693BCFFB1B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2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2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8C2-DAD3-47E8-AA0B-558A6B9E040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428" name="Picture 16" descr=""/>
          <p:cNvPicPr/>
          <p:nvPr/>
        </p:nvPicPr>
        <p:blipFill>
          <a:blip r:embed="rId1"/>
          <a:stretch/>
        </p:blipFill>
        <p:spPr>
          <a:xfrm>
            <a:off x="1790640" y="1690560"/>
            <a:ext cx="7886880" cy="3434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228600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Γ, Β, Α, Δ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220968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Β, Γ, Δ, Α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5DC-B486-498D-81CE-42FDCCA48640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33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34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F277-D5AD-4481-AB06-F8ED2BBD2D6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pSp>
        <p:nvGrpSpPr>
          <p:cNvPr id="435" name="Group 25"/>
          <p:cNvGrpSpPr/>
          <p:nvPr/>
        </p:nvGrpSpPr>
        <p:grpSpPr>
          <a:xfrm>
            <a:off x="1600200" y="1457280"/>
            <a:ext cx="8238960" cy="4562280"/>
            <a:chOff x="1600200" y="1457280"/>
            <a:chExt cx="8238960" cy="4562280"/>
          </a:xfrm>
        </p:grpSpPr>
        <p:pic>
          <p:nvPicPr>
            <p:cNvPr id="436" name="Picture 23" descr=""/>
            <p:cNvPicPr/>
            <p:nvPr/>
          </p:nvPicPr>
          <p:blipFill>
            <a:blip r:embed="rId1"/>
            <a:stretch/>
          </p:blipFill>
          <p:spPr>
            <a:xfrm>
              <a:off x="1600200" y="1457280"/>
              <a:ext cx="8238960" cy="34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24" descr=""/>
            <p:cNvPicPr/>
            <p:nvPr/>
          </p:nvPicPr>
          <p:blipFill>
            <a:blip r:embed="rId2"/>
            <a:stretch/>
          </p:blipFill>
          <p:spPr>
            <a:xfrm>
              <a:off x="1609560" y="4886280"/>
              <a:ext cx="822924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7315200" y="22701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μεταβλητές</a:t>
            </a:r>
            <a:endParaRPr b="0" lang="en-US" sz="2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6477120" y="271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ΕΛΟΣ_ΠΡΟΓΡΑΜΜΑΤΟΣ και 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ΟΝΟΜΑ</a:t>
            </a:r>
            <a:endParaRPr b="0" lang="en-US" sz="1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2286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Λάθος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228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2286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ωστό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341-2E24-425F-A0C1-3D1DAF2E0DC3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6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47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304-EF60-4455-97E1-17278C38A64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48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52388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ες από τις παρακάτω εντολές δίνουν σαν αποτέλεσμα εκτέλεσης το μήνυμα: Η τιμή είναι 100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. Τιμή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‘Η τιμή είναι’ 100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. ΓΡΑΨΕ ‘Η τιμή είναι’, Τιμή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Ã. Τιμή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‘Η τιμή είναι’, 100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. Τιμή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‘Η τιμή είναι’, Τιμή</a:t>
            </a: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1523880" y="5072040"/>
            <a:ext cx="4343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26BE-4330-4B41-83FE-188E8986EED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54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55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2865-DF3E-45CA-9D04-9E848A2060C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56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60020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Μετά την εκτέλεση της εντολ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*(Χ-3)+Χ^3-2+Ζ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οια είναι η τιμή της μεταβλητής Y, αν Χ=5 και Ζ=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. 35   Β. 134   Γ. 22   Δ. 148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3581280" y="3505320"/>
            <a:ext cx="114300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DE4-A4F2-42D9-82FB-EC3F1FDC840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62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63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6D1-C599-4B03-9E6F-9B7F89343C2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64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60020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Τι θα τυπώσουν οι παρακάτω εντολές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+Τ_Ρ(Α)*3/10)^2-(Α+50)/5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ΡΑΨΕ Χ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. 22   Β. –5   Γ. 10   Δ.25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3505320" y="4572000"/>
            <a:ext cx="99036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590-6325-4078-9D56-5BB6D48697BA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1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42D-7205-4BE8-A540-7C58CB3508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Τύποι δεδομένων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Ακέραιος τύπος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Όπως στα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μαθηματικά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Οι ακέραιοι μπορούν να είναι θετικοί, αρνητικοί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ή μηδέν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Πραγματικός τύπος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Όπως στα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μαθηματικά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Οι αριθμοί 3.14159,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71828, -112.45, 0.45 είναι πραγματικοί αριθμοί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Λογικός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Αυτός ο τύπος δέχεται μόνο δύο τιμές ΑΛΗΘΗΣ και ΨΕΥΔΗΣ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Οι τιμές αντιπροσωπεύουν αληθείς ή ψευδείς συνθήκες</a:t>
            </a:r>
            <a:endParaRPr b="0" lang="en-US" sz="30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DE40-3633-4C94-9CBC-635E90433EB8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0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1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DA3-EFE2-4D4C-8BD1-E7A3772F94C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72" name="Object 0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60020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Σε ένα πρόγραμμα έχουμε μια μεταβλητή Πλήθος την οποία θέλουμε να αυξήσουμε κατά μία μονάδα. Ποια από τις εντολές έχει σαν αποτέλεσμα την αύξηση αυτή;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. Πλήθος+1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λήθος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. Πλήθος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. Πλήθος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λήθος+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. Πλήθος = Πλήθος +1</a:t>
            </a:r>
            <a:endParaRPr b="0" lang="en-US" sz="28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595520" y="4071960"/>
            <a:ext cx="36432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627-AC91-4E51-8DCF-AA4884CA27A6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7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08AE-BA2F-4783-8122-9FBAB83546F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480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3"/>
          <p:cNvSpPr/>
          <p:nvPr/>
        </p:nvSpPr>
        <p:spPr>
          <a:xfrm>
            <a:off x="0" y="-228600"/>
            <a:ext cx="990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Τεστ αυτοαξιολόγησης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483" name="Picture 9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7924680" cy="348624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0"/>
          <p:cNvSpPr/>
          <p:nvPr/>
        </p:nvSpPr>
        <p:spPr>
          <a:xfrm>
            <a:off x="2362320" y="2743200"/>
            <a:ext cx="152388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2362320" y="3200400"/>
            <a:ext cx="19047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724280" y="3200400"/>
            <a:ext cx="182880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086600" y="3200400"/>
            <a:ext cx="129528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2362320" y="4191120"/>
            <a:ext cx="68580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2362320" y="4648320"/>
            <a:ext cx="152388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6934320" y="4648320"/>
            <a:ext cx="16761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BBA3-2404-4CF2-9D61-8F14EE79B8C9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4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D07-1A8B-4334-835C-BC2B43A3E2B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Τύποι δεδομένων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1371600"/>
            <a:ext cx="8382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Χαρακτήρα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Ο τύπος αυτός αναφέρεται τόσο σε ένα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ν οποιδήποτ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χαρακτήρα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σειρά χαρακτήρων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Παραδείγματα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χαρακτήρων είναι ‘Κ’, ‘Κώστας’, ‘σήμερα είναι Τετάρτη’, ‘Τα πολλαπλάσια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του 15 είναι’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Οι χαρακτήρες πρέπει υποχρεωτικά να βρίσκονται μέσα σε απλά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ή διπλά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εισαγωγικά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Τα δεδομένα αυτού του τύπου, επειδή περιέχουν τόσο αλφαβητικούς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όσο και αριθμητικούς χαρακτήρες, ονομάζονται συχνά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αλφαριθμητικά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A81-4983-4EE3-8ACE-98290BB8385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5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1AAC-F967-4D9D-A574-61DA45C54FD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Τύποι δεδομένων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523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ν πραγματικότητα τα δεδομένα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αχωρούνται στη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νήμη του υπολογιστή καταλαμβάνοντας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υγκεκριμένο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ό θέσεων (bytes)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ογα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 τον τύπο του δεδομένου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ι το διατιθέμενο αριθμό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ποικίλει και το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ύρος τιμών που μπορούν να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άβουν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σι στον υπολογιστή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θέτουμε ένα υποσύνολο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κεραίων ή πραγματικών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ιθμών. Συνήθεις τύποι δεδομένων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ις διάφορες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λώσσες προγραμματισμού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ίναι ο ακέραιος (integer) σε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 ή 4 bytes και ο πραγματικός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l) σε 4 ή 8 bytes</a:t>
            </a:r>
            <a:endParaRPr b="0" lang="en-US" sz="2600" spc="-1" strike="noStrike">
              <a:solidFill>
                <a:srgbClr val="000000"/>
              </a:solidFill>
              <a:latin typeface="UB-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BFE-6C71-455C-8E34-E7F1C73EC3F4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2" name="4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3" name="5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084-5154-4C8C-B3CF-0E3AD5E97A0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ο αλφάβητο της ΓΛΩΣΣ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Τύποι δεδομέν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αθε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Μεταβλη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οί τελεστ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Αριθμητικές εκφράσει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ή εκχώρ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Εντολές εισόδου – εξόδ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9933"/>
                </a:solidFill>
                <a:latin typeface="Times New Roman"/>
              </a:rPr>
              <a:t>Δομή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52280" y="609480"/>
            <a:ext cx="9753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Κεφάλαιο </a:t>
            </a: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7</a:t>
            </a: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 : </a:t>
            </a:r>
            <a:br>
              <a:rPr sz="4000"/>
            </a:br>
            <a:r>
              <a:rPr b="1" lang="el-GR" sz="4000" spc="-1" strike="noStrike">
                <a:solidFill>
                  <a:srgbClr val="996633"/>
                </a:solidFill>
                <a:latin typeface="Arial"/>
              </a:rPr>
              <a:t>Βασικά στοιχεία προγραμματισμού</a:t>
            </a:r>
            <a:endParaRPr b="0" lang="en-US" sz="40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66" name="Picture 4" descr="E:\PI\AEPPBook\Graphics\Icons\Finals\Anakefaleosi.jpg"/>
          <p:cNvPicPr/>
          <p:nvPr/>
        </p:nvPicPr>
        <p:blipFill>
          <a:blip r:embed="rId1"/>
          <a:stretch/>
        </p:blipFill>
        <p:spPr>
          <a:xfrm>
            <a:off x="7620120" y="4952880"/>
            <a:ext cx="1485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 - Θέση ημερομηνίας"/>
          <p:cNvSpPr/>
          <p:nvPr/>
        </p:nvSpPr>
        <p:spPr>
          <a:xfrm>
            <a:off x="1604880" y="6400800"/>
            <a:ext cx="19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CD04-9F3E-4F88-9866-6F6C6B531C2C}" type="datetime"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8" name="2 - Θέση υποσέλιδου"/>
          <p:cNvSpPr/>
          <p:nvPr/>
        </p:nvSpPr>
        <p:spPr>
          <a:xfrm>
            <a:off x="3429000" y="64008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996633"/>
                </a:solidFill>
                <a:latin typeface="Times New Roman"/>
              </a:rPr>
              <a:t>Ανάπτυξη Εφαρμογών σε Προγραμματιστικό Περιβάλλον</a:t>
            </a:r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937260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1FCF-35F6-49E8-A9B2-9DE7E2DFCE0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B-Optima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3124080" y="1906560"/>
          <a:ext cx="6400800" cy="72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6560"/>
                    <a:ext cx="6400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3"/>
          <p:cNvSpPr/>
          <p:nvPr/>
        </p:nvSpPr>
        <p:spPr>
          <a:xfrm>
            <a:off x="0" y="304920"/>
            <a:ext cx="990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996633"/>
                </a:solidFill>
                <a:latin typeface="Arial"/>
              </a:rPr>
              <a:t>Σταθερές</a:t>
            </a:r>
            <a:endParaRPr b="0" lang="en-US" sz="3600" spc="-1" strike="noStrike">
              <a:solidFill>
                <a:srgbClr val="000000"/>
              </a:solidFill>
              <a:latin typeface="UB-Optim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3"/>
          <a:stretch/>
        </p:blipFill>
        <p:spPr>
          <a:xfrm>
            <a:off x="1752480" y="1528920"/>
            <a:ext cx="4800600" cy="30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4"/>
          <a:stretch/>
        </p:blipFill>
        <p:spPr>
          <a:xfrm>
            <a:off x="1752480" y="1523880"/>
            <a:ext cx="78487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06:16:35Z</dcterms:created>
  <dc:creator/>
  <dc:description/>
  <dc:language>en-US</dc:language>
  <cp:lastModifiedBy>GEORGIA</cp:lastModifiedBy>
  <cp:lastPrinted>1999-09-16T12:14:22Z</cp:lastPrinted>
  <dcterms:modified xsi:type="dcterms:W3CDTF">2008-10-29T20:23:02Z</dcterms:modified>
  <cp:revision>1788</cp:revision>
  <dc:subject/>
  <dc:title>ΑΝΑΠΤΥΞΗ ΕΦΑΡΜΟΓΩΝ ΣΕ ΠΡΟΓΡΑΜΜΑΤΙΣΤΙΚΟ ΠΕΡΙΒΑΛΛΟΝ</dc:title>
</cp:coreProperties>
</file>