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907588" cy="6858000"/>
  <p:notesSz cx="6872288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72400" cy="96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94120" y="-360"/>
            <a:ext cx="29764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821880" y="723960"/>
            <a:ext cx="522612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5480" y="4584600"/>
            <a:ext cx="5038920" cy="4345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170640"/>
            <a:ext cx="29764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94120" y="9170640"/>
            <a:ext cx="297648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EB43-37D8-45CB-83DD-C101EA80C658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94120" y="9171000"/>
            <a:ext cx="297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9FB-0BED-4588-8458-481EC041986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94120" y="9171000"/>
            <a:ext cx="297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191-C195-49A3-B907-EC6C5390AC31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94120" y="9171000"/>
            <a:ext cx="297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D86B-5D89-4E1C-A584-224483AE59AD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94120" y="9171000"/>
            <a:ext cx="297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AFA-512A-4431-BF44-FD3FC96C642C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A2E-EB20-4C08-9375-81124D80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C55-347F-4AE5-8DA7-5BAE892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545-8739-407B-B8FD-32717BE3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970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9028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6034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3970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19028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2D1-EFAA-490D-BB02-B5E79B86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F336-F950-42C5-AF95-B81FED13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21E-208F-497D-B4F8-334843E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6DB-F943-460D-BA63-EDED87C5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7C49-DF4F-42C5-8219-F58EA0FC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818-789E-41E8-897C-C18045FB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711080" y="-3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F34-94DE-4FD4-A287-D538F520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9B31-21BF-4E12-9C5C-526A2F5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857-D478-4281-AF28-86D4BF4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4447-AD17-44E2-974B-27BAE99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0A8-BBC3-4365-B4BB-D801000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4561-291C-427D-AF6C-B043C28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600-EE24-4854-8150-66C3DF2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970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9028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6034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3970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19028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A37B-DD69-4837-BAFF-BC80F6F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47A-15C2-4A0D-AF81-EA0CBC8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32B-F567-4A4A-AD73-2B7F675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10F-E2C6-4D88-955B-861D540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11080" y="-3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820-3F7A-4892-90FE-BAFC0A93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EB2-96E7-478A-A1AF-E37977C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322-8B01-4E7F-A964-2DFBD62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9E6-FFE3-447C-8546-58BA0A4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2"/>
          <p:cNvSpPr/>
          <p:nvPr/>
        </p:nvSpPr>
        <p:spPr>
          <a:xfrm>
            <a:off x="9372600" y="6394320"/>
            <a:ext cx="533520" cy="46368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1587600" cy="6856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3"/>
          <a:stretch/>
        </p:blipFill>
        <p:spPr>
          <a:xfrm>
            <a:off x="9360" y="49320"/>
            <a:ext cx="1582920" cy="1498320"/>
          </a:xfrm>
          <a:prstGeom prst="rect">
            <a:avLst/>
          </a:prstGeom>
          <a:ln w="0">
            <a:noFill/>
          </a:ln>
        </p:spPr>
      </p:pic>
      <p:sp>
        <p:nvSpPr>
          <p:cNvPr id="3" name="Freeform 6"/>
          <p:cNvSpPr/>
          <p:nvPr/>
        </p:nvSpPr>
        <p:spPr>
          <a:xfrm>
            <a:off x="9360" y="162396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9360" y="331308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9360" y="501660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712880" y="1154160"/>
            <a:ext cx="8191440" cy="168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717560" y="132876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8" name="Line 12"/>
          <p:cNvSpPr/>
          <p:nvPr/>
        </p:nvSpPr>
        <p:spPr>
          <a:xfrm>
            <a:off x="1717560" y="129060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9" name="Line 13"/>
          <p:cNvSpPr/>
          <p:nvPr/>
        </p:nvSpPr>
        <p:spPr>
          <a:xfrm>
            <a:off x="1717560" y="124308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0" name="Line 14"/>
          <p:cNvSpPr/>
          <p:nvPr/>
        </p:nvSpPr>
        <p:spPr>
          <a:xfrm>
            <a:off x="1719360" y="118728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1" name="Freeform 15"/>
          <p:cNvSpPr/>
          <p:nvPr/>
        </p:nvSpPr>
        <p:spPr>
          <a:xfrm>
            <a:off x="1708200" y="1143000"/>
            <a:ext cx="8194680" cy="189000"/>
          </a:xfrm>
          <a:prstGeom prst="pie">
            <a:avLst/>
          </a:pr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721F-72D4-43F8-B657-3BBF2D450C1D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B5E-0365-4376-9162-885789D89FB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849600" cy="6856560"/>
            <a:chOff x="0" y="0"/>
            <a:chExt cx="9849600" cy="6856560"/>
          </a:xfrm>
        </p:grpSpPr>
        <p:grpSp>
          <p:nvGrpSpPr>
            <p:cNvPr id="54" name="Group 3"/>
            <p:cNvGrpSpPr/>
            <p:nvPr/>
          </p:nvGrpSpPr>
          <p:grpSpPr>
            <a:xfrm>
              <a:off x="1654200" y="3090960"/>
              <a:ext cx="8195400" cy="188640"/>
              <a:chOff x="1654200" y="3090960"/>
              <a:chExt cx="8195400" cy="188640"/>
            </a:xfrm>
          </p:grpSpPr>
          <p:sp>
            <p:nvSpPr>
              <p:cNvPr id="55" name="Rectangle 4"/>
              <p:cNvSpPr/>
              <p:nvPr/>
            </p:nvSpPr>
            <p:spPr>
              <a:xfrm>
                <a:off x="1659240" y="3101760"/>
                <a:ext cx="819036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6" name="Line 5"/>
              <p:cNvSpPr/>
              <p:nvPr/>
            </p:nvSpPr>
            <p:spPr>
              <a:xfrm>
                <a:off x="1662480" y="327636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7" name="Line 6"/>
              <p:cNvSpPr/>
              <p:nvPr/>
            </p:nvSpPr>
            <p:spPr>
              <a:xfrm>
                <a:off x="1662480" y="323820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1662480" y="319068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9" name="Line 8"/>
              <p:cNvSpPr/>
              <p:nvPr/>
            </p:nvSpPr>
            <p:spPr>
              <a:xfrm>
                <a:off x="1662480" y="313668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1654200" y="3090960"/>
                <a:ext cx="819360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</p:grpSp>
        <p:grpSp>
          <p:nvGrpSpPr>
            <p:cNvPr id="61" name="Group 10"/>
            <p:cNvGrpSpPr/>
            <p:nvPr/>
          </p:nvGrpSpPr>
          <p:grpSpPr>
            <a:xfrm>
              <a:off x="0" y="0"/>
              <a:ext cx="1594800" cy="6856560"/>
              <a:chOff x="0" y="0"/>
              <a:chExt cx="1594800" cy="6856560"/>
            </a:xfrm>
          </p:grpSpPr>
          <p:sp>
            <p:nvSpPr>
              <p:cNvPr id="62" name="Rectangle 11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grpSp>
            <p:nvGrpSpPr>
              <p:cNvPr id="63" name="Group 12"/>
              <p:cNvGrpSpPr/>
              <p:nvPr/>
            </p:nvGrpSpPr>
            <p:grpSpPr>
              <a:xfrm>
                <a:off x="0" y="65160"/>
                <a:ext cx="1594800" cy="6405480"/>
                <a:chOff x="0" y="65160"/>
                <a:chExt cx="1594800" cy="6405480"/>
              </a:xfrm>
            </p:grpSpPr>
            <p:pic>
              <p:nvPicPr>
                <p:cNvPr id="64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58148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Freeform 14"/>
                <p:cNvSpPr/>
                <p:nvPr/>
              </p:nvSpPr>
              <p:spPr>
                <a:xfrm>
                  <a:off x="65160" y="65160"/>
                  <a:ext cx="1529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  <p:sp>
              <p:nvSpPr>
                <p:cNvPr id="66" name="Freeform 15"/>
                <p:cNvSpPr/>
                <p:nvPr/>
              </p:nvSpPr>
              <p:spPr>
                <a:xfrm>
                  <a:off x="10080" y="3313080"/>
                  <a:ext cx="1530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  <p:sp>
              <p:nvSpPr>
                <p:cNvPr id="67" name="Freeform 16"/>
                <p:cNvSpPr/>
                <p:nvPr/>
              </p:nvSpPr>
              <p:spPr>
                <a:xfrm>
                  <a:off x="10080" y="5016600"/>
                  <a:ext cx="1530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</p:grp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65096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F428-463B-4990-9654-DCAB31755CC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946680" y="6350040"/>
            <a:ext cx="373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00748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EF83-07BA-4EBC-9CEC-08699713A674}" type="slidenum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ΑΝΑΠΤΥΞΗ ΕΦΑΡΜΟΓΩΝ ΣΕ ΠΡΟΓΡΑΜΜΑΤΙΣΤΙΚΟ ΠΕΡΙΒΑΛΛΟΝ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2743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ahoma"/>
              </a:rPr>
              <a:t>Συγγραφεί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Α.Βακά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Η. Γιαννόπου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Ν. Ιωαννίδ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Χ.Κοίλι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Κ. Μάλαμ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Ι. Μανωλόπου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Π. Πολίτη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E:\CLIPART\COMPUTER\COMP6.GIF"/>
          <p:cNvPicPr/>
          <p:nvPr/>
        </p:nvPicPr>
        <p:blipFill>
          <a:blip r:embed="rId1"/>
          <a:stretch/>
        </p:blipFill>
        <p:spPr>
          <a:xfrm>
            <a:off x="7086600" y="4724280"/>
            <a:ext cx="2054160" cy="175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295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Γ΄ τάξη Τεχνολογικής  Κατεύθυν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Ενιαίου Λυκείου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267080" y="4038480"/>
            <a:ext cx="5791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Διδάσκων: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</a:rPr>
              <a:t>Τσιωτάκης Παναγιώτη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6E0-2835-409D-8292-A9165BC34DAE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9F5-026C-4D51-AAE5-C560E4EDCBC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81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0968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ημέν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όμβ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ιστοιχ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χωριά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δέσε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ιστοιχ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δικ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τηρία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ώνουν 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ά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έραι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αρακτηρίζ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δέσε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αξύ 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ύκλ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ουσιάζ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ίστοιχε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ιλιομετρικ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στάσει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αξύ 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0C9-7C33-45A2-A2C1-BEB81B3C844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BDD-C50C-4BA7-9E63-B81D5078A86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89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133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οθέσουμ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νομέα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εκιν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χωρι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έβαι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έπ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αλήξ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φο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ισκεφθε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ά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όβλημ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πορ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άρξ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άφορε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εγγίσεις γι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9C2-C7BB-4783-ADFD-7FB794C8789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4E7-63FB-4569-863B-EA3C214C70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97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295280"/>
            <a:ext cx="7391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ια πρώτη ανάλυση: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ίνε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αγραφή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λ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στάσε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αξύ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ξινομηθού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δέσει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ύξουσ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ιλιομετρική απόσταση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ιλέγετα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ορ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άβαση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ό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που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ρίσκετα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 διανομέα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ησιέστερ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ό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AA5-56FB-47D9-85F1-CF4FCCAF13BB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922-CE7C-43A4-9E8A-7546B23488B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05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13372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άση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απάνω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ήματ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νομέα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λεγ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ή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ειρά επίσκεψ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209680" y="4648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νύοντα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ολικ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ιλιόμετρα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4"/>
          <a:stretch/>
        </p:blipFill>
        <p:spPr>
          <a:xfrm>
            <a:off x="2819520" y="3335400"/>
            <a:ext cx="6000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5D4F-C58C-442A-A9B5-42303A9C35C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30DF-6EFD-4D54-9620-F6E2738EBC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15" name="Object 2048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8" name="Rectangle 1028"/>
          <p:cNvSpPr/>
          <p:nvPr/>
        </p:nvSpPr>
        <p:spPr>
          <a:xfrm>
            <a:off x="22860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ια διαφορετική ανάλυση: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ίνε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αγραφή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λ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στάσε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αξύ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ρεθεί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ί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ειρ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σκεψ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όχ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αχιστοποίηση τ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ολική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στασ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χι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αχιστοποίηση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 φορ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στασης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19" name="Picture 1029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3C4-165E-4394-826F-A2DFFA85E10E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7FC-6EB2-46BC-84CD-363B21F824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23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13372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άση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απάνω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ήματ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νομέα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α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λεγε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ή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ειρά επίσκεψη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ών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0" y="1523880"/>
            <a:ext cx="2209680" cy="1603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20968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3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νύοντας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ολικά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ιλιόμετρα.</a:t>
            </a:r>
            <a:endParaRPr b="0" lang="en-US" sz="31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4"/>
          <a:stretch/>
        </p:blipFill>
        <p:spPr>
          <a:xfrm>
            <a:off x="2743200" y="3276720"/>
            <a:ext cx="62485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51CE-3963-44B4-AA29-565F624AFBE0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A4D-1B72-44D0-AB3C-4FC7944E0D7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33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60020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ομένω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ανερ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ο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αραίτητ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έτσ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ώστ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ζητηθεί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έ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λληλ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έχει 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ητούμεν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ύση,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σ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ίνετ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χύτερα,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ιγότερ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υνατ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όστος σ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ολογιστικού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όρου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4B3F-B2B0-4732-BC36-6507D252C08D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381-7D53-44D1-840B-6EC5C48F21F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40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άρχ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ιαίο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νόνα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ί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ική φόρμουλ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φέρετ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όλ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ημάτων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άρχ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μω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γγεν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λαδ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 μπορ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λυθ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όμοι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ρόπ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ιμετωπισθ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ίστοιχε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θόδου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χνικές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503-1E1E-453D-A285-F292E121EE2D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377-64FA-4154-92CA-8AE59A45DFF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47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ικότερ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η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ς 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ημά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ουσιάζ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διαίτερ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διαφέρο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ής λόγου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έχου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ικ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ότυπ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λληλ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ημάτων ευρεία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λίμακα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πορού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παρασταθού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οινέ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ομέ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δομένω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έγχο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οστηρίζοντ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σσότερ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ύγχρον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ώσ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γραμματισμ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665000" y="5867280"/>
            <a:ext cx="13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BAE-4F73-4525-A92C-FAB9A4D3D0FD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BD2A-B68F-4ED8-AD62-9EB3E5BD3CB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55" name="Object 2048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8" name="Rectangle 1028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ικότερ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η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ς 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ημά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ουσιάζ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διαίτερ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διαφέρο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ής λόγου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έχου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υνατότητ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αγραφ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ρον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ω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αιτήσεων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θόδ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τσ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ώστ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πορε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ίν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ακριβής εκτίμη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ω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τελεσμάτων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2764-C93B-4B42-B355-B96764DC1D5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2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3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203-AB2F-40F6-B093-6229FCB3B04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00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νάλυση προβλημάτω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9933"/>
                </a:solidFill>
                <a:latin typeface="Times New Roman"/>
              </a:rPr>
              <a:t>Μέθοδοι σχεδίασης αλγορίθμω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6320" y="609480"/>
            <a:ext cx="975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4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χνικές Σχεδίασης Αλγορίθμων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26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6934320" y="388620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8D4-B58C-4AAD-9F5E-C58AD211C81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0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1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DDD-A9AE-4BBB-90BB-4C776EC8B9A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600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9933"/>
                </a:solidFill>
                <a:latin typeface="Times New Roman"/>
              </a:rPr>
              <a:t>Ανάλυση προβλημάτω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έθοδοι σχεδίασης αλγορίθμω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6320" y="609480"/>
            <a:ext cx="975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4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χνικές Σχεδίασης Αλγορίθμων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64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6934320" y="388620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14E-ADC8-4533-9505-0D895F48261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FA4-EA8C-41BA-A7A0-5CEAE42883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68" name="Object 2048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Μέθοδοι Σχεδίασης Αλγοριθμ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1" name="Rectangle 1028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ύση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ό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ο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κύπτ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ή τ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δηγ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χεδίασ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ό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λγορίθμ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ιστ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ία βημάτ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έπ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ηθού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ιλυθε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όβλημα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άρχου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ρικ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χνικ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χν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ρησιμοποιούντ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ηθώρα προβλημάτων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E8A-79C3-4FEC-9BED-845047A2951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2A4-0FF6-49EB-921F-17AF895C32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75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Μέθοδοι Σχεδίασης Αλγοριθμ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8" name="Rectangle 1028"/>
          <p:cNvSpPr/>
          <p:nvPr/>
        </p:nvSpPr>
        <p:spPr>
          <a:xfrm>
            <a:off x="160020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νικότερ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άθ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χνικ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ρειάζετ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οστηρίζ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ή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τιμετωπίζ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κ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ρόπ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δομένα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χ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τολών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θέτ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δοτικότητα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ομένω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χνικ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χε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κ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αρακτηριστικ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διαιτερότητες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218A-68B8-407A-A99E-44C303B149EE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0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1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9A2-9563-45D5-A89F-5273DDE460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82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Μέθοδοι Σχεδίασης Αλγοριθμ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5" name="Rectangle 1028"/>
          <p:cNvSpPr/>
          <p:nvPr/>
        </p:nvSpPr>
        <p:spPr>
          <a:xfrm>
            <a:off x="160020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ιβλιογραφί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αφέρονται αρκετ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υποποιημένε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ηγορίε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χνικώ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μω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αίσια τ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ιβλίο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ο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ετάσουμ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ρικ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όν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έ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ίρ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ασίλευε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υναμ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γραμματισμού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πλησ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θοδο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δ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εγγίσεω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ετασθε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διαιτέρω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 συνέχεια.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150-7909-4D40-848A-3FFA5221BFDB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58D-B764-4DEB-84EA-C00C9C0CA36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89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102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2" name="Rectangle 1028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Η λύση σε ένα πρόβλημα μπορεί να προέλθει από ποικίλες και διαφορετικές προσεγγίσεις, τεχνικές και μεθόδους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Η ανάλυση ενός προβλήματος σε ένα σύγχρονο υπολογιστικό περιβάλλον περιλαμβάνει την εισαγωγή και εξαγωγή δεδομένων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Δεν υπάρχουν πολλά πρακτικά προβλήματα που να μπορούν να περιγραφούν με τη βοήθεια ενός διαγράμματος ή γράφου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Ο γράφος αποθηκεύεται (συνήθως) στη μνήμη του υπολογιστή με τη βοήθεια ενός δισδιάστατου πίνακα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3" name="Text Box 1029"/>
          <p:cNvSpPr/>
          <p:nvPr/>
        </p:nvSpPr>
        <p:spPr>
          <a:xfrm>
            <a:off x="22860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4" name="Text Box 1030"/>
          <p:cNvSpPr/>
          <p:nvPr/>
        </p:nvSpPr>
        <p:spPr>
          <a:xfrm>
            <a:off x="309600" y="25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5" name="Text Box 1031"/>
          <p:cNvSpPr/>
          <p:nvPr/>
        </p:nvSpPr>
        <p:spPr>
          <a:xfrm>
            <a:off x="309600" y="3786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6" name="Text Box 1032"/>
          <p:cNvSpPr/>
          <p:nvPr/>
        </p:nvSpPr>
        <p:spPr>
          <a:xfrm>
            <a:off x="309600" y="471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6AD-9166-4269-ACB6-331E29D319F8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F211-ED2E-4105-905A-34BB02CF480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00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Υπάρχει ένας ενιαίος κανόνας που να αναφέρεται στην επίλυση του συνόλου των προβλημάτων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Στην κατηγορία διαίρει και βασίλευε εντάσσονται οι τεχνικές που αναλύουν ένα πρόβλημα σε μεγαλύτερα προβλήματα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Ο αλγόριθμος της δυαδικής αναζήτησης εφαρμόζεται σε έναν μη ταξινομημένο πίνακα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Με την τεχνική διαίρει και βασίλευε υποδιαιρείται το στιγμιότυπο του προβλήματος σε υπο-στιγμιότυπα του ίδιου προβλήματος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2860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049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09600" y="33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09600" y="4286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75D-1F0E-4E53-9F6D-8A5507ACC45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E2F-5FC1-45C6-905B-150254A37A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Η ανάλυση προβλημάτων περιλαμβάνει: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 Καταγραφή υπάρχουσας πληροφορίας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) Καταγραφή αποτελεσμάτων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) Αναγνώριση στοιχείων εισόδου του προβλήματος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) Πρόταση για την είσοδο και έξοδο των δεδομένων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600200" y="2057400"/>
            <a:ext cx="586728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956-9597-4784-8C6F-7999B3345EF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07AF-5215-4C21-AAD9-938009D4C4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19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Ένας από τους αλγορίθμους που εντάσσονται στην κατηγορία «διαίρει και βασίλευε» είναι: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 Ταξινόμηση με ευθεία ανταλλαγή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) Ταξινόμηση με ευθεία επιλογή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) Δυαδική αναζήτηση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) Υπολογισμός δύναμης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00200" y="3505320"/>
            <a:ext cx="335268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0F4D-CC51-4015-A0FC-AC92B4290E9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7AC5-5132-4243-9173-27568B63C6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27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60020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Κάθε τεχνική αλγορίθμων πρέπει να έχει: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 Τη δική της υπολογιστική μηχανή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) Τη δική της ακολουθία εντολών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) Τη δική της είσοδο και έξοδο.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) Τη δική της γλώσσα προγραμματισμού.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600200" y="2590920"/>
            <a:ext cx="480060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7109-C50F-4B40-BFF9-A67BF53CD08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3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4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B35-91F8-4D17-8798-9356C755B48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285640" y="29714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996633"/>
                </a:solidFill>
                <a:latin typeface="Arial"/>
              </a:rPr>
              <a:t>Βιβλίο Μαθητ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848720" y="4419720"/>
            <a:ext cx="1485720" cy="1371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76320" y="609480"/>
            <a:ext cx="975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4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Τεχνικές Σχεδίασης Αλγορίθμων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236-4C99-4B6F-8500-4E9B1EAE1B4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2F5-E182-4E18-AA32-1C924D3EF52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30" name="Object 307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30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3075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3" name="Rectangle 3076"/>
          <p:cNvSpPr/>
          <p:nvPr/>
        </p:nvSpPr>
        <p:spPr>
          <a:xfrm>
            <a:off x="1523880" y="14479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λγόριθμος αποσκοπε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ίλυ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ό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ο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ιθανό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όβλημα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ιλύετ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όν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ύ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λλ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σσότερε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τσ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αραίτη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ίνετ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ία καλ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υ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βλήματ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τείνετ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γκεκριμέν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θοδολογία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ημάτων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ασικό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όχο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α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ότασ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ξυπνων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δοτ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ύσεων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2C1-3369-4612-BD9F-99F5C245AD8E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E1FC-FD79-43FD-ACED-BA034B90C61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676520" y="1450800"/>
            <a:ext cx="8153280" cy="47214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152280" y="2514600"/>
            <a:ext cx="9753840" cy="140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Οι μέθοδοι λύσης ενός προβλήματος που προκύπτουν από την ανάλυσή του, οδηγούν στη σχεδίαση ενός αλγορίθμου που συνιστά την ακολουθία βημάτων, που πρέπει να ακολουθηθούν, για να επιλυθεί το πρόβλημα.</a:t>
            </a:r>
            <a:endParaRPr b="0" lang="en-US" sz="19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52280" y="3809880"/>
            <a:ext cx="975384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Κατά την επίλυση ενός προβλήματος, υπάρχει σύγκριση των χαρακτηριστικών και των ιδιοτήτων των τεχνικών που μπορούν να αποτελέσουν πρόταση λύσης του προβλήματος. Το αποτέλεσμα της σύγκρισης των διαφορετικών τεχνικών είναι η επιλογή της καταλληλότερης τεχνικής για την επίλυση του συγκεκριμένου προβλήματος.</a:t>
            </a:r>
            <a:endParaRPr b="0" lang="en-US" sz="19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166680" y="5029200"/>
            <a:ext cx="9739440" cy="140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Η μέθοδος του Δυναμικού Προγραμματισμού για τη σχεδίαση αλγορίθμων χρησιμοποιείται κυρίως για την επίλυση προβλημάτων βελτιστοποίησης, δηλαδή χρησιμοποιείται κυρίως όταν χρειάζεται να βρεθεί το ελάχιστο ή το μέγιστο κάποιου μεγέθους.</a:t>
            </a:r>
            <a:endParaRPr b="0" lang="en-US" sz="19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740B-B211-4A96-B776-423A359AB585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4F7E-FE82-4B3A-90F5-18BDED80AB5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52" name="Picture 17" descr=""/>
          <p:cNvPicPr/>
          <p:nvPr/>
        </p:nvPicPr>
        <p:blipFill>
          <a:blip r:embed="rId1"/>
          <a:srcRect l="1787" t="0" r="1677" b="0"/>
          <a:stretch/>
        </p:blipFill>
        <p:spPr>
          <a:xfrm>
            <a:off x="1523880" y="1523880"/>
            <a:ext cx="8229600" cy="39718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8"/>
          <p:cNvSpPr/>
          <p:nvPr/>
        </p:nvSpPr>
        <p:spPr>
          <a:xfrm>
            <a:off x="2362320" y="2117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άπληστη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3200400" y="2681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πισθοδρόμησης</a:t>
            </a:r>
            <a:endParaRPr b="0" lang="en-US" sz="1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182880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υαδική αναζήτηση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6595920" y="457200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αξινόμηση φυσαλίδας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1905120" y="50133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αξινόμηση με επιλογή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B8F7-67A7-41ED-A054-D7BD824DD75C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D8A-92F1-4518-8582-29B4D888CE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62" name="Picture 11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067600" cy="4495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2"/>
          <p:cNvSpPr/>
          <p:nvPr/>
        </p:nvSpPr>
        <p:spPr>
          <a:xfrm>
            <a:off x="5335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5335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53352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1D05-D8D0-417E-B07E-2A415FDF9B57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CBF-4FC2-47F8-8502-01523BB2F1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676520" y="1371600"/>
            <a:ext cx="8153280" cy="4952880"/>
            <a:chOff x="1676520" y="1371600"/>
            <a:chExt cx="8153280" cy="4952880"/>
          </a:xfrm>
        </p:grpSpPr>
        <p:sp>
          <p:nvSpPr>
            <p:cNvPr id="371" name="Rectangle 17"/>
            <p:cNvSpPr/>
            <p:nvPr/>
          </p:nvSpPr>
          <p:spPr>
            <a:xfrm>
              <a:off x="1676520" y="1371600"/>
              <a:ext cx="8153280" cy="49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B-Optima"/>
              </a:endParaRPr>
            </a:p>
          </p:txBody>
        </p:sp>
        <p:pic>
          <p:nvPicPr>
            <p:cNvPr id="372" name="Picture 14" descr=""/>
            <p:cNvPicPr/>
            <p:nvPr/>
          </p:nvPicPr>
          <p:blipFill>
            <a:blip r:embed="rId1"/>
            <a:srcRect l="3572" t="1487" r="894" b="0"/>
            <a:stretch/>
          </p:blipFill>
          <p:spPr>
            <a:xfrm>
              <a:off x="1676520" y="1371600"/>
              <a:ext cx="8077320" cy="40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5" descr=""/>
            <p:cNvPicPr/>
            <p:nvPr/>
          </p:nvPicPr>
          <p:blipFill>
            <a:blip r:embed="rId2"/>
            <a:srcRect l="3032" t="0" r="0" b="0"/>
            <a:stretch/>
          </p:blipFill>
          <p:spPr>
            <a:xfrm>
              <a:off x="1752120" y="5312880"/>
              <a:ext cx="5736960" cy="95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Rectangle 19"/>
          <p:cNvSpPr/>
          <p:nvPr/>
        </p:nvSpPr>
        <p:spPr>
          <a:xfrm>
            <a:off x="2133720" y="2362320"/>
            <a:ext cx="5790960" cy="304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2133720" y="3505320"/>
            <a:ext cx="70102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2133720" y="3886200"/>
            <a:ext cx="76197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2133720" y="5029200"/>
            <a:ext cx="7010280" cy="3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2133720" y="5334120"/>
            <a:ext cx="7010280" cy="304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2133720" y="5943600"/>
            <a:ext cx="7010280" cy="30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3DC-5B1C-4BDD-B33B-898AE4A7DB4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3CF-6B4B-456A-B902-BC30E2283B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3"/>
          <a:srcRect l="0" t="0" r="2619" b="0"/>
          <a:stretch/>
        </p:blipFill>
        <p:spPr>
          <a:xfrm>
            <a:off x="1676520" y="1447920"/>
            <a:ext cx="8153280" cy="39621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2133720" y="2438280"/>
            <a:ext cx="579096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2133720" y="3276720"/>
            <a:ext cx="761976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2133720" y="3886200"/>
            <a:ext cx="579096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2133720" y="4419720"/>
            <a:ext cx="76197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33D-3176-4067-BBFA-99E6A9399371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CA86-78FC-43FA-83B4-F99A29EB8C3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13716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άλυση ενός προβλήματος σε ένα σύγχρονο υπολογιστικό περιβάλλον περιλαμβάνει :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καταγραφή της υπάρχουσας πληροφορίας για το πρόβλημα,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αναγνώριση των ιδιαιτεροτήτων του προβλήματος,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αποτύπωση των συνθηκών και προϋποθέσεων υλοποίησής του,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65000" y="5867280"/>
            <a:ext cx="13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2908-0903-4B26-91C9-1591FA477D3C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0BAD-37B6-4D6C-9ED5-E2955001403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600200" y="137160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ανάλυση ενός προβλήματος σε ένα σύγχρονο υπολογιστικό περιβάλλον περιλαμβάνει: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523880" y="3124080"/>
            <a:ext cx="8382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πρόταση επίλυσης με χρήση κάποιας μεθόδου,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τελική επίλυση με χρήση υπολογιστικών συστημάτων.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DAC-2C8F-423B-9BA6-F3DF1341DA2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3CF8-23C9-431E-B14B-2EA10072C59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τσι, κατά την ανάλυση ενός προβλήματος θα πρέπει να δοθεί απάντηση σε κάθε μία από τις επόμενες ερωτήσεις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α είναι τα δεδομένα και το μέγεθος του προβλήματος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ες είναι οι συνθήκες που πρέπει να πληρούνται για την επίλυση του προβλήματος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α είναι η πλέον αποδοτική μέθοδος επίλυσής τους (σχεδίαση αλγορίθμου)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5320" y="5927760"/>
            <a:ext cx="13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7725-63F5-4607-BE38-FB5F1557C52D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F0A-2F79-499C-93BB-815DB666689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Ανάλυση Προβλημάτων</a:t>
            </a:r>
            <a:endParaRPr b="0" lang="en-US" sz="3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τσι, κατά την ανάλυση ενός προβλήματος θα πρέπει να δοθεί απάντηση σε κάθε μία από τις επόμενες ερωτήσεις: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lvl="1" marL="76212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523880" y="3581280"/>
            <a:ext cx="83822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ώς θα καταγραφεί η λύση σε ένα πρόβλημα (π.χ. σε ψευδογλώσσα)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ος είναι ο τρόπος υλοποίησης στο συγκεκριμένο υπολογιστικό σύστημα (π.χ. επιλογή γλώσσας προγραμματισμού)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4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961-7415-4019-81A4-91F2DC43F2A5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7" name="5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8" name="6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D44-F982-47CD-9CAB-DB768B782D7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i="1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0" name="Picture 4" descr="E:\PI\AEPPBook\Graphics\Icons\Finals\ErotisiGiaProxorimenous.jpg"/>
          <p:cNvPicPr/>
          <p:nvPr/>
        </p:nvPicPr>
        <p:blipFill>
          <a:blip r:embed="rId1"/>
          <a:stretch/>
        </p:blipFill>
        <p:spPr>
          <a:xfrm>
            <a:off x="89154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600200" y="342900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ιθανές λύσει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θε φορά να διαλέγει τον κοντινότερο προορισμό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ακολουθήσει ένα δρομολόγιο που να  ελαχιστοποιεί τη συνολική απόσταση και όχι τις επιμέρους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rcRect l="1161" t="7267" r="1452" b="5463"/>
          <a:stretch/>
        </p:blipFill>
        <p:spPr>
          <a:xfrm>
            <a:off x="1676520" y="1447920"/>
            <a:ext cx="70866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4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075-ED51-42B4-A7E0-545AAD6C574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4" name="5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5" name="6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3530-4CC2-45C7-B663-3D5437C0774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Το πρόβλημα του ταχυδρόμου</a:t>
            </a:r>
            <a:endParaRPr b="0" i="1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66294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06:16:35Z</dcterms:created>
  <dc:creator>GEORGIA</dc:creator>
  <dc:description/>
  <dc:language>en-US</dc:language>
  <cp:lastModifiedBy>GEORGIA</cp:lastModifiedBy>
  <cp:lastPrinted>1999-09-16T12:14:22Z</cp:lastPrinted>
  <dcterms:modified xsi:type="dcterms:W3CDTF">2009-01-21T18:06:25Z</dcterms:modified>
  <cp:revision>1567</cp:revision>
  <dc:subject/>
  <dc:title>ΑΝΑΠΤΥΞΗ ΕΦΑΡΜΟΓΩΝ ΣΕ ΠΡΟΓΡΑΜΜΑΤΙΣΤΙΚΟ ΠΕΡΙΒΑΛΛΟΝ</dc:title>
</cp:coreProperties>
</file>