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82F-1843-4336-A40E-F3802E8A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BAB-04E3-41BF-A7D4-EDF563F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B50-601B-40DB-B0C9-EDF49DB9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DE8-6E12-4078-8620-AD8F7214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9A04-4F4C-4D13-9AC9-C38F163C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241-6D56-4713-9E3C-B3A9A06D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67A7-F081-4AD1-B6C0-3C5BBAE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DB8-89C6-4B41-8C6E-EEFF6BD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2DB8-9A40-442E-9A14-FA2B282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64FD-3529-45DC-9F34-6AD70EB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800-6864-4219-96A3-582FFFE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F65-D739-4AC8-816B-4FAA703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F063-7F66-4E87-92C8-DFAC9F5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D0B-D7B8-44C1-B8CC-F092C4C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775-915F-485E-8677-E4B15E2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4B6-ACBA-4831-B394-2D50EBA8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9C4-C480-4DC3-AB58-20057EB6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684-CF50-47AE-8671-61A9D921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7FF-A063-4E3E-8469-E9B50CCF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CB4-E3FB-43BE-B2DC-6A3C57A7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364-E129-421D-8E92-37332B0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4BD-8B33-4059-9FCD-6C6B839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3DF-08A6-43BE-B699-22BECD6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4CB-19BD-4382-B847-39F99AF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B75-23B5-46D4-B3D1-FF66C94E802B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6A3-06F2-4D24-91A4-AD26083FDE7D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ΓΡΑΠΤΕΣ ΕΞΕΤΑΣΕΙΣ ΜΑΘΗΜΑΤΙΚΩΝ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ΛΥΚΕΙ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ΜΑΪΟΣ  201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Oι απαντήσεις των ερωτήσεων θεωρία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1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θέμα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ρέπε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προκύπτουν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άμεσ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ό τη θεωρία που υπάρχει στα σχολικά βιβλί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μπαίνει δηληδή θέμα που να χρειάζεται υπολογιστική ή αποδεικτική διαδικασί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ασκήσεις και οι ερωτήσεις των θεμάτων των προαγωγικών και απολυτήριων εξετάσεων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πρέπει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αφεί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ατανοητέ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χωρίς να χρειάζοντ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διαίτερες προφορικές επεξηγήσεις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β) Να έχουν τονιστεί επαρκώ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 τη διάρκεια τη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ιδασκαλία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γ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λιμακούμενης δυσκολία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Nα μην είναι εξεζητημένες 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μπορούν να απαντηθού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τα πλαίσια του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ροβλεπόμενου από τα Π.Δ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χρόνου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2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ώρες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ορολογί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ιατυπώσει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ων θεμάτων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νάλογε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 εκείνε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ου σχολικού βιβλί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οφεύγεται η επιλογή αυτούσιων θεμάτων από «βοηθητικά»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ιβλία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σκήσεις του 2ου και 3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αναλύοντ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ε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πιμέρους ερωτήμα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Οδηγία του Π.Ι.2009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 άσκηση ή το πρόβλημα του 4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αναλύεται σε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λληλ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υποερωτήμα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τα οποία 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βοηθούν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μαθητ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την επίλυση του θέματ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Οδηγία του Π.Ι.2009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όβλημ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αν επιλεγεί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του 4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έχει σχέ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 τη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αγματικότη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Η επιλογή προβλήματο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ροϋποθέτει την επαρκή διδασκαλία προβλημάτων στην τάξη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κατά την διάρκεια του σχολικού έτους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μη χρησιμοποιούν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συμβολισμοί που δεν υπάρχουν στα σχολικά βιβλί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ή στις οδηγίες του Παιδαγωγικού Ινστιτούτου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κατανομή της βαθμολογία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α επιμέρους ερωτήματα ενός θέματο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αναγράφεται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ίκαιη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Επιπλέον,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μοριοδότηση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άθε ερωτήματος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κέραιος αριθμό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Προτού δοθούν τα θέματα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τους μαθητές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λύνονται μέχρι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ελικού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αποτελέσματ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από τους εισηγητές και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παράλληλ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Έτσι ελαχιστοποιείται η πιθανότητα να δοθούν λανθασμένα θέματα ή θέματα που η επίλυσή τους είναι δύσκολ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και ανέφικτη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στον προβλεπόμενο χρόν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ω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 ωρώ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τα «ρίχνει μια ματιά» και κάποιο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φιλόλογος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είναι προτιμότερο να είναι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γραμμένα στον Η/Υ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ν δίνονται σε χειρόγραφη μορφή, επιβάλλεται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υανάγνωστ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αλογραμμέν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ίναι χρήσιμο να γίνετ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βαθμολόγηση στην εκατοντάβαθμ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(0-100) κ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ναγωγή στην εικοσάβαθμ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λίμακα (0-20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θμολογί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έχει σχεδιαστεί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δηγός βαθμολόγη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 κατανομή των μονάδων σε «βήματα λύσης», κοινός για όλους τους διδάσκοντες του σχολείου, μαζί με τις ενδεικτικές λύσεις των θεμάτω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ποιαδήποτε επιστημονικά τεκμηριωμένη λύση πρέπει να γίνεται αποδεκ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γίνεται έλεγχος αν το άθροισμα των επιμέρους μονάδων είναι 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σχέση με τ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Νομικό πλαίσιο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) που παρατηρήθηκαν σε εξετάσεις Λυκείων προηγουμένων ετών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1ο θέμ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τα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από θεωρία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άσκηση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2ο, 3ο ή το 4ο θέμ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τα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μια άσκηση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ερωτήσεις θεωρίας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ια άσκηση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ούμενη από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ένα μόνο ερώτημ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μί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άσκηση, που αναλυόταν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επιμέρους ερωτήματα, με το μειονέκτημα όμως ένας μαθητής, ο οποίος δεν απαντούσε σε κάποιο ερώτη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να μη μπορεί να απαντήσει ούτε στα επόμενα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γιατί χρειαζόταν το αποτέλεσμα του προηγούμενου ερωτήματο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περισσότερες από μία ασκήσει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επίπεδ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διατύπωσης-δομής-χρόν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)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                                      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πίσης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ιατυπώσει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ων θεμάτων ήταν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ασαφεί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ή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έλειπαν οι μονάδε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αντιστοιχούσαν στα επιμέρους ερωτήματα ή τ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οτεινόμενα μόρι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επιμέρους ερωτήσει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εν ήταν ακέ-ραια ή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οριοδότηση δεν ήταν δίκαιη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ήταν πολλά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μη αντιμετωπίσι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στον προβλεπόμενο χρόνο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των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2 ωρών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επίπεδ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διατύπωσης-δομής-χρόνου)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Χρησιμοποιήθηκε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συμβολισμός που δεν υπάρχει στα σχολικά βιβλί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π.χ.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για κάθε, Υπάρχει,..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ρικά από τα θέματα, που δόθηκα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χειρόγραφ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ήτα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ξαιρετικά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υσανάγνωσ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, πυκνογραμμένα και χωρίς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κανένα σχήμ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που χρειαζόταν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53920" y="1368720"/>
            <a:ext cx="7805160" cy="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Προαγωγικές και Απολυτήριες Εξετάσεις στο Λύκειο διεξάγονται σύμφωνα με το Π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60/2006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άρθρα 15 και 16 με όλες τις τροποποιήσεις που έγιναν μέχρι σήμερ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των γραπτών προαγωγικών και απολυτήριων εξετάσεων λαμβάνονται από την ύλη που ορίζεται ως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εξεταστέα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για κάθε μάθημα, κατά το έτος που γίνονται οι εξετά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σχήματ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εν ήταν σωστά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π.χ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δινόταν ότι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&gt;β, ενώ στο σχήμα φαινόταν α&lt;β)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π.χ. «Να αποδείξετε ότι το τρίγωνο ΑΒΓ είναι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ορθογώνι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» ενώ η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γωνία δεν ήταν ορθή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). Αν κατασκευάζουμε τα σχήματα με τη βοήθεια μαθηματικού λογισμικού η μέτρηση είναι εύκολη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ο ίδιο σχολείο, δόθηκαν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τα ίδια ακριβώς θέματα δ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ύ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ο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ιαδοχικές χρονιέ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και σε άλλο σχολείο δόθηκαν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θέματα πο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είχαν δοθεί και σε άλλο σχολείο άλλη χρονιά από τον ίδιο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διδάσκοντα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ή/και παραλείψει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Συνηθισμένα λάθη που υπάρχουν κυρίως σ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1</a:t>
            </a:r>
            <a:r>
              <a:rPr b="1" lang="el-GR" sz="2000" spc="-1" strike="noStrike" u="sng" baseline="30000">
                <a:solidFill>
                  <a:srgbClr val="003366"/>
                </a:solidFill>
                <a:uFillTx/>
                <a:latin typeface="Arial"/>
                <a:ea typeface="Times New Roman"/>
              </a:rPr>
              <a:t>ο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Θέμ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αράλειψη περιορισμών για τις μεταβλητέ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Έλλειψη σαφήνειας στην διατύπωση, κυρίως στην χρήση των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οσοδεικτών «υπάρχει – για κάθ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σκήσεις – εφαρμογές  αντί θεωρίας στο 1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θέμ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Τύποι εκτός ύλης (διδακτέας ή εξεταστέα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λαθών ή παραλείψεων-Β΄Λυκείου Γεωμετρί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003366"/>
                </a:solidFill>
                <a:uFillTx/>
                <a:latin typeface="Arial"/>
              </a:rPr>
              <a:t>ΘΕΜΑ 1ο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Α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Να αποδείξετε ότι σε κάθε ορθογώνιο τρίγωνο, το τετράγωνο του ύψους του που  αντιστοιχεί στην υποτείνουσα είναι ίσο με το γινόμενο των προβολών των κάθετων πλευρών του στην υποτείνουσα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1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Β.   Δίνεται τρίγωνο ΑΒΓ  με πλευρές α=12, β=10, γ=8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Να δείξετε ότι το τρίγωνο ΑΒΓ  είναι οξυγώνιο και να υπολογίσετε την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διάμεσο  Α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(Είναι άσκηση και άρα δεν έχει θέση στο 1</a:t>
            </a:r>
            <a:r>
              <a:rPr b="1" lang="el-GR" sz="1600" spc="-1" strike="noStrike" baseline="30000">
                <a:solidFill>
                  <a:srgbClr val="ff0000"/>
                </a:solidFill>
                <a:latin typeface="Arial"/>
              </a:rPr>
              <a:t>ο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θέμα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5)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Γ.   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Να χαρακτηρίσετε τις προτάσεις που ακολουθούν, γράφοντας στη κόλλα  σας δίπλα στον αριθμό που αντιστοιχεί σε κάθε πρόταση τη λέξη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Σωστό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, αν η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πρόταση είναι σωστή, ή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Λάθος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, αν η πρόταση είναι λανθασμέν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1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λαθών ή παραλείψε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ν δύο τρίγωνα είναι όμοια με λόγο ομοιότητας λ, τότε ο λόγος των εμβαδών τους ισούται με τον λόγο ομοιότητας τους λ (με προφανή στόχο το Λάθος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Τι γίνεται όμως αν λ = 1; Είναι Σ ή Λ 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πρέπει λοιπόν να λέει για κάθε λ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διάφορο του 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Ένα τρίγωνο  χωρίζεται σε δύο ισεμβαδικά σχήματα από την διχοτόμο μίας γωνίας του (με προφανή στόχο το Λάθος).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Πρέπει να λέει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κάθε τρίγωνο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αλλιώς για ισοσκελές ή ισόπλευρο μπορεί να είναι Σωσ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 λαθών-παραλείψε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Στο θέμα 1</a:t>
            </a:r>
            <a:r>
              <a:rPr b="1" lang="el-GR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ο</a:t>
            </a:r>
            <a:r>
              <a:rPr b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δόθηκε ερώτηση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3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Να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περιγραφεί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ένας τρόπος προσέγγισης του μήκους ενό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κύκλου με χρήση κανονικών πολυγώνων (με προφανή στόχο τη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εριγραφή που έχει το σχολικό βιβλίο παρ.11.4 σελ.243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Δεν είναι σαφές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το ερώτημα για τους μαθητές, που ζητάει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περιγραφή,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αφού μπορούν να αναφέρουν «δικούς τους τρόπους» προσέγγισης του μήκους του κύκλου γράφοντας «έκθεση» ή «ιστορικά στοιχεία» και επίσης δεν μπορεί να βαθμολογηθεί αντικειμενικά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στημονικά λάθη-παραλείψει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απόσταση των αριθμών α και β ισούται με |α+β| (με προφανή στόχο 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Λάθ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Δεν αναφέρεται ότι ισχύει για κάθε α και β αφού π.χ. για α=β=0 είναι σωστό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εξίσωση της εφαπτομένης του κύκλου 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Ψ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ρ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το σημείο (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,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 είναι: ψ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ρ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(με προφανή στόχο 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Λάθ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Θα έπρεπε όμως να λέει για κάθε σημείο (χ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,ψ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) αφού έτσι όπως είναι γραμμένο για χ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=ψ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είναι σωστ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νδεικτικά παραδείγματα λαθών ή παραλείψεων</a:t>
            </a:r>
            <a:br>
              <a:rPr sz="2400"/>
            </a:b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(Α΄Λυκείου Άλγεβρα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ΘΕΜΑ 3</a:t>
            </a:r>
            <a:r>
              <a:rPr b="1" lang="el-GR" sz="2000" spc="-1" strike="noStrike" u="sng" baseline="30000">
                <a:solidFill>
                  <a:srgbClr val="003366"/>
                </a:solidFill>
                <a:uFillTx/>
                <a:latin typeface="Arial"/>
                <a:ea typeface="Times New Roman"/>
              </a:rPr>
              <a:t>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:|2-|2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1|=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:|8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n-GB" sz="1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2012(x-2011)-1821|=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3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 |λ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8|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4=8(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λ/8) για τις διάφορες πραγματικές τιμές του λ. Για ποιες τιμές του λ έχουμε λύση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=1/λ+4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Δεν συνδέονται τα υποερωτήματα και είναι  δύο διαφορετικές ασκήσει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Το ερώτημα Γ</a:t>
            </a:r>
            <a:r>
              <a:rPr b="1" lang="el-GR" sz="18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είναι καλό να αποφεύγεται (ως διερεύνηση τέτοιας μορφής) αφού  στις οδηγίες </a:t>
            </a:r>
            <a:r>
              <a:rPr b="1" lang="el-G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προτείνεται η διδασκαλία της διερεύνησης μέσα από συγκεκριμένες τιμές του λ και δεν υπάρχει αντίστοιχη άσκηση στο σχολικό βιβλίο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νδεικτικά παραδείγματα λαθών ή παραλείψεων (Α΄Λυκείου Άλγεβρα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ΘΕΜΑ 3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Δίνεται το τριώνυμο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)=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+|λ-1|  με  λ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є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) Να βρεθεί η διακρίνουσα 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β) Για ποιες τιμές του λ  η εξίσωση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)=0 έχει μία ρίζα διπλή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γ) Για τις τιμές του λ που βρήκατε να λύσετε την ανίσωσ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-5(χ-1)+4&gt;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δ)Για την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μεγαλύτερη τιμή του λ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που βρήκατε να λύσετε την εξίσωση: λ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n-GB" sz="1800" spc="-1" strike="noStrike" baseline="30000">
                <a:solidFill>
                  <a:srgbClr val="003366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-f(x)-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Η μη εύρεση του λ στο β) ερώτημα απαγορεύει την λύση του γ) και δ) ερωτήματο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Παραδείγματα «τσιμπημένων» θεμάτων (Άλγεβρα Γενικής Παιδείας Β΄Λυκείο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ΘΕΜΑ2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Έστω δύο γωνίες α και β(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≠β) με 0≤α,β ≤2π και έτσι, ώστ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ημ(α+β)=2ημβσυνα. Τότ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Α)Να δείξετε ότι: α=β+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Β)Να δείξετε ότι: ημ2α=ημ2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Γ) Αν α=5π/4 και β=π/4 να λύσετε την εξίσωση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υν(β-α) συν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 συν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συν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+2=ημ2α-ημ2β (χ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є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)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όταν συν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&gt;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Arial"/>
              </a:rPr>
              <a:t>ΘΕΜΑ 3</a:t>
            </a:r>
            <a:r>
              <a:rPr b="1" lang="el-GR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Ο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Έστω 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... Οι θετικές ρίζες της εξίσωσης: σφ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=-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√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3 /3 (1) κα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 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..οι αρνητικές ρίζες της  εξίσωσης: 2εφ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-4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√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3εφχ+6=0 (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) Να λύσετε τις παραπάνω εξισώσει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β) Να δείξετε ότι οι παραπάνω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λύσεις των (1) και (2) είναι διαδοχικοί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όροι αριθμητικής προόδου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της οποίας να βρείτε το ν-στό όρο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γ) Να βρείτε το άθροισμα των 60 πρώτων όρων των προόδω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υτών καθώς και το  άθροισμα των 140 πρώτων όρων περιττή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και άρτιας τάξης αντίστοιχα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ερωτή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Ε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ίναι ανάλογες με εκείνες που υπάρχουν στα σχολικά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γχειρίδια και στις οδηγίες του Π.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Δ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ιατρέχουν όσο το δυνατόν μεγαλύτερη έκταση τη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ξεταστέας ύλ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Ε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λέγχουν ευρύ φάσμα διδακτικών στόχων και είν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λιμακούμενου βαθμού δυσκολία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μαθητές απαντούν υποχρεωτικά σε όλα τα θέματα.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3</a:t>
            </a:r>
            <a:r>
              <a:rPr b="1" lang="el-GR" sz="2400" spc="-1" strike="noStrike" baseline="30000">
                <a:solidFill>
                  <a:srgbClr val="006666"/>
                </a:solidFill>
                <a:latin typeface="Arial"/>
              </a:rPr>
              <a:t>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θέματο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) Ποιος όρος της προόδου που προέκυψε από την (1) ισούται με 2012π/3 και ποιος όρος της προόδου που προέκυψε από την (2) ισούται με -6000π/9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) Να λύσετε στο σύνολο των πραγματικών αριθμών την εξίσωση: 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=6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GB" sz="2000" spc="-1" strike="noStrike" baseline="-25000">
                <a:solidFill>
                  <a:srgbClr val="003366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/18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π  και την εξίσωση: 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6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2π/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τ) Να λύσετε την ανίσωση: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+α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87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2612π/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005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/3&gt; β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00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όπου α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871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 αντίστοιχος όρος της προόδου των λύσεων της εξίσωσης (1) και β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00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ο αντίστοιχος όρος της προόδου των λύσεων της εξίσωσης (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θεμάτων</a:t>
            </a: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Arial"/>
              </a:rPr>
              <a:t>ΘΕΜΑ 4</a:t>
            </a:r>
            <a:r>
              <a:rPr b="1" lang="el-GR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ίνεται η συνάρτη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(1/2)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]+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4+8+...1024)/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1] και η  συνάρτη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(x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χ2-3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+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]+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/2+1/4+1/8+...1/1024).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/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) Να βρείτε το πεδίο ορισμού της συνάρτησης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και της συνάρτησης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Να δείξετε ότι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(1/2)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2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4</a:t>
            </a:r>
            <a:r>
              <a:rPr b="1" lang="el-GR" sz="2400" spc="-1" strike="noStrike" baseline="30000">
                <a:solidFill>
                  <a:srgbClr val="006666"/>
                </a:solidFill>
                <a:latin typeface="Arial"/>
              </a:rPr>
              <a:t>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θέματο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Γ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Να λύσετε την εξίσωση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(1/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2]+3=2l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(1/4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20+10</a:t>
            </a:r>
            <a:r>
              <a:rPr b="1" lang="de-DE" sz="2000" spc="-1" strike="noStrike" baseline="30000">
                <a:solidFill>
                  <a:srgbClr val="ff0000"/>
                </a:solidFill>
                <a:latin typeface="Arial"/>
              </a:rPr>
              <a:t>log3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el-GR" sz="2000" spc="-1" strike="noStrike" baseline="30000">
                <a:solidFill>
                  <a:srgbClr val="ff0000"/>
                </a:solidFill>
                <a:latin typeface="Arial"/>
              </a:rPr>
              <a:t>1/2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) Να λύσετε την ανίσωση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2(e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1)-f(-1)ln(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1)+ln2ln3&lt; g(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63/2 και τη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νίσωση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e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/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)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</a:rPr>
              <a:t>Πότε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η συνάρτηση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) τέμνει τους άξονες χ΄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ι) βρίσκεται  πάνω από τον άξονα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΄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ιι) τέμνει την ευθεία ψ=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ΣΙΚΕΣ ΑΡΧ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Καλή συνεργασία όλων των διδασκόντων-εισηγητώ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Όλοι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οι διδάσκοντες συμμετέχουν στην δημιουργί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όλων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των θεμάτω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Γίνονται προτάσεις, συζήτηση, συνδημιουργί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Τα θέματα δημιουργούνται και αναπαράγονται στη σχολική μονάδα. Προφανώς έχει γίνει μια προεργασία από τον κάθε διδάσκοντ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ΣΙΚΕΣ ΑΡΧ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ιευκρινίσεις δίνονται μόνο όταν ζητηθούν από τους μαθητές στα πρώτα 20 λεπτά και πάντως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ποτέ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τά την αποχώρηση μαθη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εξηγούμε ένα-ένα τα θέματα μέσα στην τάξη εξέτασης (Αν η διατύπωση είναι σαφής δεν θα χρειαστούν πολλές διευκρινίσεις). </a:t>
            </a:r>
            <a:r>
              <a:rPr b="0" i="1" lang="el-GR" sz="2000" spc="-1" strike="noStrike">
                <a:solidFill>
                  <a:srgbClr val="ff0000"/>
                </a:solidFill>
                <a:latin typeface="Arial"/>
              </a:rPr>
              <a:t>Ορθόν το Σαφές (Ευριπίδη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ΜΠΕΡΑΣΜΑΤΑ ΑΠΟ ΕΡΕΥΝΕΣ ΣΕ ΣΧΕΣΗ ΜΕ ΤΑ ΘΕΜΑΤΑ ΠΡΟΑΓΩΓΙΚΩΝ ΕΞΕΤΑΣΕΩΝ (Ν.ΑΤΤΙΚΗ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18% των θεμάτων των εξετάσεων έχουν κάποιο είδος «νομικού προβλήματος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12% των θεμάτων έχουν κάποιο είδος επιστημονικού προβλήματο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8% των θεμάτων έχουν και τα δύο προηγούμεν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2% των θεμάτων βρίσκονται εκτός εξεταστέας ύλη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ΜΠΕΡΑΣΜΑΤΑ ΑΠΟ ΕΡΕΥΝΕΣ ΣΕ ΣΧΕΣΗ ΜΕ ΤΑ ΘΕΜΑΤΑ ΠΡΟΑΓΩΓΙΚΩΝ ΕΞΕΤΑΣΕΩΝ (Ν.ΑΤΤΙΚΗ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9% των θεμάτων δεν είναι σύμφωνα με τις οδηγίες διαχείρισης της ύλης που δίνονται από το Π.Ι.(ΙΤ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27% των θεμάτων έχουν «παιδαγωγικό πρόβλημα» είτε με την έννοια του βαθμού δυσκολίας είτε με την χρονική διάρκεια είτε ακόμη και με «οριακά» θέματα που βρίσκονται εκτός Λυκειακού επιπέδ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ίγα λόγια για τους μαθητές με μαθησιακές δυσκολί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Έχουμε υπόψη μας την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γνωμάτευση του ΚΕΔΔΥ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τις οδηγίες αξιολόγησης για κάθε περίπτωση μαθητή με Μ.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ξετάζεται απ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 καθηγητέ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ένας εκ των οποίων είναι ο διδάσκοντα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γραπτ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ε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αποτελεί τεκμήριο βαθμολόγηση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εξετάζουμε τον μαθητή σε άλλα παραπλήσια θέματα αλλά σε αυτά που δόθηκα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ίγα λόγια για τους μαθητές με μαθησιακές δυσκολί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τον βοηθάμε λέγοντας του τις λύσεις-απαντήσεις αλλά διατυπώνουμε ερωτήσεις για να τον παρωθήσουμε να απαντήσει, αφού εξηγήσουμε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επαρκώ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ι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ακριβώ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ζητά η άσκησ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χαρακτηρίζουμε τις απαντήσεις του, κατά την διάρκεια της εξέτασης, σωστές ή λάθος και πάντα ρωτάμε αν έχει κάτι άλλο να συμπληρώσε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δείχνουμε «να θέλουμε να τελειώσουμε την εξέταση γρήγορα για να φύγουμ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ιαβάζουμε το Νόμο για την εξέταση των μαθητών με Μ.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Ας συζητήσουμε ..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περίπτωση κατά την οποία ένα θέμα αναλύεται σε υποερωτήματα, η βαθμολογία που προβλέπεται για αυτό κατανέμεται ισότιμα στις επιμέρους ερωτήσεις, εκτός αν κατά την ανακοίνωση των θεμάτων καθορίζεται διαφορετικός βαθμός για κάθε μία από αυτέ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ο οποίος και αναγράφεται στο θέμ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γραπτές προαγωγικές εξετάσεις των μαθητών της Α΄ κ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΄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τάξης διενεργούνται με την ευθύνη του Διευθυντή και τω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ιδασκόντων σε κάθε Λύκειο.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γραπτές απολυτήριες εξετάσεις των μαθητών της Γ΄ τάξης στα μαθήματα που εξετάζονται σε επίπεδο σχολικής μονάδας διενεργούνται σύμφωνα με τις διατάξεις του άρθρου 16 το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.Δ.60/2006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όπως τροποποιήθηκε το 2010 και για τους μαθητές της Γ΄Λυκείου που εξετάζονται ενδοσχολικά αντί των πανελληνίων εξετάσεων για την απόκτηση του απολυτηρίου τίτλ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ους μαθητές δίνοντ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έσσερ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4)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θέμα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τέσσερα θέματα που δίνονται στους μαθητές διαρθρώνονται ως εξή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)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πρώ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είται από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ρωτήματα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θεωρία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φορούν έννοιες, ορισμούς, λήμματα, προτάσεις, θεωρήματα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πορίσματα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)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δεύτερο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ρί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ι το καθέ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ό μία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άσκηση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απαιτεί από το μαθητή ικανότητα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υνδυασμού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και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ύνθεσης εννοιών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αποδεικτικών ή υπολογιστικών διαδικασιών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κάθε άσκηση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μπορεί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να αναλύεται σε επιμέρους ερωτήματα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έταρ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είται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από μία άσκηση ή ένα πρόβλη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η λύση του απαιτεί από το μαθητή ικανότητες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υνδυασμού και σύνθεσης προηγούμενων γνώσεων αλλά και την ανάληψη πρωτοβουλιώ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στη διαδικασία επίλυσής του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ο θέμα αυτό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μπορεί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να αναλύεται σε επιμέρους ερωτήματα, τα οποία βοηθούν το μαθητή στη λύση.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βαθμολογία κατανέμεται ανά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ίκοσι πέντε (25) μονάδες στο καθένα από τα τέσσερα θέματα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 τον ίδιο τρόπο εξετάζονται και τα μαθήματ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αθηματικά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Κατεύθυνσης Β΄Λυκείου»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σε ενδοσχολικό επίπεδο το μάθημα «Μαθηματικά Κατεύθυνσης» Γ΄Λυκείου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αθηματικά και Στοιχεία Στατιστική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» Γενικής Παιδείας Γ΄Λυκεί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Για την επιλογή των θεμάτων λαμβάνονται υπόψη, εκτός από τη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ισχύουσα νομοθεσί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και 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οδηγίες του Παιδαγωγικού Ινστιτούτου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α θέματα δημιουργούνται, γράφονται, τυπώνονται και αναπαράγονται στην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σχολική μονάδα την ημέρα της εξέτα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 ευθύνη των διδασκόντων και του Διευθυντή της σχολικής μονάδα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Γι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κάθε θέμ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γι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το σύνολ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ου περιεχομένου των θεμάτων, της δομής τους και της επιστημονικής τους ορθότητας  υπεύθυνοι είναι οι διδάσκοντες-εισηγητές που υπογράφουν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3:01:11Z</dcterms:created>
  <dc:creator>DONKEY</dc:creator>
  <dc:description/>
  <dc:language>en-US</dc:language>
  <cp:lastModifiedBy>DONKEY</cp:lastModifiedBy>
  <dcterms:modified xsi:type="dcterms:W3CDTF">2012-05-11T09:24:55Z</dcterms:modified>
  <cp:revision>46</cp:revision>
  <dc:subject/>
  <dc:title>ΓΡΑΠΤΕΣ ΕΞΕΤΑΣΕΙΣ ΜΑΘΗΜΑΤΙΚΩΝ ΛΥΚΕΙΩΝ</dc:title>
</cp:coreProperties>
</file>