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9FDC-D631-40DB-90EC-57408082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0198-2E8F-4824-B36A-1089C08A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B110-5408-45C8-9CB8-8907B793F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F6FF-E392-4048-B3EF-ACC9ADE3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10EB-C296-4B6B-8797-B09632B4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82E3-D5F8-485B-A711-FF67B8BD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F8B3-4949-4161-A5C8-C20D12FE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E148-DCAF-476C-885A-F910A085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4A6B-8001-40CE-9297-72D27220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FB48-90DB-4854-95C4-048DDAC1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1080-FD72-47CA-8F4C-39CB5F4A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52B6-1557-44B1-9A29-93CB72B8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A74F-7A5A-4A3F-900E-AB63A2C3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60DC-3A2C-4475-A9AB-B5BB7064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7FCA-B289-47D4-A23B-88823836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3F46-62AF-4BF7-BA15-6A77F36BF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7126-DCA7-400C-97A3-0E8D5816C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AA8D-CCCF-4229-8C5F-5B5C1530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F4B2-B694-490E-9E4A-06E8A33E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6C9-2166-4D87-8062-EA620AFE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35D8-E826-4D2C-A237-1EE1125D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CE45-CF54-4006-A67E-30E8B078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6803-7EEA-49F8-8988-5D128487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99A6-D6A3-4870-AF01-8E509C98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A77C-F6BE-4AA7-967D-DEDFAC9C9E07}" type="slidenum">
              <a:rPr b="1" lang="de-DE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8939-EC9F-4685-94E3-3D0BC125FF0A}" type="slidenum">
              <a:rPr b="1" lang="de-DE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ΓΡΑΠΤΕΣ ΕΞΕΤΑΣΕΙΣ ΜΑΘΗΜΑΤΙΚΩΝ </a:t>
            </a:r>
            <a:r>
              <a:rPr b="1" lang="el-GR" sz="3200" spc="-1" strike="noStrike">
                <a:solidFill>
                  <a:srgbClr val="ff0000"/>
                </a:solidFill>
                <a:latin typeface="Arial"/>
              </a:rPr>
              <a:t>ΛΥΚΕΙΟ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ΜΑΪΟΣ  2012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Επιλογή θεμάτων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Oι απαντήσεις των ερωτήσεων θεωρίας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(1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ο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θέμα)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πρέπει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να προκύπτουν </a:t>
            </a:r>
            <a:r>
              <a:rPr b="1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άμεσα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από τη θεωρία που υπάρχει στα σχολικά βιβλία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Δεν μπαίνει δηληδή θέμα που να χρειάζεται υπολογιστική ή αποδεικτική διαδικασία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Οι ασκήσεις και οι ερωτήσεις των θεμάτων των προαγωγικών και απολυτήριων εξετάσεων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πρέπει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α)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Να είναι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σαφείς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και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κατανοητές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χωρίς να χρειάζονται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ιδιαίτερες προφορικές επεξηγήσεις.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β) Να έχουν τονιστεί επαρκώς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κατά τη διάρκεια τη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διδασκαλίας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Επιλογή θεμάτων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γ)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Να είναι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κλιμακούμενης δυσκολίας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δ)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Nα μην είναι εξεζητημένες και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να μπορούν να απαντηθούν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στα πλαίσια του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προβλεπόμενου από τα Π.Δ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χρόνου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(2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ώρες)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Η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ορολογία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και οι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διατυπώσεις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των θεμάτων να είναι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ανάλογες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με εκείνες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του σχολικού βιβλίο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Να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αποφεύγεται η επιλογή αυτούσιων θεμάτων από «βοηθητικά»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βιβλία</a:t>
            </a:r>
            <a:r>
              <a:rPr b="1" i="1" lang="de-DE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Επιλογή θεμάτων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Οι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ασκήσεις του 2ου και 3ου θέματος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να αναλύονται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σε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επιμέρους ερωτήματα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(Οδηγία του Π.Ι.2009)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H άσκηση ή το πρόβλημα του 4ου θέματος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να αναλύεται σε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κατάλληλα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υποερωτήματα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, τα οποία να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βοηθούν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το μαθητή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στην επίλυση του θέματος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(Οδηγία του Π.Ι.2009)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Το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πρόβλημα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(αν επιλεγεί)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του 4ου θέματος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να έχει σχέση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με την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πραγματικότητα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(Η επιλογή προβλήματο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προϋποθέτει την επαρκή διδασκαλία προβλημάτων στην τάξη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κατά την διάρκεια του σχολικού έτους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Επιλογή θεμάτων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Να μη χρησιμοποιούντα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ι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συμβολισμοί που δεν υπάρχουν στα σχολικά βιβλία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ή στις οδηγίες του Παιδαγωγικού Ινστιτούτου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Η κατανομή της βαθμολογίας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στα επιμέρους ερωτήματα ενός θέματος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να αναγράφεται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και να είναι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δίκαιη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. Επιπλέον,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η μοριοδότηση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κάθε ερωτήματος να είναι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ακέραιος αριθμό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Επιλογή θεμάτων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Προτού δοθούν τα θέματα</a:t>
            </a:r>
            <a:r>
              <a:rPr b="1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στους μαθητές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Να λύνονται μέχρι </a:t>
            </a:r>
            <a:r>
              <a:rPr b="1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τελικού</a:t>
            </a:r>
            <a:r>
              <a:rPr b="1" lang="el-GR" sz="20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αποτελέσματος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από τους εισηγητές και </a:t>
            </a:r>
            <a:r>
              <a:rPr b="1" lang="el-GR" sz="2000" spc="-1" strike="noStrike" u="sng">
                <a:solidFill>
                  <a:srgbClr val="003366"/>
                </a:solidFill>
                <a:uFillTx/>
                <a:latin typeface="Arial"/>
              </a:rPr>
              <a:t>παράλληλα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. Έτσι ελαχιστοποιείται η πιθανότητα να δοθούν λανθασμένα θέματα ή θέματα που η επίλυσή τους είναι δύσκολη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ή και ανέφικτη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στον προβλεπόμενο χρόνο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των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2 ωρώ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Επιλογή θεμάτων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Να τα «ρίχνει μια ματιά» και κάποιος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φιλόλογος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Τα θέματα είναι προτιμότερο να είναι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γραμμένα στον Η/Υ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Αν δίνονται σε χειρόγραφη μορφή, επιβάλλεται να είναι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ευανάγνωστα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και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καλογραμμένα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Είναι χρήσιμο να γίνεται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η βαθμολόγηση στην εκατοντάβαθμη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(0-100) και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αναγωγή στην εικοσάβαθμη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κλίμακα (0-20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Βαθμολογία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205000"/>
            <a:ext cx="769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Να έχει σχεδιαστεί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οδηγός βαθμολόγησης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με κατανομή των μονάδων σε «βήματα λύσης», κοινός για όλους τους διδάσκοντες του σχολείου, μαζί με τις ενδεικτικές λύσεις των θεμάτων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Οποιαδήποτε επιστημονικά τεκμηριωμένη λύση πρέπει να γίνεται αποδεκτή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Να γίνεται έλεγχος αν το άθροισμα των επιμέρους μονάδων είναι 10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Λάθη (σε σχέση με το </a:t>
            </a:r>
            <a:r>
              <a:rPr b="1" lang="el-GR" sz="2400" spc="-1" strike="noStrike" u="sng">
                <a:solidFill>
                  <a:srgbClr val="006666"/>
                </a:solidFill>
                <a:uFillTx/>
                <a:latin typeface="Arial"/>
              </a:rPr>
              <a:t>Νομικό πλαίσιο</a:t>
            </a: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) που παρατηρήθηκαν σε εξετάσεις Λυκείων προηγουμένων ετών</a:t>
            </a:r>
            <a:r>
              <a:rPr b="1" lang="el-GR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                                        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Α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Το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1ο θέμα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αποτελ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ούνταν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από θεωρία και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άσκηση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Το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2ο, 3ο ή το 4ο θέμα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αποτελ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ούνταν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από μια άσκηση και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ερωτήσεις θεωρίας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ή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από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μια άσκηση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αποτελούμενη από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ένα μόνο ερώτημα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ή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από μία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άσκηση, που αναλυόταν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σε επιμέρους ερωτήματα, με το μειονέκτημα όμως ένας μαθητής, ο οποίος δεν απαντούσε σε κάποιο ερώτημα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να μη μπορεί να απαντήσει ούτε στα επόμενα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γιατί χρειαζόταν το αποτέλεσμα του προηγούμενου ερωτήματος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από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περισσότερες από μία ασκήσεις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Λάθη (σε επίπεδο </a:t>
            </a:r>
            <a:r>
              <a:rPr b="1" lang="el-GR" sz="2400" spc="-1" strike="noStrike" u="sng">
                <a:solidFill>
                  <a:srgbClr val="006666"/>
                </a:solidFill>
                <a:uFillTx/>
                <a:latin typeface="Arial"/>
              </a:rPr>
              <a:t>διατύπωσης-δομής-χρόνου</a:t>
            </a: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) που παρατηρήθηκαν σε εξετάσεις Λυκείων προηγουμένων ετών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Arial"/>
              </a:rPr>
              <a:t>                                        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1" lang="el-GR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Επίσης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Οι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διατυπώσεις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των θεμάτων ήταν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ασαφείς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ή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έλειπαν οι μονάδες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που αντιστοιχούσαν στα επιμέρους ερωτήματα ή τα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προτεινόμενα μόρια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σε επιμέρους ερωτήσεις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δεν ήταν ακέ-ραια ή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η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μοριοδότηση δεν ήταν δίκαιη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Τα θέματα ήταν πολλά και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μη αντιμετωπίσιμα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στον προβλεπόμενο χρόνο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των 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2 ωρών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Λάθη (σε επίπεδο </a:t>
            </a:r>
            <a:r>
              <a:rPr b="1" lang="el-GR" sz="2400" spc="-1" strike="noStrike" u="sng">
                <a:solidFill>
                  <a:srgbClr val="006666"/>
                </a:solidFill>
                <a:uFillTx/>
                <a:latin typeface="Arial"/>
              </a:rPr>
              <a:t>διατύπωσης-δομής-χρόνου)</a:t>
            </a: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 που παρατηρήθηκαν σε εξετάσεις Λυκείων προηγουμένων ετών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Χρησιμοποιήθηκε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συμβολισμός που δεν υπάρχει στα σχολικά βιβλία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(π.χ.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για κάθε, Υπάρχει,...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Μερικά από τα θέματα, που δόθηκαν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χειρόγραφα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, ήταν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εξαιρετικά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δυσανάγνωστα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, πυκνογραμμένα και χωρίς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κανένα σχήμα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(που χρειαζόταν)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53920" y="1368720"/>
            <a:ext cx="7805160" cy="37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Γενικό Νομοθετικό πλαίσιο για τις εξετάσεις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Οι Προαγωγικές και Απολυτήριες Εξετάσεις στο Λύκειο διεξάγονται σύμφωνα με το Π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Δ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60/2006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άρθρα 15 και 16 με όλες τις τροποποιήσεις που έγιναν μέχρι σήμερα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Τα θέματα των γραπτών προαγωγικών και απολυτήριων εξετάσεων λαμβάνονται από την ύλη που ορίζεται ως </a:t>
            </a:r>
            <a:r>
              <a:rPr b="1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εξεταστέα</a:t>
            </a:r>
            <a:r>
              <a:rPr b="0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για κάθε μάθημα, κατά το έτος που γίνονται οι εξετάσεις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Λάθη που παρατηρήθηκαν σε εξετάσεις Λυκείων προηγουμένων ετών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Τα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σχήματα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δεν ήταν σωστά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(π.χ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δινόταν ότι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α&gt;β, ενώ στο σχήμα φαινόταν α&lt;β)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ή π.χ. «Να αποδείξετε ότι το τρίγωνο ΑΒΓ είναι 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</a:rPr>
              <a:t>ορθογώνιο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» ενώ η 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</a:rPr>
              <a:t>γωνία δεν ήταν ορθή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). Αν κατασκευάζουμε τα σχήματα με τη βοήθεια μαθηματικού λογισμικού η μέτρηση είναι εύκολη.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Στο ίδιο σχολείο, δόθηκαν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τα ίδια ακριβώς θέματα δ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ύ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ο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διαδοχικές χρονιές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και σε άλλο σχολείο δόθηκαν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θέματα που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είχαν δοθεί και σε άλλο σχολείο άλλη χρονιά από τον ίδιο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διδάσκοντα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Λάθη ή/και παραλείψεις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   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Συνηθισμένα λάθη που υπάρχουν κυρίως στο </a:t>
            </a:r>
            <a:r>
              <a:rPr b="1" lang="el-GR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1</a:t>
            </a:r>
            <a:r>
              <a:rPr b="1" lang="el-GR" sz="2000" spc="-1" strike="noStrike" u="sng" baseline="30000">
                <a:solidFill>
                  <a:srgbClr val="003366"/>
                </a:solidFill>
                <a:uFillTx/>
                <a:latin typeface="Arial"/>
                <a:ea typeface="Times New Roman"/>
              </a:rPr>
              <a:t>ο</a:t>
            </a:r>
            <a:r>
              <a:rPr b="1" lang="el-GR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 Θέμα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Παράλειψη περιορισμών για τις μεταβλητέ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Έλλειψη σαφήνειας στην διατύπωση, κυρίως στην χρήση των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   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ποσοδεικτών «υπάρχει – για κάθε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Ασκήσεις – εφαρμογές  αντί θεωρίας στο 1</a:t>
            </a:r>
            <a:r>
              <a:rPr b="0" lang="el-GR" sz="2000" spc="-1" strike="noStrike" baseline="30000">
                <a:solidFill>
                  <a:srgbClr val="003366"/>
                </a:solidFill>
                <a:latin typeface="Arial"/>
                <a:ea typeface="Times New Roman"/>
              </a:rPr>
              <a:t>ο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θέμα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Τύποι εκτός ύλης (διδακτέας ή εξεταστέας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6666"/>
                </a:solidFill>
                <a:uFillTx/>
                <a:latin typeface="Arial"/>
              </a:rPr>
              <a:t>Ενδεικτικά</a:t>
            </a: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 παραδείγματα λαθών ή παραλείψεων-Β΄Λυκείου Γεωμετρία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 u="sng">
                <a:solidFill>
                  <a:srgbClr val="003366"/>
                </a:solidFill>
                <a:uFillTx/>
                <a:latin typeface="Arial"/>
              </a:rPr>
              <a:t>ΘΕΜΑ 1ο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el-GR" sz="1400" spc="-1" strike="noStrike">
                <a:solidFill>
                  <a:srgbClr val="003366"/>
                </a:solidFill>
                <a:latin typeface="Arial"/>
              </a:rPr>
              <a:t>Α</a:t>
            </a:r>
            <a:r>
              <a:rPr b="1" lang="el-GR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l-GR" sz="1600" spc="-1" strike="noStrike">
                <a:solidFill>
                  <a:srgbClr val="003366"/>
                </a:solidFill>
                <a:latin typeface="Arial"/>
              </a:rPr>
              <a:t>  Να αποδείξετε ότι σε κάθε ορθογώνιο τρίγωνο, το τετράγωνο του ύψους του που  αντιστοιχεί στην υποτείνουσα είναι ίσο με το γινόμενο των προβολών των κάθετων πλευρών του στην υποτείνουσα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1" lang="el-GR" sz="1600" spc="-1" strike="noStrike">
                <a:solidFill>
                  <a:srgbClr val="003366"/>
                </a:solidFill>
                <a:latin typeface="Arial"/>
              </a:rPr>
              <a:t>ΜΟΝΑΔΕΣ (10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l-GR" sz="1600" spc="-1" strike="noStrike">
                <a:solidFill>
                  <a:srgbClr val="ff0000"/>
                </a:solidFill>
                <a:latin typeface="Arial"/>
              </a:rPr>
              <a:t>Β.   Δίνεται τρίγωνο ΑΒΓ  με πλευρές α=12, β=10, γ=8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l-GR" sz="1600" spc="-1" strike="noStrike">
                <a:solidFill>
                  <a:srgbClr val="ff0000"/>
                </a:solidFill>
                <a:latin typeface="Arial"/>
              </a:rPr>
              <a:t>Να δείξετε ότι το τρίγωνο ΑΒΓ  είναι οξυγώνιο και να υπολογίσετε την  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l-GR" sz="1600" spc="-1" strike="noStrike">
                <a:solidFill>
                  <a:srgbClr val="ff0000"/>
                </a:solidFill>
                <a:latin typeface="Arial"/>
              </a:rPr>
              <a:t>διάμεσο  ΑΜ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l-GR" sz="1600" spc="-1" strike="noStrike">
                <a:solidFill>
                  <a:srgbClr val="ff0000"/>
                </a:solidFill>
                <a:latin typeface="Arial"/>
              </a:rPr>
              <a:t>(Είναι άσκηση και άρα δεν έχει θέση στο 1</a:t>
            </a:r>
            <a:r>
              <a:rPr b="1" lang="el-GR" sz="1600" spc="-1" strike="noStrike" baseline="30000">
                <a:solidFill>
                  <a:srgbClr val="ff0000"/>
                </a:solidFill>
                <a:latin typeface="Arial"/>
              </a:rPr>
              <a:t>ο</a:t>
            </a:r>
            <a:r>
              <a:rPr b="1" lang="el-GR" sz="1600" spc="-1" strike="noStrike">
                <a:solidFill>
                  <a:srgbClr val="ff0000"/>
                </a:solidFill>
                <a:latin typeface="Arial"/>
              </a:rPr>
              <a:t> θέμα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                                       </a:t>
            </a:r>
            <a:r>
              <a:rPr b="1" lang="el-GR" sz="1600" spc="-1" strike="noStrike">
                <a:solidFill>
                  <a:srgbClr val="003366"/>
                </a:solidFill>
                <a:latin typeface="Arial"/>
              </a:rPr>
              <a:t>ΜΟΝΑΔΕΣ (5)</a:t>
            </a:r>
            <a:r>
              <a:rPr b="0" lang="el-GR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                            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l-GR" sz="1600" spc="-1" strike="noStrike">
                <a:solidFill>
                  <a:srgbClr val="003366"/>
                </a:solidFill>
                <a:latin typeface="Arial"/>
              </a:rPr>
              <a:t>Γ.   </a:t>
            </a:r>
            <a:r>
              <a:rPr b="0" lang="el-GR" sz="1600" spc="-1" strike="noStrike">
                <a:solidFill>
                  <a:srgbClr val="003366"/>
                </a:solidFill>
                <a:latin typeface="Arial"/>
              </a:rPr>
              <a:t>Να χαρακτηρίσετε τις προτάσεις που ακολουθούν, γράφοντας στη κόλλα  σας δίπλα στον αριθμό που αντιστοιχεί σε κάθε πρόταση τη λέξη </a:t>
            </a:r>
            <a:r>
              <a:rPr b="1" lang="el-GR" sz="1600" spc="-1" strike="noStrike">
                <a:solidFill>
                  <a:srgbClr val="003366"/>
                </a:solidFill>
                <a:latin typeface="Arial"/>
              </a:rPr>
              <a:t>Σωστό</a:t>
            </a:r>
            <a:r>
              <a:rPr b="0" lang="el-GR" sz="1600" spc="-1" strike="noStrike">
                <a:solidFill>
                  <a:srgbClr val="003366"/>
                </a:solidFill>
                <a:latin typeface="Arial"/>
              </a:rPr>
              <a:t>, αν η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l-GR" sz="1600" spc="-1" strike="noStrike">
                <a:solidFill>
                  <a:srgbClr val="003366"/>
                </a:solidFill>
                <a:latin typeface="Arial"/>
              </a:rPr>
              <a:t>πρόταση είναι σωστή, ή </a:t>
            </a:r>
            <a:r>
              <a:rPr b="1" lang="el-GR" sz="1600" spc="-1" strike="noStrike">
                <a:solidFill>
                  <a:srgbClr val="003366"/>
                </a:solidFill>
                <a:latin typeface="Arial"/>
              </a:rPr>
              <a:t>Λάθος</a:t>
            </a:r>
            <a:r>
              <a:rPr b="0" lang="el-GR" sz="1600" spc="-1" strike="noStrike">
                <a:solidFill>
                  <a:srgbClr val="003366"/>
                </a:solidFill>
                <a:latin typeface="Arial"/>
              </a:rPr>
              <a:t>, αν η πρόταση είναι λανθασμένη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                                                      </a:t>
            </a:r>
            <a:r>
              <a:rPr b="1" lang="el-GR" sz="1600" spc="-1" strike="noStrike">
                <a:solidFill>
                  <a:srgbClr val="003366"/>
                </a:solidFill>
                <a:latin typeface="Arial"/>
              </a:rPr>
              <a:t>ΜΟΝΑΔΕΣ (10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6666"/>
                </a:solidFill>
                <a:uFillTx/>
                <a:latin typeface="Arial"/>
              </a:rPr>
              <a:t>Ενδεικτικά</a:t>
            </a: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 παραδείγματα λαθών ή παραλείψεων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Αν δύο τρίγωνα είναι όμοια με λόγο ομοιότητας λ, τότε ο λόγος των εμβαδών τους ισούται με τον λόγο ομοιότητας τους λ (με προφανή στόχο το Λάθος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Τι γίνεται όμως αν λ = 1; Είναι Σ ή Λ 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(πρέπει λοιπόν να λέει για κάθε λ </a:t>
            </a:r>
            <a:r>
              <a:rPr b="1" lang="el-GR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διάφορο του 1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Ένα τρίγωνο  χωρίζεται σε δύο ισεμβαδικά σχήματα από την διχοτόμο μίας γωνίας του (με προφανή στόχο το Λάθος).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Πρέπει να λέει </a:t>
            </a:r>
            <a:r>
              <a:rPr b="1" lang="el-GR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κάθε τρίγωνο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αλλιώς για ισοσκελές ή ισόπλευρο μπορεί να είναι Σωστή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6666"/>
                </a:solidFill>
                <a:uFillTx/>
                <a:latin typeface="Arial"/>
              </a:rPr>
              <a:t>Ενδεικτικά</a:t>
            </a: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 παραδείγματα  λαθών-παραλείψεων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Στο θέμα 1</a:t>
            </a:r>
            <a:r>
              <a:rPr b="1" lang="el-GR" sz="20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ο</a:t>
            </a:r>
            <a:r>
              <a:rPr b="1" lang="el-GR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δόθηκε ερώτηση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Α3.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Να 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περιγραφεί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ένας τρόπος προσέγγισης του μήκους ενό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κύκλου με χρήση κανονικών πολυγώνων (με προφανή στόχο την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περιγραφή που έχει το σχολικό βιβλίο παρ.11.4 σελ.243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1" lang="el-GR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Δεν είναι σαφές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το ερώτημα για τους μαθητές, που ζητάει </a:t>
            </a:r>
            <a:r>
              <a:rPr b="1" lang="el-GR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περιγραφή,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αφού μπορούν να αναφέρουν «δικούς τους τρόπους» προσέγγισης του μήκους του κύκλου γράφοντας «έκθεση» ή «ιστορικά στοιχεία» και επίσης δεν μπορεί να βαθμολογηθεί αντικειμενικά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Επιστημονικά λάθη-παραλείψεις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Η απόσταση των αριθμών α και β ισούται με |α+β| (με προφανή στόχο το </a:t>
            </a:r>
            <a:r>
              <a:rPr b="1" lang="el-GR" sz="2000" spc="-1" strike="noStrike" u="sng">
                <a:solidFill>
                  <a:srgbClr val="003366"/>
                </a:solidFill>
                <a:uFillTx/>
                <a:latin typeface="Arial"/>
              </a:rPr>
              <a:t>Λάθος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Δεν αναφέρεται ότι ισχύει για κάθε α και β αφού π.χ. για α=β=0 είναι σωστό.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Η εξίσωση της εφαπτομένης του κύκλου Χ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+Ψ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=ρ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2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στο σημείο (χ</a:t>
            </a:r>
            <a:r>
              <a:rPr b="1" lang="el-GR" sz="20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,ψ</a:t>
            </a:r>
            <a:r>
              <a:rPr b="1" lang="el-GR" sz="20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) είναι: ψχ</a:t>
            </a:r>
            <a:r>
              <a:rPr b="1" lang="el-GR" sz="20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+χψ</a:t>
            </a:r>
            <a:r>
              <a:rPr b="1" lang="el-GR" sz="20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=ρ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2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(με προφανή στόχο το </a:t>
            </a:r>
            <a:r>
              <a:rPr b="1" lang="el-GR" sz="2000" spc="-1" strike="noStrike" u="sng">
                <a:solidFill>
                  <a:srgbClr val="003366"/>
                </a:solidFill>
                <a:uFillTx/>
                <a:latin typeface="Arial"/>
              </a:rPr>
              <a:t>Λάθος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Θα έπρεπε όμως να λέει για κάθε σημείο (χ</a:t>
            </a:r>
            <a:r>
              <a:rPr b="1" lang="el-GR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,ψ</a:t>
            </a:r>
            <a:r>
              <a:rPr b="1" lang="el-GR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) αφού έτσι όπως είναι γραμμένο για χ</a:t>
            </a:r>
            <a:r>
              <a:rPr b="1" lang="el-GR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=ψ</a:t>
            </a:r>
            <a:r>
              <a:rPr b="1" lang="el-GR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 είναι σωστ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Ενδεικτικά παραδείγματα λαθών ή παραλείψεων</a:t>
            </a:r>
            <a:br>
              <a:rPr sz="2400"/>
            </a:b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(Α΄Λυκείου Άλγεβρα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26560" y="2362320"/>
            <a:ext cx="770436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ΘΕΜΑ 3</a:t>
            </a:r>
            <a:r>
              <a:rPr b="1" lang="el-GR" sz="2000" spc="-1" strike="noStrike" u="sng" baseline="30000">
                <a:solidFill>
                  <a:srgbClr val="003366"/>
                </a:solidFill>
                <a:uFillTx/>
                <a:latin typeface="Arial"/>
                <a:ea typeface="Times New Roman"/>
              </a:rPr>
              <a:t>ο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Γ</a:t>
            </a:r>
            <a:r>
              <a:rPr b="1" lang="el-GR" sz="1800" spc="-1" strike="noStrike" baseline="-25000">
                <a:solidFill>
                  <a:srgbClr val="003366"/>
                </a:solidFill>
                <a:latin typeface="Arial"/>
                <a:ea typeface="Times New Roman"/>
              </a:rPr>
              <a:t>1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) Να λύσετε την εξίσωση:|2-|2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-1|=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Γ</a:t>
            </a:r>
            <a:r>
              <a:rPr b="1" lang="el-GR" sz="1800" spc="-1" strike="noStrike" baseline="-25000">
                <a:solidFill>
                  <a:srgbClr val="003366"/>
                </a:solidFill>
                <a:latin typeface="Arial"/>
                <a:ea typeface="Times New Roman"/>
              </a:rPr>
              <a:t>2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) Να λύσετε την εξίσωση:|8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x</a:t>
            </a:r>
            <a:r>
              <a:rPr b="1" lang="en-GB" sz="1800" spc="-1" strike="noStrike" baseline="30000">
                <a:solidFill>
                  <a:srgbClr val="003366"/>
                </a:solidFill>
                <a:latin typeface="Arial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-2012(x-2011)-1821|=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Γ</a:t>
            </a:r>
            <a:r>
              <a:rPr b="1" lang="el-GR" sz="1800" spc="-1" strike="noStrike" baseline="-25000">
                <a:solidFill>
                  <a:srgbClr val="003366"/>
                </a:solidFill>
                <a:latin typeface="Arial"/>
                <a:ea typeface="Times New Roman"/>
              </a:rPr>
              <a:t>3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) Να λύσετε την εξίσωση |λ</a:t>
            </a:r>
            <a:r>
              <a:rPr b="1" lang="el-GR" sz="1800" spc="-1" strike="noStrike" baseline="30000">
                <a:solidFill>
                  <a:srgbClr val="003366"/>
                </a:solidFill>
                <a:latin typeface="Arial"/>
                <a:ea typeface="Times New Roman"/>
              </a:rPr>
              <a:t>2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-8|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x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+4=8(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x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+λ/8) για τις διάφορες πραγματικές τιμές του λ. Για ποιες τιμές του λ έχουμε λύση 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x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=1/λ+4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Δεν συνδέονται τα υποερωτήματα και είναι  δύο διαφορετικές ασκήσει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Το ερώτημα Γ</a:t>
            </a:r>
            <a:r>
              <a:rPr b="1" lang="el-GR" sz="1800" spc="-1" strike="noStrike" baseline="-25000">
                <a:solidFill>
                  <a:srgbClr val="ff0000"/>
                </a:solidFill>
                <a:latin typeface="Arial"/>
                <a:ea typeface="Times New Roman"/>
              </a:rPr>
              <a:t>3</a:t>
            </a:r>
            <a:r>
              <a:rPr b="1" lang="el-G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είναι καλό να αποφεύγεται (ως διερεύνηση τέτοιας μορφής) αφού  στις οδηγίες </a:t>
            </a:r>
            <a:r>
              <a:rPr b="1" lang="el-G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προτείνεται η διδασκαλία της διερεύνησης μέσα από συγκεκριμένες τιμές του λ και δεν υπάρχει αντίστοιχη άσκηση στο σχολικό βιβλίο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Ενδεικτικά παραδείγματα λαθών ή παραλείψεων (Α΄Λυκείου Άλγεβρα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ΘΕΜΑ 3</a:t>
            </a:r>
            <a:r>
              <a:rPr b="1" lang="el-GR" sz="1800" spc="-1" strike="noStrike" baseline="30000">
                <a:solidFill>
                  <a:srgbClr val="003366"/>
                </a:solidFill>
                <a:latin typeface="Arial"/>
              </a:rPr>
              <a:t>Ο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Δίνεται το τριώνυμο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)=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1" lang="el-GR" sz="1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-2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+|λ-1|  με  λ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є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α) Να βρεθεί η διακρίνουσα 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β) Για ποιες τιμές του λ  η εξίσωση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)=0 έχει μία ρίζα διπλή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0000"/>
                </a:solidFill>
                <a:latin typeface="Arial"/>
              </a:rPr>
              <a:t>γ) Για τις τιμές του λ που βρήκατε να λύσετε την ανίσωση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f(x)</a:t>
            </a:r>
            <a:r>
              <a:rPr b="1" lang="el-GR" sz="1800" spc="-1" strike="noStrike">
                <a:solidFill>
                  <a:srgbClr val="ff0000"/>
                </a:solidFill>
                <a:latin typeface="Arial"/>
              </a:rPr>
              <a:t>-5(χ-1)+4&gt;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δ)Για την </a:t>
            </a:r>
            <a:r>
              <a:rPr b="1" lang="el-GR" sz="1800" spc="-1" strike="noStrike">
                <a:solidFill>
                  <a:srgbClr val="ff0000"/>
                </a:solidFill>
                <a:latin typeface="Arial"/>
              </a:rPr>
              <a:t>μεγαλύτερη τιμή του λ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 που βρήκατε να λύσετε την εξίσωση: λ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f(x)</a:t>
            </a:r>
            <a:r>
              <a:rPr b="1" lang="en-GB" sz="1800" spc="-1" strike="noStrike" baseline="30000">
                <a:solidFill>
                  <a:srgbClr val="003366"/>
                </a:solidFill>
                <a:latin typeface="Arial"/>
              </a:rPr>
              <a:t>4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-f(x)-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=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ff0000"/>
                </a:solidFill>
                <a:latin typeface="Arial"/>
              </a:rPr>
              <a:t>Η μη εύρεση του λ στο β) ερώτημα απαγορεύει την λύση του γ) και δ) ερωτήματο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Παραδείγματα «τσιμπημένων» θεμάτων (Άλγεβρα Γενικής Παιδείας Β΄Λυκείου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3366"/>
                </a:solidFill>
                <a:uFillTx/>
                <a:latin typeface="Arial"/>
              </a:rPr>
              <a:t>ΘΕΜΑ2ο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Έστω δύο γωνίες α και β(α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≠β) με 0≤α,β ≤2π και έτσι, ώστε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ημ(α+β)=2ημβσυνα. Τότ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Α)Να δείξετε ότι: α=β+π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Β)Να δείξετε ότι: ημ2α=ημ2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Γ) Αν α=5π/4 και β=π/4 να λύσετε την εξίσωση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3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συν(β-α) συν</a:t>
            </a:r>
            <a:r>
              <a:rPr b="0" lang="el-GR" sz="20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3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x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4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 συν</a:t>
            </a:r>
            <a:r>
              <a:rPr b="0" lang="el-GR" sz="20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x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-συν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x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+2=ημ2α-ημ2β (χ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є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R)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όταν συν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x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&gt;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Συνέχεια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3366"/>
                </a:solidFill>
                <a:uFillTx/>
                <a:latin typeface="Arial"/>
              </a:rPr>
              <a:t>ΘΕΜΑ 3</a:t>
            </a:r>
            <a:r>
              <a:rPr b="1" lang="el-GR" sz="1800" spc="-1" strike="noStrike" u="sng" baseline="30000">
                <a:solidFill>
                  <a:srgbClr val="003366"/>
                </a:solidFill>
                <a:uFillTx/>
                <a:latin typeface="Arial"/>
              </a:rPr>
              <a:t>Ο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Έστω χ</a:t>
            </a:r>
            <a:r>
              <a:rPr b="1" lang="el-GR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,χ</a:t>
            </a:r>
            <a:r>
              <a:rPr b="1" lang="el-GR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,χ</a:t>
            </a:r>
            <a:r>
              <a:rPr b="1" lang="el-GR" sz="1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... Οι θετικές ρίζες της εξίσωσης: σφ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=-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Arial"/>
              </a:rPr>
              <a:t>√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3 /3 (1) και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ψ</a:t>
            </a:r>
            <a:r>
              <a:rPr b="1" lang="el-GR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,ψ</a:t>
            </a:r>
            <a:r>
              <a:rPr b="1" lang="el-GR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, ψ</a:t>
            </a:r>
            <a:r>
              <a:rPr b="1" lang="el-GR" sz="1800" spc="-1" strike="noStrike" baseline="-25000">
                <a:solidFill>
                  <a:srgbClr val="003366"/>
                </a:solidFill>
                <a:latin typeface="Arial"/>
              </a:rPr>
              <a:t>3 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..οι αρνητικές ρίζες της  εξίσωσης: 2εφ</a:t>
            </a:r>
            <a:r>
              <a:rPr b="1" lang="el-GR" sz="1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-4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  <a:ea typeface="Arial"/>
              </a:rPr>
              <a:t>√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3εφχ+6=0 (2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α) Να λύσετε τις παραπάνω εξισώσει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β) Να δείξετε ότι οι παραπάνω 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λύσεις των (1) και (2) είναι διαδοχικοί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όροι αριθμητικής προόδου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της οποίας να βρείτε το ν-στό όρο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γ) Να βρείτε το άθροισμα των 60 πρώτων όρων των προόδων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αυτών καθώς και το  άθροισμα των 140 πρώτων όρων περιττή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και άρτιας τάξης αντίστοιχα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Γενικό Νομοθετικό πλαίσιο για τις εξετάσεις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Οι ερωτήσεις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. Ε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ίναι ανάλογες με εκείνες που υπάρχουν στα σχολικά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εγχειρίδια και στις οδηγίες του Π.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. Δ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ιατρέχουν όσο το δυνατόν μεγαλύτερη έκταση τη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εξεταστέας ύλης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l-GR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. Ε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λέγχουν ευρύ φάσμα διδακτικών στόχων και είναι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κλιμακούμενου βαθμού δυσκολίας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Οι μαθητές απαντούν υποχρεωτικά σε όλα τα θέματα.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Συνέχεια 3</a:t>
            </a:r>
            <a:r>
              <a:rPr b="1" lang="el-GR" sz="2400" spc="-1" strike="noStrike" baseline="30000">
                <a:solidFill>
                  <a:srgbClr val="006666"/>
                </a:solidFill>
                <a:latin typeface="Arial"/>
              </a:rPr>
              <a:t>ου</a:t>
            </a: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 θέματος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δ) Ποιος όρος της προόδου που προέκυψε από την (1) ισούται με 2012π/3 και ποιος όρος της προόδου που προέκυψε από την (2) ισούται με -6000π/9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ε) Να λύσετε στο σύνολο των πραγματικών αριθμών την εξίσωση: χ</a:t>
            </a:r>
            <a:r>
              <a:rPr b="1" lang="el-GR" sz="20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χ+χ</a:t>
            </a:r>
            <a:r>
              <a:rPr b="1" lang="el-GR" sz="2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χ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+χ</a:t>
            </a:r>
            <a:r>
              <a:rPr b="1" lang="el-GR" sz="20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χ=6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1" lang="en-GB" sz="2000" spc="-1" strike="noStrike" baseline="-25000">
                <a:solidFill>
                  <a:srgbClr val="003366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/1810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-π  και την εξίσωση: ψ</a:t>
            </a:r>
            <a:r>
              <a:rPr b="1" lang="el-GR" sz="20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χ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6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+ψ</a:t>
            </a:r>
            <a:r>
              <a:rPr b="1" lang="el-GR" sz="2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χ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3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=2π/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στ) Να λύσετε την ανίσωση: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P(x)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=χ</a:t>
            </a:r>
            <a:r>
              <a:rPr b="1" lang="el-GR" sz="20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χ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3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+χ</a:t>
            </a:r>
            <a:r>
              <a:rPr b="1" lang="el-GR" sz="2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χ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+χ</a:t>
            </a:r>
            <a:r>
              <a:rPr b="1" lang="el-GR" sz="20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χ+α</a:t>
            </a:r>
            <a:r>
              <a:rPr b="1" lang="el-GR" sz="2000" spc="-1" strike="noStrike" baseline="-25000">
                <a:solidFill>
                  <a:srgbClr val="003366"/>
                </a:solidFill>
                <a:latin typeface="Arial"/>
              </a:rPr>
              <a:t>871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-2612π/3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3005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π/3&gt; β</a:t>
            </a:r>
            <a:r>
              <a:rPr b="1" lang="el-GR" sz="2000" spc="-1" strike="noStrike" baseline="-25000">
                <a:solidFill>
                  <a:srgbClr val="003366"/>
                </a:solidFill>
                <a:latin typeface="Arial"/>
              </a:rPr>
              <a:t>1002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όπου α</a:t>
            </a:r>
            <a:r>
              <a:rPr b="1" lang="el-GR" sz="2000" spc="-1" strike="noStrike" baseline="-25000">
                <a:solidFill>
                  <a:srgbClr val="003366"/>
                </a:solidFill>
                <a:latin typeface="Arial"/>
              </a:rPr>
              <a:t>871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ο αντίστοιχος όρος της προόδου των λύσεων της εξίσωσης (1) και β</a:t>
            </a:r>
            <a:r>
              <a:rPr b="1" lang="el-GR" sz="2000" spc="-1" strike="noStrike" baseline="-25000">
                <a:solidFill>
                  <a:srgbClr val="003366"/>
                </a:solidFill>
                <a:latin typeface="Arial"/>
              </a:rPr>
              <a:t>1002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ο αντίστοιχος όρος της προόδου των λύσεων της εξίσωσης (2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Συνέχεια θεμάτων</a:t>
            </a:r>
            <a:r>
              <a:rPr b="1" lang="el-GR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421000"/>
            <a:ext cx="7693200" cy="36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3366"/>
                </a:solidFill>
                <a:uFillTx/>
                <a:latin typeface="Arial"/>
              </a:rPr>
              <a:t>ΘΕΜΑ 4</a:t>
            </a:r>
            <a:r>
              <a:rPr b="1" lang="el-GR" sz="1800" spc="-1" strike="noStrike" u="sng" baseline="30000">
                <a:solidFill>
                  <a:srgbClr val="003366"/>
                </a:solidFill>
                <a:uFillTx/>
                <a:latin typeface="Arial"/>
              </a:rPr>
              <a:t>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Δίνεται η συνάρτηση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f(x)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ln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[(1/2)</a:t>
            </a:r>
            <a:r>
              <a:rPr b="1" lang="en-GB" sz="2000" spc="-1" strike="noStrike" baseline="30000">
                <a:solidFill>
                  <a:srgbClr val="003366"/>
                </a:solidFill>
                <a:latin typeface="Arial"/>
              </a:rPr>
              <a:t>x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-1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-1]+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ln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(2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+4+8+...1024)/2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10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-1] και η  συνάρτηση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g(x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)=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ln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[2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χ2-3</a:t>
            </a:r>
            <a:r>
              <a:rPr b="1" lang="en-GB" sz="2000" spc="-1" strike="noStrike" baseline="30000">
                <a:solidFill>
                  <a:srgbClr val="003366"/>
                </a:solidFill>
                <a:latin typeface="Arial"/>
              </a:rPr>
              <a:t>x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+1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- 2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-1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]+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ln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(1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/2+1/4+1/8+...1/1024). 2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10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/ 2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10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-1]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Α) Να βρείτε το πεδίο ορισμού της συνάρτησης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και της συνάρτησης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g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B)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Να δείξετε ότι: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f(x)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ln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[(1/2)</a:t>
            </a:r>
            <a:r>
              <a:rPr b="1" lang="en-GB" sz="2000" spc="-1" strike="noStrike" baseline="30000">
                <a:solidFill>
                  <a:srgbClr val="003366"/>
                </a:solidFill>
                <a:latin typeface="Arial"/>
              </a:rPr>
              <a:t>x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-2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-2]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Συνέχεια 4</a:t>
            </a:r>
            <a:r>
              <a:rPr b="1" lang="el-GR" sz="2400" spc="-1" strike="noStrike" baseline="30000">
                <a:solidFill>
                  <a:srgbClr val="006666"/>
                </a:solidFill>
                <a:latin typeface="Arial"/>
              </a:rPr>
              <a:t>ου</a:t>
            </a: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 θέματος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Γ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Να λύσετε την εξίσωση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(x)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l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[(1/2)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x</a:t>
            </a:r>
            <a:r>
              <a:rPr b="1" lang="el-GR" sz="20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+2]+3=2l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(1/4)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+20+10</a:t>
            </a:r>
            <a:r>
              <a:rPr b="1" lang="de-DE" sz="2000" spc="-1" strike="noStrike" baseline="30000">
                <a:solidFill>
                  <a:srgbClr val="ff0000"/>
                </a:solidFill>
                <a:latin typeface="Arial"/>
              </a:rPr>
              <a:t>log3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1" lang="el-GR" sz="2000" spc="-1" strike="noStrike" baseline="30000">
                <a:solidFill>
                  <a:srgbClr val="ff0000"/>
                </a:solidFill>
                <a:latin typeface="Arial"/>
              </a:rPr>
              <a:t>1/2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Δ) Να λύσετε την ανίσωση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ln2(e</a:t>
            </a:r>
            <a:r>
              <a:rPr b="1" lang="en-GB" sz="2000" spc="-1" strike="noStrike" baseline="30000">
                <a:solidFill>
                  <a:srgbClr val="0033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+1)-f(-1)ln(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1" lang="en-GB" sz="2000" spc="-1" strike="noStrike" baseline="30000">
                <a:solidFill>
                  <a:srgbClr val="0033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+1)+ln2ln3&lt; g(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-1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63/2 και την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ανίσωση: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g(x)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&gt;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lne</a:t>
            </a:r>
            <a:r>
              <a:rPr b="1" lang="el-GR" sz="2000" spc="-1" strike="noStrike" baseline="30000">
                <a:solidFill>
                  <a:srgbClr val="003366"/>
                </a:solidFill>
                <a:latin typeface="Arial"/>
              </a:rPr>
              <a:t>-1/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Ε) </a:t>
            </a:r>
            <a:r>
              <a:rPr b="1" lang="el-GR" sz="2000" spc="-1" strike="noStrike" u="sng">
                <a:solidFill>
                  <a:srgbClr val="ff0000"/>
                </a:solidFill>
                <a:uFillTx/>
                <a:latin typeface="Arial"/>
              </a:rPr>
              <a:t>Πότε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η συνάρτηση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ι) τέμνει τους άξονες χ΄χ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ιι) βρίσκεται  πάνω από τον άξονα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΄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ιιι) τέμνει την ευθεία ψ=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ln2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ΒΑΣΙΚΕΣ ΑΡΧΕΣ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Καλή συνεργασία όλων των διδασκόντων-εισηγητών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3366"/>
                </a:solidFill>
                <a:uFillTx/>
                <a:latin typeface="Arial"/>
              </a:rPr>
              <a:t>Όλοι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οι διδάσκοντες συμμετέχουν στην δημιουργία </a:t>
            </a:r>
            <a:r>
              <a:rPr b="1" lang="el-GR" sz="2000" spc="-1" strike="noStrike" u="sng">
                <a:solidFill>
                  <a:srgbClr val="003366"/>
                </a:solidFill>
                <a:uFillTx/>
                <a:latin typeface="Arial"/>
              </a:rPr>
              <a:t>όλων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των θεμάτων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Γίνονται προτάσεις, συζήτηση, συνδημιουργία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Τα θέματα δημιουργούνται και αναπαράγονται στη σχολική μονάδα. Προφανώς έχει γίνει μια προεργασία από τον κάθε διδάσκοντα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ΒΑΣΙΚΕΣ ΑΡΧΕΣ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Διευκρινίσεις δίνονται μόνο όταν ζητηθούν από τους μαθητές στα πρώτα 20 λεπτά και πάντως </a:t>
            </a:r>
            <a:r>
              <a:rPr b="0" lang="el-GR" sz="2000" spc="-1" strike="noStrike" u="sng">
                <a:solidFill>
                  <a:srgbClr val="003366"/>
                </a:solidFill>
                <a:uFillTx/>
                <a:latin typeface="Arial"/>
              </a:rPr>
              <a:t>ποτέ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μετά την αποχώρηση μαθητή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Δεν εξηγούμε ένα-ένα τα θέματα μέσα στην τάξη εξέτασης (Αν η διατύπωση είναι σαφής δεν θα χρειαστούν πολλές διευκρινίσεις). </a:t>
            </a:r>
            <a:r>
              <a:rPr b="0" i="1" lang="el-GR" sz="2000" spc="-1" strike="noStrike">
                <a:solidFill>
                  <a:srgbClr val="ff0000"/>
                </a:solidFill>
                <a:latin typeface="Arial"/>
              </a:rPr>
              <a:t>Ορθόν το Σαφές (Ευριπίδης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ΣΥΜΠΕΡΑΣΜΑΤΑ ΑΠΟ ΕΡΕΥΝΕΣ ΣΕ ΣΧΕΣΗ ΜΕ ΤΑ ΘΕΜΑΤΑ ΠΡΟΑΓΩΓΙΚΩΝ ΕΞΕΤΑΣΕΩΝ (Ν.ΑΤΤΙΚΗΣ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Το 18% των θεμάτων των εξετάσεων έχουν κάποιο είδος «νομικού προβλήματος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Το 12% των θεμάτων έχουν κάποιο είδος επιστημονικού προβλήματο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Το 8% των θεμάτων έχουν και τα δύο προηγούμενα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Το 2% των θεμάτων βρίσκονται εκτός εξεταστέας ύλη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ΣΥΜΠΕΡΑΣΜΑΤΑ ΑΠΟ ΕΡΕΥΝΕΣ ΣΕ ΣΧΕΣΗ ΜΕ ΤΑ ΘΕΜΑΤΑ ΠΡΟΑΓΩΓΙΚΩΝ ΕΞΕΤΑΣΕΩΝ (Ν.ΑΤΤΙΚΗΣ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Το 9% των θεμάτων δεν είναι σύμφωνα με τις οδηγίες διαχείρισης της ύλης που δίνονται από το Π.Ι.(ΙΤΕ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Το 27% των θεμάτων έχουν «παιδαγωγικό πρόβλημα» είτε με την έννοια του βαθμού δυσκολίας είτε με την χρονική διάρκεια είτε ακόμη και με «οριακά» θέματα που βρίσκονται εκτός Λυκειακού επιπέδο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Λίγα λόγια για τους μαθητές με μαθησιακές δυσκολίες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Έχουμε υπόψη μας την </a:t>
            </a:r>
            <a:r>
              <a:rPr b="0" lang="el-GR" sz="2000" spc="-1" strike="noStrike" u="sng">
                <a:solidFill>
                  <a:srgbClr val="003366"/>
                </a:solidFill>
                <a:uFillTx/>
                <a:latin typeface="Arial"/>
              </a:rPr>
              <a:t>γνωμάτευση του ΚΕΔΔΥ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και τις οδηγίες αξιολόγησης για κάθε περίπτωση μαθητή με Μ.Δ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Εξετάζεται από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2 καθηγητές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, ένας εκ των οποίων είναι ο διδάσκοντα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Το γραπτό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δεν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αποτελεί τεκμήριο βαθμολόγηση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Δεν εξετάζουμε τον μαθητή σε άλλα παραπλήσια θέματα αλλά σε αυτά που δόθηκαν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Λίγα λόγια για τους μαθητές με μαθησιακές δυσκολίες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Δεν τον βοηθάμε λέγοντας του τις λύσεις-απαντήσεις αλλά διατυπώνουμε ερωτήσεις για να τον παρωθήσουμε να απαντήσει, αφού εξηγήσουμε </a:t>
            </a:r>
            <a:r>
              <a:rPr b="0" lang="el-GR" sz="2000" spc="-1" strike="noStrike" u="sng">
                <a:solidFill>
                  <a:srgbClr val="003366"/>
                </a:solidFill>
                <a:uFillTx/>
                <a:latin typeface="Arial"/>
              </a:rPr>
              <a:t>επαρκώς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τι </a:t>
            </a:r>
            <a:r>
              <a:rPr b="0" lang="el-GR" sz="2000" spc="-1" strike="noStrike" u="sng">
                <a:solidFill>
                  <a:srgbClr val="003366"/>
                </a:solidFill>
                <a:uFillTx/>
                <a:latin typeface="Arial"/>
              </a:rPr>
              <a:t>ακριβώς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ζητά η άσκηση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Δεν χαρακτηρίζουμε τις απαντήσεις του, κατά την διάρκεια της εξέτασης, σωστές ή λάθος και πάντα ρωτάμε αν έχει κάτι άλλο να συμπληρώσε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Δεν δείχνουμε «να θέλουμε να τελειώσουμε την εξέταση γρήγορα για να φύγουμε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Διαβάζουμε το Νόμο για την εξέταση των μαθητών με Μ.Δ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Ας συζητήσουμε ..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Γενικό Νομοθετικό πλαίσιο για τις εξετάσεις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Σε περίπτωση κατά την οποία ένα θέμα αναλύεται σε υποερωτήματα, η βαθμολογία που προβλέπεται για αυτό κατανέμεται ισότιμα στις επιμέρους ερωτήσεις, εκτός αν κατά την ανακοίνωση των θεμάτων καθορίζεται διαφορετικός βαθμός για κάθε μία από αυτές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, ο οποίος και αναγράφεται στο θέμα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Οι γραπτές προαγωγικές εξετάσεις των μαθητών της Α΄ και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΄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τάξης διενεργούνται με την ευθύνη του Διευθυντή και των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διδασκόντων σε κάθε Λύκειο.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Γενικό Νομοθετικό πλαίσιο για τις εξετάσεις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Οι γραπτές απολυτήριες εξετάσεις των μαθητών της Γ΄ τάξης στα μαθήματα που εξετάζονται σε επίπεδο σχολικής μονάδας διενεργούνται σύμφωνα με τις διατάξεις του άρθρου 16 του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Π.Δ.60/2006,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όπως τροποποιήθηκε το 2010 και για τους μαθητές της Γ΄Λυκείου που εξετάζονται ενδοσχολικά αντί των πανελληνίων εξετάσεων για την απόκτηση του απολυτηρίου τίτλο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Εξέταση Άλγεβρας-Γεωμετρίας Α΄και Β΄Λυκείου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Στους μαθητές δίνονται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τέσσερα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(4)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θέματα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Τα τέσσερα θέματα που δίνονται στους μαθητές διαρθρώνονται ως εξής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α) Το </a:t>
            </a:r>
            <a:r>
              <a:rPr b="1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πρώτο θέμα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αποτελείται από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ερωτήματα </a:t>
            </a:r>
            <a:r>
              <a:rPr b="1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θεωρίας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που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αφορούν έννοιες, ορισμούς, λήμματα, προτάσεις, θεωρήματα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και πορίσματα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β) Το </a:t>
            </a:r>
            <a:r>
              <a:rPr b="1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δεύτερο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και το </a:t>
            </a:r>
            <a:r>
              <a:rPr b="1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τρίτο θέμα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αποτελ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ούν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ται το καθένα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από μία </a:t>
            </a:r>
            <a:r>
              <a:rPr b="1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άσκηση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που απαιτεί από το μαθητή ικανότητα </a:t>
            </a:r>
            <a:r>
              <a:rPr b="0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συνδυασμού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και </a:t>
            </a:r>
            <a:r>
              <a:rPr b="0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σύνθεσης εννοιών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αποδεικτικών ή υπολογιστικών διαδικασιών.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Η κάθε άσκηση </a:t>
            </a:r>
            <a:r>
              <a:rPr b="1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μπορεί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να αναλύεται σε επιμέρους ερωτήματα.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Εξέταση Άλγεβρας-Γεωμετρίας Α΄και Β΄Λυκείου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Το </a:t>
            </a:r>
            <a:r>
              <a:rPr b="1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τέταρτο θέμα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αποτελείται </a:t>
            </a:r>
            <a:r>
              <a:rPr b="1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από μία άσκηση ή ένα πρόβλημα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που η λύση του απαιτεί από το μαθητή ικανότητες </a:t>
            </a:r>
            <a:r>
              <a:rPr b="0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συνδυασμού και σύνθεσης προηγούμενων γνώσεων αλλά και την ανάληψη πρωτοβουλιών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στη διαδικασία επίλυσής του.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Το θέμα αυτό </a:t>
            </a:r>
            <a:r>
              <a:rPr b="1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μπορεί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να αναλύεται σε επιμέρους ερωτήματα, τα οποία βοηθούν το μαθητή στη λύση.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Εξέταση Άλγεβρας-Γεωμετρίας Α΄και Β΄Λυκείου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Η βαθμολογία κατανέμεται ανά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είκοσι πέντε (25) μονάδες στο καθένα από τα τέσσερα θέματα.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Κατά τον ίδιο τρόπο εξετάζονται και τα μαθήματα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Μαθηματικά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Κατεύθυνσης Β΄Λυκείου»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 σε ενδοσχολικό επίπεδο το μάθημα «Μαθηματικά Κατεύθυνσης» Γ΄Λυκείου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και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Μαθηματικά και Στοιχεία Στατιστικής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» Γενικής Παιδείας Γ΄Λυκείο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66"/>
                </a:solidFill>
                <a:latin typeface="Arial"/>
              </a:rPr>
              <a:t>Επιλογή θεμάτων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Για την επιλογή των θεμάτων λαμβάνονται υπόψη, εκτός από την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ισχύουσα νομοθεσία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, και οι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οδηγίες του Παιδαγωγικού Ινστιτούτου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Τα θέματα δημιουργούνται, γράφονται, τυπώνονται και αναπαράγονται στην </a:t>
            </a:r>
            <a:r>
              <a:rPr b="1" lang="el-GR" sz="2000" spc="-1" strike="noStrike" u="sng">
                <a:solidFill>
                  <a:srgbClr val="003366"/>
                </a:solidFill>
                <a:uFillTx/>
                <a:latin typeface="Arial"/>
              </a:rPr>
              <a:t>σχολική μονάδα την ημέρα της εξέτασης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με ευθύνη των διδασκόντων και του Διευθυντή της σχολικής μονάδα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Για </a:t>
            </a:r>
            <a:r>
              <a:rPr b="1" lang="el-GR" sz="2000" spc="-1" strike="noStrike" u="sng">
                <a:solidFill>
                  <a:srgbClr val="003366"/>
                </a:solidFill>
                <a:uFillTx/>
                <a:latin typeface="Arial"/>
              </a:rPr>
              <a:t>κάθε θέμα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και για </a:t>
            </a:r>
            <a:r>
              <a:rPr b="1" lang="el-GR" sz="2000" spc="-1" strike="noStrike" u="sng">
                <a:solidFill>
                  <a:srgbClr val="003366"/>
                </a:solidFill>
                <a:uFillTx/>
                <a:latin typeface="Arial"/>
              </a:rPr>
              <a:t>το σύνολο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του περιεχομένου των θεμάτων, της δομής τους και της επιστημονικής τους ορθότητας  υπεύθυνοι είναι οι διδάσκοντες-εισηγητές που υπογράφουν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αραγιάννης Ι-Σχ. Σύμβουλος</a:t>
            </a:r>
          </a:p>
        </p:txBody>
      </p:sp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13:01:11Z</dcterms:created>
  <dc:creator>DONKEY</dc:creator>
  <dc:description/>
  <dc:language>en-US</dc:language>
  <cp:lastModifiedBy>DONKEY</cp:lastModifiedBy>
  <dcterms:modified xsi:type="dcterms:W3CDTF">2012-05-11T09:24:55Z</dcterms:modified>
  <cp:revision>46</cp:revision>
  <dc:subject/>
  <dc:title>ΓΡΑΠΤΕΣ ΕΞΕΤΑΣΕΙΣ ΜΑΘΗΜΑΤΙΚΩΝ ΛΥΚΕΙΩΝ</dc:title>
</cp:coreProperties>
</file>