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5FBD-D4D7-4AAC-A51A-AD0060582A6B}" type="datetime">
              <a:rPr b="0" lang="el-G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12CA-082E-44AB-9714-F45ECDB61D4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501D-17A4-46E8-B954-784297C99F6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D5C8-01DF-480D-9EF3-91D9AAD6427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5530-6D6D-4AA7-8359-1A0F0770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F2E3-A67E-495B-BA05-A1E1715F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18108-740E-4260-A2E0-DF74DEC3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7F582-8263-4497-A6CE-721CFFB7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0CE01-CBD9-4DFA-B699-F2A693D6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BAE4E-BBF1-4B59-85EF-C7ED531B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A3A04-D120-4530-AC8B-2D67FBD3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CE787-1AC1-4668-ABA6-92453DC6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A2685-1943-430C-8960-1660FBDE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15BFA-F00F-403B-9EE9-D1AA4556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5AA57-2A4F-439B-B453-776FBCF3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04F85-5C97-4157-82ED-DD275A90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378-34E8-4C5B-95BB-64519CA6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30082-4C8F-4E28-B80D-8FDD78EE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34B98-7A8E-458B-A6FB-B3F2F12C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DA6EE-0E4D-4912-8B91-E3A145F5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E73D0-AB0A-46E8-B9F0-30FC9274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41E6B-F197-4828-B138-D22D84A6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AC5CC-4CA7-41F7-B444-C956C9B0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7D8FD-1866-4498-9AF8-CAC82CA8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74070-7929-4DE2-81A5-6756704B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0545E-B9CE-428F-AC4F-DA91D402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7802B-CE29-4238-9B09-CE262552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4675-5E58-4B6D-87E2-247D1A0E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A9255-5CAD-4120-9D0C-039480CD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7B9DE-8209-4D99-AD9F-87587803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CEB4C-55D6-401E-8A57-FD8CA7FF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21FE1-056F-440B-9EC3-2D700CEF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FDAF6-A6A1-43EB-AF75-F81F6D21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E780E-4F35-436F-B93F-58094E98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704C4-67BA-4B53-A797-5F3B4CF7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CCCD5-3BAF-40B6-8B38-73A4C4D1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6BD9D-B631-4759-A681-BC4B588E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57935-58A8-4032-B9B3-9549EA3C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C4F7-2DF1-45F7-85A8-6799F7DD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02BE3-13F4-466F-A0CD-E0768D30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E6F61-B8BB-49BB-A0D8-F2A41CA9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96FC4-D458-453A-8F46-9E16B35F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E3536-E224-495F-ACD5-018D2D6D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8A7C6-355B-4D4C-8AA0-E16763CD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D4331-A386-4CFE-A480-F986F55C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516C8-5289-47DF-9B91-1386C170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CC6F4-3F64-47DA-BBCF-EB0495AA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19515-E078-4C74-9DA6-B72644EB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BDFBC-BAC5-4C9F-8668-130038B8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4591-7D38-4CE4-9657-862E86C0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4460D-30FD-434A-88D4-020FB8A6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2CD1A-3312-4793-9927-5AFBE08A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C700F-7BFF-4D94-A7CB-4B211665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9FD05-4156-4CCC-A276-C4D175C2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D6791-9BB5-4790-A0C8-70074BEB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2CCA-BF59-41FF-8077-1B330819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6E6F-130D-4CC8-B5FE-077F7546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00CC-29A7-4AB8-97F9-197E9331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CEA3-9796-4E80-82F0-96E4072B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2F6F-91B4-4AAB-9CE8-B0C72491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3B1-B2FA-4FC7-8694-E685335B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1055-07D6-4CB9-9838-97AB2822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3B2B-C16D-4BCA-AEE2-6916F58A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6425-1A0E-40CF-9B6A-08A7E6E6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737C-8D90-4D7B-9725-34CE4B0A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ED63-0E6E-40DD-8599-06FA9376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59984-26B9-4948-95AF-BBE13894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FD754-01B5-4A45-A6B2-7AC9EFCB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71EF9-064B-40AD-9386-6C71EF1B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974A7-3783-44C4-B609-9D27533A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A3BB4-40D8-4E9F-AC64-B6F9B953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0340-6679-4996-97E2-9D20F346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378C8-671E-437F-81D4-E1D16F47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206AF-A047-4EF0-A0A9-3CA9F2D5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EFF67-676F-41BE-AE70-6C17D7AF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B7728-B4B2-414A-A7FA-FF7596EF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8FB0F-4E9B-4B21-BF32-C89480EA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4EB6B-D0F7-4B40-9E12-70DBB33A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4F2DE-4AFC-4E66-BC54-7037C1E7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484ED-DA73-4724-BE6B-A0E93A6F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91BC0-E2D6-483B-A9D6-279E7EF6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C8A91-1E68-4DFB-A9AB-7CF062B0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0D2-8CCD-4F8F-8A11-BE2BAFBE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86CE4-A50C-423F-8BA0-447899C3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6DCC6-6568-4D15-AB31-B52664A2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07C1D-ED4B-45F6-AF0F-1D4336FE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8EA0E-A05E-4E46-AE7A-1D1FE458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22A04-B978-4E8D-9A64-30DAE2EB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978E9-4D0D-4FD4-A4B8-ABD794C2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89CC6-CB79-4832-B55F-267585CE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780AE-5A93-4EAF-8A49-F1B54083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E7E2A-A1B2-4EEF-8C4B-DE67FED6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56F3A-8E92-44A7-A9E8-6C83BB14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4069-159E-4729-B736-685F33A9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7751B-08B8-4663-83E8-18E17973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5557C-CA4D-4FB9-AE1A-CD3372B9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5C8A9-EB7F-4883-8A34-C5FA2D55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12BCA-9BF5-4FBC-B989-E62E6B24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8E816-BF79-4FEA-AD29-ABBF6757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D4CC4-B9A4-412C-A681-E75D9054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FC789-3328-48A1-89DB-F3B8ABEB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A853C-CF5B-4C2C-9A16-73A8C847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D08D9-E5DB-4C8A-819B-72773E1E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49726-4861-4F4C-8BCA-FAFD15F5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0CA-0F69-45B4-8F3E-BCA71267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A12C8-8287-40FE-8A8C-F85E752BD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03DD7-E4F6-4980-A465-C8E5FAE4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97D7A-9098-4E5B-A871-D631547B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490BE-8E8A-4F0E-85AA-E6961BEF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89F39-CEB5-44F1-9DA8-1BCA6F09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3128C-4819-4099-A3CC-691F50A1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F5E6A-D0F4-427F-8838-D0AC388C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0B026-41E2-4D8C-932C-D04EE508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8358E-67FC-4990-AA26-0E3B9C1E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6A1FD-BB58-40B6-8C24-B3967882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31A3-7B87-4B54-A467-0CA44AED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4C8EA-04C5-4243-88A3-01305217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17559-90DD-445A-8C56-991D43A8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1C0D5-15AC-4E6E-B4AD-6CDAF289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50E45-D3D4-45B1-85AE-01A293D9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95D2C-2CC6-45C7-95FB-A448F0D1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335C9-9A33-417E-BDB7-44BE2D92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7A77E-ED18-4FC5-AE7C-0DA7AA75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80472-BD41-43A6-AD27-0EDE0C51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BE53A-F8E1-42D1-A87C-5AF13DC5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5921E-6C1C-47DB-B96E-8AB79721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4AD7-73B7-44CB-AECC-B69445AD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0C893-D24C-4DDB-A382-5368135C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C78D7-55CB-47A8-A0D6-80276D10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EA8ED-81FD-4FC0-889D-2534722E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D4311-986D-45C3-A10F-ABC112E6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EB66C-B2AC-42B8-9AA5-084DA584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66A64-D089-404F-8B94-EF8ED918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59C9B-5B04-4667-AE6C-7E5AE973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56E35-A67E-4EA6-A40D-B274BC6F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76141-7E2C-4FE7-BF2B-A0314BB7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6E1A4-FEBC-4FF2-9259-48BAC66D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63A6-B435-4622-8009-E23B9B8B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18F83-582E-4908-B1A8-C20FFFB1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8D9DE-E047-4A6B-9A18-6535AB46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1D0D6-B43C-48CA-94C0-0EBEC727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E7821-9865-4C19-81D8-B7C07C58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45466-52E2-4932-9EBF-4412D975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21F5A-7CB0-43D1-9B1B-0525D1E8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72C0C-A0F5-46F5-BC80-546BDBEB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D4340-3012-413E-979B-56414204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62E43-D52F-42C2-953E-F1E0E437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8261E-3E56-4039-AD82-932CD3D2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- Ελεύθερη σχεδίαση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- Ελεύθερη σχεδίαση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- Ορθογώνιο τρίγωνο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- Ορθογώνιο τρίγωνο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- Ευθεία γραμμή σύνδεσης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1485-2BC5-489A-A838-20A8FF45EEE5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CBC8-01B1-4988-A5C1-86812507209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10 - Ελεύθερη σχεδίαση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15 - Ελεύθερη σχεδίαση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16 - Ορθογώνιο τρίγωνο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8" name="16 - Ορθογώνιο τρίγωνο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0" name="18 - Ευθεία γραμμή σύνδεσης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1" name="19 - Διάσημα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20 - Διάσημα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A88B-5289-4D13-B2D2-6C8E9CB52C9E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855F-E3F7-4C56-8F44-CEDF1C31B6A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12 - Ελεύθερη σχεδίαση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11 - Ελεύθερη σχεδίαση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13 - Ορθογώνιο τρίγωνο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13 - Ορθογώνιο τρίγωνο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9" name="14 - Ευθεία γραμμή σύνδεσης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1666-0089-4F27-8F9F-B78C6083DA85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D08C-FF0A-43EC-BECE-DD0969C82C1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12 - Ελεύθερη σχεδίαση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11 - Ελεύθερη σχεδίαση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13 - Ορθογώνιο τρίγωνο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4" name="13 - Ορθογώνιο τρίγωνο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6" name="14 - Ευθεία γραμμή σύνδεσης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A78D-C2E6-4A9C-8B5B-7BCFDFBFF3D6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08B6-34CF-41B8-9544-4C04FEFD84A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- Ορθογώνιο τρίγωνο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- Ομάδα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- Ελεύθερη σχεδίαση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- Ελεύθερη σχεδίαση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- Ελεύθερη σχεδίαση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- Ελεύθερη σχεδίαση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02BD-3610-470F-9809-6D30FF71F86D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695C-A0E6-42E7-883B-B2C4F5C87E5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- Ελεύθερη σχεδίαση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- Ελεύθερη σχεδίαση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- Ορθογώνιο τρίγωνο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- Ορθογώνιο τρίγωνο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- Ευθεία γραμμή σύνδεσης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1BCE-F96F-4492-8DE3-ECA223C114D8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5164-1DD7-49E9-8013-E94D60FDF1B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12 - Ελεύθερη σχεδίαση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1 - Ελεύθερη σχεδίαση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13 - Ορθογώνιο τρίγωνο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13 - Ορθογώνιο τρίγωνο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14 - Ευθεία γραμμή σύνδεσης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10 - Διάσημα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5 - Διάσημα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C736-4203-4908-B7B7-24154C96F162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B097-0CED-4D0B-8E58-4A2D5046EA8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12 - Ελεύθερη σχεδίαση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11 - Ελεύθερη σχεδίαση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13 - Ορθογώνιο τρίγωνο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13 - Ορθογώνιο τρίγωνο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14 - Ευθεία γραμμή σύνδεσης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F88A-5B9B-4593-A6F2-C0F5A219C613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1D69-46EE-41BF-9EA6-070F4C42A56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30F7-3BCB-4804-9800-4ADF0024FE02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3318-4BB5-4AE6-9E0E-BDEA97A6A0D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12 - Ελεύθερη σχεδίαση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11 - Ελεύθερη σχεδίαση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13 - Ορθογώνιο τρίγωνο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13 - Ορθογώνιο τρίγωνο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14 - Ευθεία γραμμή σύνδεσης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56B0-7A75-40B2-AB54-FD073151403E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BF79-B1C5-4513-8C2F-5772E558AE2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12 - Ελεύθερη σχεδίαση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11 - Ελεύθερη σχεδίαση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13 - Ορθογώνιο τρίγωνο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30" name="13 - Ορθογώνιο τρίγωνο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14 - Ευθεία γραμμή σύνδεσης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7260-5BE9-4F25-BAD4-B566350DF924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EAA5-9BBF-4D38-B30E-8BF01E9A298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7376-8880-4271-948C-9C88C6DADC44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6BEE-CB65-4814-BFA8-DB597EB565E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javascript:;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1 - Τίτλος" descr=""/>
          <p:cNvPicPr/>
          <p:nvPr/>
        </p:nvPicPr>
        <p:blipFill>
          <a:blip r:embed="rId1"/>
          <a:stretch/>
        </p:blipFill>
        <p:spPr>
          <a:xfrm>
            <a:off x="633240" y="341280"/>
            <a:ext cx="7804440" cy="23097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" descr="teacher-point-color"/>
          <p:cNvPicPr/>
          <p:nvPr/>
        </p:nvPicPr>
        <p:blipFill>
          <a:blip r:embed="rId2"/>
          <a:stretch/>
        </p:blipFill>
        <p:spPr>
          <a:xfrm>
            <a:off x="1428840" y="3071880"/>
            <a:ext cx="207144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1 - Ορθογώνιο"/>
          <p:cNvSpPr/>
          <p:nvPr/>
        </p:nvSpPr>
        <p:spPr>
          <a:xfrm>
            <a:off x="152280" y="0"/>
            <a:ext cx="899172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Μια παροιμία λέει: «Όταν δεν ξέρεις που να πας, όλοι οι δρόμοι οδηγούν στο στόχο σο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Γιαυτ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το πρώτο βήμα είναι να συνειδητοποιήσεις ΠΟΥ ΘΕΛΕΙΣ ΝΑ Π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Το δεύτερο βήμα είναι να σκεφτείς πως θα αναγνωρίσεις τον προορισμό σου όταν φτάσε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Το τρίτο είναι να σχεδιάσεις το ταξίδι σου με τον καλύτερο τρόπ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Το τέταρτο βήμα είναι να κάνεις το ταξίδ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Φάσεις Σχεδιασμο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Προσδιορισμός του Στόχο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Σχεδίαση Αξιολόγησ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Σχεδίαση Διδασκαλί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Εφαρμογή στην τάξ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wiggins"/>
          <p:cNvPicPr/>
          <p:nvPr/>
        </p:nvPicPr>
        <p:blipFill>
          <a:blip r:embed="rId1"/>
          <a:stretch/>
        </p:blipFill>
        <p:spPr>
          <a:xfrm>
            <a:off x="7500960" y="2928960"/>
            <a:ext cx="1428840" cy="1650960"/>
          </a:xfrm>
          <a:prstGeom prst="rect">
            <a:avLst/>
          </a:prstGeom>
          <a:ln w="0">
            <a:noFill/>
          </a:ln>
        </p:spPr>
      </p:pic>
      <p:pic>
        <p:nvPicPr>
          <p:cNvPr id="590" name="1 - Τίτλος" descr=""/>
          <p:cNvPicPr/>
          <p:nvPr/>
        </p:nvPicPr>
        <p:blipFill>
          <a:blip r:embed="rId2"/>
          <a:stretch/>
        </p:blipFill>
        <p:spPr>
          <a:xfrm>
            <a:off x="208080" y="378000"/>
            <a:ext cx="8710560" cy="847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" descr="teacher-point-color"/>
          <p:cNvPicPr/>
          <p:nvPr/>
        </p:nvPicPr>
        <p:blipFill>
          <a:blip r:embed="rId3"/>
          <a:stretch/>
        </p:blipFill>
        <p:spPr>
          <a:xfrm>
            <a:off x="1000080" y="1428840"/>
            <a:ext cx="1546200" cy="13953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" descr="teacher-point-color"/>
          <p:cNvPicPr/>
          <p:nvPr/>
        </p:nvPicPr>
        <p:blipFill>
          <a:blip r:embed="rId4"/>
          <a:stretch/>
        </p:blipFill>
        <p:spPr>
          <a:xfrm>
            <a:off x="1357200" y="5391000"/>
            <a:ext cx="1625760" cy="1467000"/>
          </a:xfrm>
          <a:prstGeom prst="rect">
            <a:avLst/>
          </a:prstGeom>
          <a:ln w="0">
            <a:noFill/>
          </a:ln>
        </p:spPr>
      </p:pic>
      <p:sp>
        <p:nvSpPr>
          <p:cNvPr id="593" name="6 - Επεξήγηση με σύννεφο"/>
          <p:cNvSpPr/>
          <p:nvPr/>
        </p:nvSpPr>
        <p:spPr>
          <a:xfrm>
            <a:off x="3143160" y="928800"/>
            <a:ext cx="3500640" cy="1357200"/>
          </a:xfrm>
          <a:prstGeom prst="cloudCallout">
            <a:avLst>
              <a:gd name="adj1" fmla="val -71259"/>
              <a:gd name="adj2" fmla="val 39148"/>
            </a:avLst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Comic Sans MS"/>
              </a:rPr>
              <a:t>Πως διατυπών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Comic Sans MS"/>
              </a:rPr>
              <a:t>ένα στόχ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9 - Επεξήγηση με σύννεφο"/>
          <p:cNvSpPr/>
          <p:nvPr/>
        </p:nvSpPr>
        <p:spPr>
          <a:xfrm>
            <a:off x="1571760" y="2714760"/>
            <a:ext cx="5715000" cy="2500200"/>
          </a:xfrm>
          <a:prstGeom prst="cloudCallout">
            <a:avLst>
              <a:gd name="adj1" fmla="val 59388"/>
              <a:gd name="adj2" fmla="val 8620"/>
            </a:avLst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Έχοντας ξεκαθαρίσει στο μυαλό σου ποιες είναι οι Σημαντικές Ιδέες (Μεγάλες Ιδέες-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Big Ideas</a:t>
            </a: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) που θέλεις να κατανοήσουν οι μαθητές σου</a:t>
            </a:r>
            <a:r>
              <a:rPr b="1" i="1" lang="el-GR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11 - Επεξήγηση με σύννεφο"/>
          <p:cNvSpPr/>
          <p:nvPr/>
        </p:nvSpPr>
        <p:spPr>
          <a:xfrm>
            <a:off x="3571920" y="5357880"/>
            <a:ext cx="3857760" cy="1071360"/>
          </a:xfrm>
          <a:prstGeom prst="cloudCallout">
            <a:avLst>
              <a:gd name="adj1" fmla="val -70662"/>
              <a:gd name="adj2" fmla="val 34791"/>
            </a:avLst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Comic Sans MS"/>
              </a:rPr>
              <a:t>Πως θα  εντοπίσω τις Μεγάλες Ιδέε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856800" y="189000"/>
            <a:ext cx="782964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Συνειδητοποιώντας καταρχήν τι σημαίνει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«Μεγάλη Ιδέα»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Μια ιδέα είναι Μεγάλη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σημαντική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και γι΄ αυτό πρέπει να την κατανοήσουν οι μαθητές),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όταν απαντά και δίνει λύση σε ερωτήματα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και προβλήματα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σημαντικά για τη ζωή μας σε προσωπικό, κοινωνικό ή καθαρά επιστημονικό επίπεδο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Επομένως, ένας τρόπος για να την εντοπίσεις, είναι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να καταγράψεις αυτά τα Ουσιαστικά Ερωτήματα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Essential Questions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7" name="Picture 2" descr="wiggins"/>
          <p:cNvPicPr/>
          <p:nvPr/>
        </p:nvPicPr>
        <p:blipFill>
          <a:blip r:embed="rId1"/>
          <a:stretch/>
        </p:blipFill>
        <p:spPr>
          <a:xfrm>
            <a:off x="6804000" y="620640"/>
            <a:ext cx="1224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1856880" y="1071360"/>
            <a:ext cx="682956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0000"/>
                </a:solidFill>
                <a:uFillTx/>
                <a:latin typeface="Comic Sans MS"/>
              </a:rPr>
              <a:t>Σκέψου ερωτήσεις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που θα παρακινήσουν τους μαθητές 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να διερευνήσουν βασικές έννοιες και ιδέες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: το νόημά τους, τη σημασία τους (μέσα στο δίκτυο εννοιών που ανήκουν και γενικά για τη ζωή), τις συνέπειές τους, τις εφαρμογές του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9" name="Picture 2" descr="MaryKalantzis"/>
          <p:cNvPicPr/>
          <p:nvPr/>
        </p:nvPicPr>
        <p:blipFill>
          <a:blip r:embed="rId1"/>
          <a:stretch/>
        </p:blipFill>
        <p:spPr>
          <a:xfrm>
            <a:off x="428760" y="1571760"/>
            <a:ext cx="12142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285480" y="1600200"/>
            <a:ext cx="8629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ΟΥΣΙΑΣΤΙΚΕΣ ΕΡΩΤΗΣΕΙ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Γιατί μετράμε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ι μετριέτα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ι δεν μετριέτα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άντα μετρούσαμ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ως μετράμ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Γιατί δεν μετρά ο καθένας με το δικό του τρόπο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ε τι βοήθησε τους ανθρώπους το να μπορούν να μετράνε;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01" name="1 - Τίτλος" descr=""/>
          <p:cNvPicPr/>
          <p:nvPr/>
        </p:nvPicPr>
        <p:blipFill>
          <a:blip r:embed="rId1"/>
          <a:stretch/>
        </p:blipFill>
        <p:spPr>
          <a:xfrm>
            <a:off x="281160" y="378000"/>
            <a:ext cx="863748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285480" y="1428480"/>
            <a:ext cx="86295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Η μέτρηση μας βοηθάει να περιγράψουμε με ακρίβεια διάφορα μεγέθη (ποσά, χρόνο, επιφάνειες, όγκους,…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Μας βοηθάει στο να μπορούμε να απαντάμε με ακρίβεια σε ερωτήσεις όπως Πόσο μεγάλο; Πόσο πλατύ; Πόσο πολύ; Πόσο χρόνο; Πόσο βαρύ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Μας βοηθάει να επικοινωνούμε με τους άλλους(να είμαστε συνεπείς στα ραντεβού μας, να παραγγέλνουμε τα σωστά έπιπλα για το χώρο μας κλπ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Για να μετρήσουμε χρειαζόμαστε κάποιες μονάδες. Οι μονάδες που επιλέγουμε εξαρτώνται από το μέγεθος που μετράμ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03" name="1 - Τίτλος" descr=""/>
          <p:cNvPicPr/>
          <p:nvPr/>
        </p:nvPicPr>
        <p:blipFill>
          <a:blip r:embed="rId1"/>
          <a:stretch/>
        </p:blipFill>
        <p:spPr>
          <a:xfrm>
            <a:off x="281160" y="420840"/>
            <a:ext cx="86374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714240" y="7858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Κι ακόμα.....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Μετράω κάτι σημαίνει ότι «γεμίζω» αυτό που μετράω με τη μονάδα μέτρησης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Το αποτέλεσμα της μέτρησης εξαρτάται από τη μονάδα που επιλέγουμε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Επιλέγουμε όλοι την ίδια μονάδα για να μπορούμε να συνεννοηθούμ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Για τις μετρήσεις χρησιμοποιούμε διάφορα εργαλεία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Τα εργαλεία αποδεικνύουν το επίπεδο του πολιτισμού ενός λαού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428760" y="1428840"/>
            <a:ext cx="84866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Να κατανοήσουν οι μαθητές σε τι μας χρησιμεύει η μέτρηση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Να μπορούν να επιλέγουν την κατάλληλη μονάδα μέτρησης.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Να μπορούν να επιλέγουν και να χρησιμοποιούν τα κατάλληλα εργαλεία………………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Οι στόχοι μπορεί να είναι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Γενικοί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(να καλύπτουν έναν αριθμό ενοτήτων) κα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Ειδικοί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για μια συγκεκριμένη ενότητα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06" name="1 - Τίτλος" descr=""/>
          <p:cNvPicPr/>
          <p:nvPr/>
        </p:nvPicPr>
        <p:blipFill>
          <a:blip r:embed="rId1"/>
          <a:stretch/>
        </p:blipFill>
        <p:spPr>
          <a:xfrm>
            <a:off x="420840" y="378000"/>
            <a:ext cx="84978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1 - Ορθογώνιο"/>
          <p:cNvSpPr/>
          <p:nvPr/>
        </p:nvSpPr>
        <p:spPr>
          <a:xfrm>
            <a:off x="571680" y="1428840"/>
            <a:ext cx="83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Είναι σημαντικό να θυμόμαστε ότι κάθε 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ΣΤΟΧΟΣ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εκφράζει μια 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ΜΕΓΑΛΗ ΙΔΕΑ,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και  είναι η απάντηση σε μια 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ΟΥΣΙΑΣΤΙΚΗ ΕΡΩΤΗΣ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Comic Sans MS"/>
              </a:rPr>
              <a:t>Παράδειγμ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Γιατί δεν μετρά ο καθένας με το δικό του τρόπο; (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Ουσιαστική Ερώτησ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Επιλέγουμε όλοι την ίδια μονάδα για να μπορούμε να συνεννοηθούμε. 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(Μεγάλη Ιδέ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Να κατανοήσουν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ι μαθητές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το ρόλο των συμβατικών μονάδων μέτρησης και να μπορούν να τις χρησιμοποιούν κατάλληλα 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(Στόχο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1 - Ορθογώνιο"/>
          <p:cNvSpPr/>
          <p:nvPr/>
        </p:nvSpPr>
        <p:spPr>
          <a:xfrm>
            <a:off x="571680" y="1428840"/>
            <a:ext cx="831672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Η διατύπωση ενός στόχου δεν είναι εύκολη υπόθεσ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Ο στόχος δεν αφορά αυτό που θέλω να διδάξω, αλλά αυτό που θέλω </a:t>
            </a:r>
            <a:r>
              <a:rPr b="1" lang="el-GR" sz="2000" spc="-1" strike="noStrike" u="sng">
                <a:solidFill>
                  <a:srgbClr val="000000"/>
                </a:solidFill>
                <a:uFillTx/>
                <a:latin typeface="Comic Sans MS"/>
              </a:rPr>
              <a:t>να μπορούν να κάνουν οι μαθητές απο τη στιγμή που θα έχει ολοκληρωθεί ο σχεδιασμό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Ενδιαφέρον της επιστημονικής κοινότητας για το θέμα του σχεδιασμού, που προσεγγίζεται κάτω από διάφορες οπτικές………………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8" name="1 - Τίτλος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69" name="Εικόνα 1" descr="Understanding by Design 2nd. Edition"/>
          <p:cNvPicPr/>
          <p:nvPr/>
        </p:nvPicPr>
        <p:blipFill>
          <a:blip r:embed="rId2"/>
          <a:srcRect l="9836" t="0" r="11476" b="0"/>
          <a:stretch/>
        </p:blipFill>
        <p:spPr>
          <a:xfrm>
            <a:off x="611280" y="2565360"/>
            <a:ext cx="1819080" cy="2476440"/>
          </a:xfrm>
          <a:prstGeom prst="rect">
            <a:avLst/>
          </a:prstGeom>
          <a:ln w="0">
            <a:noFill/>
          </a:ln>
        </p:spPr>
      </p:pic>
      <p:pic>
        <p:nvPicPr>
          <p:cNvPr id="570" name="i_vv4-25" descr="http://i6.ebayimg.com/03/c/00/c0/f0/e5_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2637000"/>
            <a:ext cx="1876680" cy="2419200"/>
          </a:xfrm>
          <a:prstGeom prst="rect">
            <a:avLst/>
          </a:prstGeom>
          <a:ln w="0">
            <a:noFill/>
          </a:ln>
        </p:spPr>
      </p:pic>
      <p:pic>
        <p:nvPicPr>
          <p:cNvPr id="571" name="Εικόνα 2" descr="http://marykalantzis.cgpublisher.com/publishers/62/products/13/CGFrontCoverImage/size=200,200/fid=73299/lbydesigncover2.jpg"/>
          <p:cNvPicPr/>
          <p:nvPr/>
        </p:nvPicPr>
        <p:blipFill>
          <a:blip r:embed="rId5"/>
          <a:stretch/>
        </p:blipFill>
        <p:spPr>
          <a:xfrm>
            <a:off x="6300720" y="2781360"/>
            <a:ext cx="16668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teacher-point-color"/>
          <p:cNvPicPr/>
          <p:nvPr/>
        </p:nvPicPr>
        <p:blipFill>
          <a:blip r:embed="rId1"/>
          <a:stretch/>
        </p:blipFill>
        <p:spPr>
          <a:xfrm>
            <a:off x="428760" y="3357720"/>
            <a:ext cx="2143080" cy="2214360"/>
          </a:xfrm>
          <a:prstGeom prst="rect">
            <a:avLst/>
          </a:prstGeom>
          <a:ln w="0">
            <a:noFill/>
          </a:ln>
        </p:spPr>
      </p:pic>
      <p:sp>
        <p:nvSpPr>
          <p:cNvPr id="610" name="4 - Επεξήγηση με σύννεφο"/>
          <p:cNvSpPr/>
          <p:nvPr/>
        </p:nvSpPr>
        <p:spPr>
          <a:xfrm>
            <a:off x="3071880" y="500040"/>
            <a:ext cx="5767200" cy="5072040"/>
          </a:xfrm>
          <a:prstGeom prst="cloudCallout">
            <a:avLst>
              <a:gd name="adj1" fmla="val -83027"/>
              <a:gd name="adj2" fmla="val 8069"/>
            </a:avLst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Ωραία, ας πούμε ότι έχω διατυπώσει με ακρίβεια τους στόχους μο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  <a:ea typeface="Calibri"/>
              </a:rPr>
              <a:t>Τι θα κάνω προκειμένου οι μαθητές μου </a:t>
            </a:r>
            <a:r>
              <a:rPr b="1" lang="el-GR" sz="2000" spc="-1" strike="noStrike" u="sng">
                <a:solidFill>
                  <a:srgbClr val="000000"/>
                </a:solidFill>
                <a:uFillTx/>
                <a:latin typeface="Comic Sans MS"/>
                <a:ea typeface="Calibri"/>
              </a:rPr>
              <a:t>να κατανοήσουν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  <a:ea typeface="Calibri"/>
              </a:rPr>
              <a:t> αυτές τις Μεγάλες Ιδέες; Προκειμένου να επιτύχω τους στόχους μου;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  <a:ea typeface="Calibri"/>
              </a:rPr>
              <a:t>Πως θα ξέρω ότι μετά το μάθημα οι μαθητές μου </a:t>
            </a:r>
            <a:r>
              <a:rPr b="1" lang="el-GR" sz="2000" spc="-1" strike="noStrike" u="sng">
                <a:solidFill>
                  <a:srgbClr val="000000"/>
                </a:solidFill>
                <a:uFillTx/>
                <a:latin typeface="Comic Sans MS"/>
                <a:ea typeface="Calibri"/>
              </a:rPr>
              <a:t>κατανόησα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6 - Επεξήγηση με σύννεφο"/>
          <p:cNvSpPr/>
          <p:nvPr/>
        </p:nvSpPr>
        <p:spPr>
          <a:xfrm>
            <a:off x="0" y="0"/>
            <a:ext cx="8786880" cy="6858000"/>
          </a:xfrm>
          <a:prstGeom prst="cloudCallout">
            <a:avLst>
              <a:gd name="adj1" fmla="val 36777"/>
              <a:gd name="adj2" fmla="val -19541"/>
            </a:avLst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Δύσκολο ερώτημα, γιατί η έννοια της Κατανόησης είναι πολυδιάστατ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Όταν κάποιος έχει κατανοήσει, μπορεί </a:t>
            </a:r>
            <a:r>
              <a:rPr b="1" lang="el-GR" sz="1800" spc="-1" strike="noStrike" u="sng">
                <a:solidFill>
                  <a:srgbClr val="000000"/>
                </a:solidFill>
                <a:uFillTx/>
                <a:latin typeface="Comic Sans MS"/>
              </a:rPr>
              <a:t>να εξηγήσει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Comic Sans MS"/>
              </a:rPr>
              <a:t>,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μπορεί </a:t>
            </a:r>
            <a:r>
              <a:rPr b="1" lang="el-GR" sz="1800" spc="-1" strike="noStrike" u="sng">
                <a:solidFill>
                  <a:srgbClr val="000000"/>
                </a:solidFill>
                <a:uFillTx/>
                <a:latin typeface="Comic Sans MS"/>
              </a:rPr>
              <a:t>να ερμηνεύσει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και μπορεί </a:t>
            </a:r>
            <a:r>
              <a:rPr b="1" lang="el-GR" sz="1800" spc="-1" strike="noStrike" u="sng">
                <a:solidFill>
                  <a:srgbClr val="000000"/>
                </a:solidFill>
                <a:uFillTx/>
                <a:latin typeface="Comic Sans MS"/>
              </a:rPr>
              <a:t>να εφαρμόσει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Κι ακόμα μπορεί να αντιμετωπίζει ένα ζήτημα κάτω από 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προοπτική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-από πολλές οπτικές γωνίες και με 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ενσυναίσθηση.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α προσπαθήσεις επομένως να σχεδιάσεις δραστηριότητες που παρακινούν τους μαθητές να εξηγήσουν, να ερμηνεύσουν, να δουν κάτω από πολλές οπτικές γωνίες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Και κυρίω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Θα σχεδιάσεις δραστηριότητες που θα έχουν ενδιαφέρον για τους μαθητές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, ώστε να θελήσουν να εμπλακούν ουσιαστικά και όχι απλά από υποχρέωση</a:t>
            </a:r>
            <a:r>
              <a:rPr b="0" lang="el-GR" sz="1800" spc="-1" strike="noStrike">
                <a:solidFill>
                  <a:srgbClr val="1faecd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3" descr="wiggins"/>
          <p:cNvPicPr/>
          <p:nvPr/>
        </p:nvPicPr>
        <p:blipFill>
          <a:blip r:embed="rId1"/>
          <a:stretch/>
        </p:blipFill>
        <p:spPr>
          <a:xfrm>
            <a:off x="7215120" y="2428920"/>
            <a:ext cx="192888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2209320" y="456840"/>
            <a:ext cx="670572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22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Πράγματι...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Οι δραστηριότητες που θα σχεδιάσεις πρέπει να καλύπτουν και τους τέσσερις τρόπους απόκτησης γνώσης. Πρέπει δηλαδή να δίνουν την ευκαιρία στους μαθητές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να εμπλαισιώσουν τη μάθηση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με αυτό που ήδη ξέρουν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, δηλαδή να επωφεληθούν από αυτό που ξέρουν (:</a:t>
            </a:r>
            <a:r>
              <a:rPr b="1" lang="el-GR" sz="2000" spc="-1" strike="noStrike">
                <a:solidFill>
                  <a:srgbClr val="ff0000"/>
                </a:solidFill>
                <a:latin typeface="Comic Sans MS"/>
              </a:rPr>
              <a:t>να βιώσουν το γνωστό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να αποκτήσουν </a:t>
            </a:r>
            <a:r>
              <a:rPr b="1" lang="el-GR" sz="2000" spc="-1" strike="noStrike">
                <a:solidFill>
                  <a:srgbClr val="ff0000"/>
                </a:solidFill>
                <a:latin typeface="Comic Sans MS"/>
              </a:rPr>
              <a:t>εννοιολογική κατανόηση</a:t>
            </a:r>
            <a:r>
              <a:rPr b="0" lang="el-GR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μαθαίνοντας τους ορισμούς και το νόημα των εννοιών, αλλά και τον τρόπο που έννοιες συνδέονται μεταξύ τους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0000"/>
                </a:solidFill>
                <a:latin typeface="Comic Sans MS"/>
              </a:rPr>
              <a:t>να αναλύσουν λειτουργικά και κριτικά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Λειτουργικά σημαίνει ότι πρέπει να αντιληφθούν το σκοπό, το ρόλο, τη λειτουργία κάποιου πράγματος και κριτικά σημαίνει ότι πρέπει να σταθούν κριτικά απέναντι σε αυτό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0000"/>
                </a:solidFill>
                <a:latin typeface="Comic Sans MS"/>
              </a:rPr>
              <a:t>να εφαρμόσουν αυτό που έμαθαν</a:t>
            </a:r>
            <a:r>
              <a:rPr b="0" lang="el-GR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σε απλές περιπτώσεις, αλλά και σε πιο σύνθετες καταστάσεις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4" name="Picture 2" descr="MaryKalantzis"/>
          <p:cNvPicPr/>
          <p:nvPr/>
        </p:nvPicPr>
        <p:blipFill>
          <a:blip r:embed="rId1"/>
          <a:stretch/>
        </p:blipFill>
        <p:spPr>
          <a:xfrm>
            <a:off x="214200" y="2143080"/>
            <a:ext cx="1428840" cy="164304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7"/>
          <p:cNvSpPr/>
          <p:nvPr/>
        </p:nvSpPr>
        <p:spPr>
          <a:xfrm>
            <a:off x="2484360" y="476280"/>
            <a:ext cx="6335640" cy="5329080"/>
          </a:xfrm>
          <a:prstGeom prst="cloudCallout">
            <a:avLst>
              <a:gd name="adj1" fmla="val -65833"/>
              <a:gd name="adj2" fmla="val -671"/>
            </a:avLst>
          </a:prstGeom>
          <a:noFill/>
          <a:ln w="9360">
            <a:solidFill>
              <a:srgbClr val="44b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4" descr="teacher-point-color"/>
          <p:cNvPicPr/>
          <p:nvPr/>
        </p:nvPicPr>
        <p:blipFill>
          <a:blip r:embed="rId1"/>
          <a:stretch/>
        </p:blipFill>
        <p:spPr>
          <a:xfrm>
            <a:off x="928800" y="2428920"/>
            <a:ext cx="1619280" cy="1466640"/>
          </a:xfrm>
          <a:prstGeom prst="rect">
            <a:avLst/>
          </a:prstGeom>
          <a:ln w="0">
            <a:noFill/>
          </a:ln>
        </p:spPr>
      </p:pic>
      <p:sp>
        <p:nvSpPr>
          <p:cNvPr id="617" name="6 - Επεξήγηση με σύννεφο"/>
          <p:cNvSpPr/>
          <p:nvPr/>
        </p:nvSpPr>
        <p:spPr>
          <a:xfrm>
            <a:off x="2714760" y="1571760"/>
            <a:ext cx="5786280" cy="2000160"/>
          </a:xfrm>
          <a:prstGeom prst="cloudCallout">
            <a:avLst>
              <a:gd name="adj1" fmla="val -71259"/>
              <a:gd name="adj2" fmla="val 39148"/>
            </a:avLst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Τώρα που προσδιόρισα το στόχο, μπορώ να ξεκινήσω τη διδασκαλία επιλέγοντας δραστηριότητες από το βιβλίο ή σχεδιάζοντας νέε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4" descr="wiggins"/>
          <p:cNvPicPr/>
          <p:nvPr/>
        </p:nvPicPr>
        <p:blipFill>
          <a:blip r:embed="rId1"/>
          <a:stretch/>
        </p:blipFill>
        <p:spPr>
          <a:xfrm>
            <a:off x="142920" y="2857680"/>
            <a:ext cx="1428840" cy="14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 txBox="1"/>
          <p:nvPr/>
        </p:nvSpPr>
        <p:spPr>
          <a:xfrm>
            <a:off x="1928880" y="380520"/>
            <a:ext cx="72151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Όχι, Πριν ακόμα αρχίσεις να σχεδιάζεις λεπτομερώς τα βήματα της διδασκαλίας σου, θα ήταν καλό </a:t>
            </a:r>
            <a:r>
              <a:rPr b="1" lang="el-GR" sz="1800" spc="-1" strike="noStrike" u="sng">
                <a:solidFill>
                  <a:srgbClr val="000000"/>
                </a:solidFill>
                <a:uFillTx/>
                <a:latin typeface="Comic Sans MS"/>
              </a:rPr>
              <a:t>να σκεφτείς από την αρχή το θέμα της αξιολόγησης.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Με τι είδους δραστηριότητες σκοπεύεις να εξακριβώσεις αν οι μαθητές σου έμαθαν ή όχι; 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Πρέπει να ξέρεις τι θα ρωτήσεις, </a:t>
            </a:r>
            <a:r>
              <a:rPr b="1" lang="el-GR" sz="1800" spc="-1" strike="noStrike" u="sng">
                <a:solidFill>
                  <a:srgbClr val="000000"/>
                </a:solidFill>
                <a:uFillTx/>
                <a:latin typeface="Comic Sans MS"/>
              </a:rPr>
              <a:t>για να μην ξεχάσεις να το περιλάβεις στη διδασκαλία σου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Ευτυχώς έχεις πολλούς τρόπους, ερωτήσεις κλειστές, ανοιχτές, πολλαπλών επιλογών, Πρότζεκτ,…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Τι είδους </a:t>
            </a:r>
            <a:r>
              <a:rPr b="1" lang="el-GR" sz="1800" spc="-1" strike="noStrike" u="sng">
                <a:solidFill>
                  <a:srgbClr val="000000"/>
                </a:solidFill>
                <a:uFillTx/>
                <a:latin typeface="Comic Sans MS"/>
              </a:rPr>
              <a:t>ενδιάμεση αξιολόγηση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α χρησιμοποιήσεις; (Αυτοαξιολόγηση, Αξιολόγηση από συμμαθητές, άτυπη προφορική…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Είναι σημαντικό να θυμάσαι ότι πρέπει να σκεφτείς δραστηριότητες που θα δώσουν την ευκαιρία στους μαθητές σου 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να εφαρμόσουν όσα έμαθαν άμεσα και δημιουργικά: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να χρησιμοποιήσουν αποτελεσματικά ότι ξέρουν σε διαφορετικά πλαίσια, σε καταστάσεις πιο σύνθετες από τις συνηθισμένες, σε καταστάσεις, όπου πρέπει να επιχειρήσουν μια «μεταφορά γνώσης»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Να θυμάσαι ακόμα, ότι είναι απαραίτητο, 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να περιλάβεις στην τελική αξιολόγηση μια αυθεντική δραστηριότητα.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Αυθεντικές είναι οι δραστηριότητες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Comic Sans MS"/>
              </a:rPr>
              <a:t>που βάζουν το μαθητή σε ένα ρόλο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, και όπου πρέπει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Comic Sans MS"/>
              </a:rPr>
              <a:t>να χρησιμοποιήσει επιχειρήματα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για να πείσει κάποιον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6 - Αριστερό άγκιστρο"/>
          <p:cNvSpPr/>
          <p:nvPr/>
        </p:nvSpPr>
        <p:spPr>
          <a:xfrm>
            <a:off x="1428840" y="357120"/>
            <a:ext cx="571320" cy="57866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5786640"/>
              <a:gd name="textAreaBottom" fmla="*/ 5771880 h 578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"/>
                  <a:pt x="10800" y="178"/>
                </a:cubicBezTo>
                <a:lnTo>
                  <a:pt x="10800" y="10622"/>
                </a:lnTo>
                <a:cubicBezTo>
                  <a:pt x="10800" y="10711"/>
                  <a:pt x="5400" y="10800"/>
                  <a:pt x="0" y="10800"/>
                </a:cubicBezTo>
                <a:cubicBezTo>
                  <a:pt x="5400" y="10800"/>
                  <a:pt x="10800" y="10889"/>
                  <a:pt x="10800" y="10978"/>
                </a:cubicBezTo>
                <a:lnTo>
                  <a:pt x="10800" y="21422"/>
                </a:lnTo>
                <a:cubicBezTo>
                  <a:pt x="10800" y="2151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2 - Τίτλος" descr=""/>
          <p:cNvPicPr/>
          <p:nvPr/>
        </p:nvPicPr>
        <p:blipFill>
          <a:blip r:embed="rId1"/>
          <a:stretch/>
        </p:blipFill>
        <p:spPr>
          <a:xfrm>
            <a:off x="493560" y="281160"/>
            <a:ext cx="8242560" cy="9507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" descr="teacher-point-color"/>
          <p:cNvPicPr/>
          <p:nvPr/>
        </p:nvPicPr>
        <p:blipFill>
          <a:blip r:embed="rId2"/>
          <a:srcRect l="0" t="4860" r="0" b="0"/>
          <a:stretch/>
        </p:blipFill>
        <p:spPr>
          <a:xfrm>
            <a:off x="684360" y="1052640"/>
            <a:ext cx="1619280" cy="139536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 txBox="1"/>
          <p:nvPr/>
        </p:nvSpPr>
        <p:spPr>
          <a:xfrm>
            <a:off x="2556000" y="1341000"/>
            <a:ext cx="603072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Ας ξεκινήσω λοιπόν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Ανοίγω το βιβλίο και μετά από όσα έμαθα αρχίζω να κοιτάζω με μια κριτική διάθεση πως ξεδιπλώνεται η ενότητα.........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Η αρχική δραστηριότητα…..είναι επιτυχημένη;;;;; Ελπίζω πως ναι, διαφορετικά πρέπει να φτιάξω μια δική μου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Comic Sans MS"/>
              </a:rPr>
              <a:t>Πως θα την φτιάξω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Είπαμε ότι μια δραστηριότητα έχει ενδιαφέρον για τους μαθητές μου όταν συνδέεται με αυτά που ξέρουν ήδη και που θα του άρεσε να ασχοληθούν (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βιώνοντας το γνωστό)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Comic Sans MS"/>
              </a:rPr>
              <a:t>Άρα: Θα αναφερθώ στην εμπειρία τους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499680" y="213840"/>
            <a:ext cx="84438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Και μετά θα σκεφτώ κάτι που επεκτείνει αυτήν την εμπειρία και θα μου δώσει αφορμή να αγγίξω τον πρώτο μου στόχο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Βιώνοντας το νέο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Είπαμε ακόμα ότι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Μέσα από τις δραστηριότητες του βιβλίου (που θα επιλέξω) ή μέσα από αυτές που θα σχεδιάσω, θα επιδιώξω οι μαθητές μου να «κατανοήσουν»...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Ένας μαθητής φτάνει στην Κατανόηση μέσα από πολλούς δρόμου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428760" y="164268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19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άντα στην τάξη ως δάσκαλοι προτείνουμε στα παιδιά δραστηριότητες είτε πρακτικές, είτε υπό μορφή προβλημάτων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Εντούτοις,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Comic Sans MS"/>
              </a:rPr>
              <a:t>αν πίσω από τη δραστηριότητα που προτείνουμε δεν υπάρχει ένα εννοιολογικό πλαίσιο, δηλαδή αν η δραστηριότητα δεν είναι ενταγμένη σε έναν ευρύτερο σχεδιασμό με συγκεκριμένους στόχους,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οι μαθητές δεν θα μπορέσουν να συνδέσουν τις δραστηριότητες μεταξύ τους ώστε να κατανοήσουν τη «μεγαλύτερη εικόνα» που είναι και ο στόχος της διδασκαλίας μας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6" name="2 - Τίτλος" descr=""/>
          <p:cNvPicPr/>
          <p:nvPr/>
        </p:nvPicPr>
        <p:blipFill>
          <a:blip r:embed="rId1"/>
          <a:stretch/>
        </p:blipFill>
        <p:spPr>
          <a:xfrm>
            <a:off x="420840" y="353880"/>
            <a:ext cx="8242200" cy="10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457200" y="571680"/>
            <a:ext cx="8229600" cy="54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 u="sng">
                <a:solidFill>
                  <a:srgbClr val="000000"/>
                </a:solidFill>
                <a:uFillTx/>
                <a:latin typeface="Comic Sans MS"/>
              </a:rPr>
              <a:t>Να θυμόμαστε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Comic Sans MS"/>
              </a:rPr>
              <a:t>Μια σωστή απάντηση δεν είναι πάντα δείγμα κατανόησης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Comic Sans MS"/>
              </a:rPr>
              <a:t>Πολλές από τις παρανοήσεις  των μαθητών είναι αρκετά ισχυρές γιατί συχνά λειτουργούν ως αποτελεσματικά εργαλεία προτού αποδειχθεί η ανεπάρκειά τους. Είναι δύσκολο να προσδιοριστούν,   και δύσκολο να υπερνικηθούν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857160" y="2999880"/>
            <a:ext cx="750096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0000"/>
                </a:solidFill>
                <a:latin typeface="Comic Sans MS"/>
              </a:rPr>
              <a:t>Να </a:t>
            </a:r>
            <a:r>
              <a:rPr b="1" lang="el-GR" sz="1800" spc="-1" strike="noStrike">
                <a:solidFill>
                  <a:srgbClr val="ff0000"/>
                </a:solidFill>
                <a:latin typeface="Comic Sans MS"/>
              </a:rPr>
              <a:t>εξηγήσουν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: να συγκρίνουν, να συσχετίσουν, να καταλήξουν σε «ορισμούς», να διατυπώσουν «θεωρίες», να επιλύσουν προβλήματα και να εξηγήσουν τη λύση τους, να υποστηρίξουν την σκέψη τους, να εξηγήσουν αλγόριθμους, να εξηγήσουν τρόπους γραφής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9" name="Picture 2" descr="teacher-point-color"/>
          <p:cNvPicPr/>
          <p:nvPr/>
        </p:nvPicPr>
        <p:blipFill>
          <a:blip r:embed="rId1"/>
          <a:stretch/>
        </p:blipFill>
        <p:spPr>
          <a:xfrm>
            <a:off x="142920" y="1714680"/>
            <a:ext cx="1619280" cy="1466640"/>
          </a:xfrm>
          <a:prstGeom prst="rect">
            <a:avLst/>
          </a:prstGeom>
          <a:ln w="0">
            <a:noFill/>
          </a:ln>
        </p:spPr>
      </p:pic>
      <p:sp>
        <p:nvSpPr>
          <p:cNvPr id="630" name="6 - Επεξήγηση με σύννεφο"/>
          <p:cNvSpPr/>
          <p:nvPr/>
        </p:nvSpPr>
        <p:spPr>
          <a:xfrm>
            <a:off x="2500200" y="500040"/>
            <a:ext cx="3714840" cy="2428920"/>
          </a:xfrm>
          <a:prstGeom prst="cloudCallout">
            <a:avLst>
              <a:gd name="adj1" fmla="val -68138"/>
              <a:gd name="adj2" fmla="val 24064"/>
            </a:avLst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Σχεδιάζω, λοιπόν έχοντας κατά νου ότ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Comic Sans MS"/>
              </a:rPr>
              <a:t>μια δραστηριότητα που στοχεύει στην κατανόηση , δίνει την ευκαιρία στους μαθητέ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Comic Sans MS"/>
              </a:rPr>
              <a:t>Και οι τρεις αυτές προσεγγίσεις, έχουν κοινά σημεία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Comic Sans MS"/>
              </a:rPr>
              <a:t>1) Την πρωταρχική σημασία της διατύπωσης των στόχων, με βάση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228600" algn="just">
              <a:lnSpc>
                <a:spcPct val="100000"/>
              </a:lnSpc>
              <a:buClr>
                <a:srgbClr val="000000"/>
              </a:buClr>
              <a:buSzPct val="68000"/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Comic Sans MS"/>
              </a:rPr>
              <a:t>Τις </a:t>
            </a: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Μεγάλες Ιδέες </a:t>
            </a:r>
            <a:r>
              <a:rPr b="0" i="1" lang="el-GR" sz="2000" spc="-1" strike="noStrike">
                <a:solidFill>
                  <a:srgbClr val="000000"/>
                </a:solidFill>
                <a:latin typeface="Comic Sans MS"/>
              </a:rPr>
              <a:t>κα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228600" algn="just">
              <a:lnSpc>
                <a:spcPct val="100000"/>
              </a:lnSpc>
              <a:buClr>
                <a:srgbClr val="000000"/>
              </a:buClr>
              <a:buSzPct val="68000"/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Comic Sans MS"/>
              </a:rPr>
              <a:t>Τις </a:t>
            </a: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Ουσιαστικές</a:t>
            </a:r>
            <a:r>
              <a:rPr b="0" i="1" lang="el-GR" sz="2000" spc="-1" strike="noStrike">
                <a:solidFill>
                  <a:srgbClr val="000000"/>
                </a:solidFill>
                <a:latin typeface="Comic Sans MS"/>
              </a:rPr>
              <a:t> Ερωτήσει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228600" algn="just">
              <a:lnSpc>
                <a:spcPct val="100000"/>
              </a:lnSpc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2) </a:t>
            </a:r>
            <a:r>
              <a:rPr b="0" i="1" lang="el-GR" sz="2000" spc="-1" strike="noStrike">
                <a:solidFill>
                  <a:srgbClr val="000000"/>
                </a:solidFill>
                <a:latin typeface="Comic Sans MS"/>
              </a:rPr>
              <a:t>Την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Comic Sans MS"/>
              </a:rPr>
              <a:t>εστίαση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Comic Sans MS"/>
              </a:rPr>
              <a:t>στη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Comic Sans MS"/>
              </a:rPr>
              <a:t>Βαθιά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Comic Sans MS"/>
              </a:rPr>
              <a:t>Κατανόηση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228600" algn="just">
              <a:lnSpc>
                <a:spcPct val="100000"/>
              </a:lnSpc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nduring Understanding, Deep Knowledg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456840" y="500040"/>
            <a:ext cx="8472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da1f28"/>
                </a:solidFill>
                <a:latin typeface="Comic Sans MS"/>
              </a:rPr>
              <a:t>Να ερμηνεύσουν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να αναλύσουν δηλαδή λειτουργικά και κριτικά μια κατάσταση ή ένα γεγονός, να δώσουν μια προσωπική διάσταση στις ιδέες και στα γεγονότα. Ένας μαθητής έχει κατανοήσει ένα γεγονός, ένα φαινόμενο ή μια έννοια αν μπορεί να παραθέσει διαφορετικές ερμηνείες, να δει τα πράγματα από διάφορες οπτικές στην προσπάθεια του να βρει το νόημα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da1f28"/>
                </a:solidFill>
                <a:latin typeface="Comic Sans MS"/>
              </a:rPr>
              <a:t>Να εφαρμόσουν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Να δουν ένα ζήτημα κάτω από </a:t>
            </a:r>
            <a:r>
              <a:rPr b="1" lang="el-GR" sz="2000" spc="-1" strike="noStrike">
                <a:solidFill>
                  <a:srgbClr val="ff0000"/>
                </a:solidFill>
                <a:latin typeface="Comic Sans MS"/>
              </a:rPr>
              <a:t>διάφορες οπτικές γωνίες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, διάφορες προοπτικές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Να δουν ένα ζήτημα με </a:t>
            </a:r>
            <a:r>
              <a:rPr b="1" lang="el-GR" sz="2000" spc="-1" strike="noStrike">
                <a:solidFill>
                  <a:srgbClr val="ff0000"/>
                </a:solidFill>
                <a:latin typeface="Comic Sans MS"/>
              </a:rPr>
              <a:t>ενσυναίσθηση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μπαίνοντας στη θέση του άλλου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l-GR" sz="1600" spc="-1" strike="noStrike">
                <a:solidFill>
                  <a:srgbClr val="000000"/>
                </a:solidFill>
                <a:latin typeface="Comic Sans MS"/>
              </a:rPr>
              <a:t>Πώς  το βλέπεις εσύ αυτό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0000"/>
                </a:solidFill>
                <a:latin typeface="Comic Sans MS"/>
              </a:rPr>
              <a:t>Τι βλέπεις εσύ που δεν μπορώ να δω εγώ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0000"/>
                </a:solidFill>
                <a:latin typeface="Comic Sans MS"/>
              </a:rPr>
              <a:t>Τι πρέπει να δοκιμάσω  εάν  θέλω να καταλάβω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571680" y="71424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Comic Sans MS"/>
              </a:rPr>
              <a:t>Η προηγούμενη θεώρηση του σχεδιασμού της διδασκαλίας με στόχο την κατανόηση, είναι προφανές ότι υπερβαίνει τη στενή οπτική μιας αντικειμενικής γνώσης που πρέπει να διδαχθεί και να μαθευτεί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Comic Sans MS"/>
              </a:rPr>
              <a:t>Για να δεχθούμε μια τέτοια οπτική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Comic Sans MS"/>
              </a:rPr>
              <a:t>Χρειάζεται να αλλάξουμε τους «φακούς» των γυαλιών μας (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Habits of Mind</a:t>
            </a:r>
            <a:r>
              <a:rPr b="0" lang="el-GR" sz="1900" spc="-1" strike="noStrike">
                <a:solidFill>
                  <a:srgbClr val="000000"/>
                </a:solidFill>
                <a:latin typeface="Comic Sans MS"/>
              </a:rPr>
              <a:t>). </a:t>
            </a:r>
            <a:r>
              <a:rPr b="1" lang="el-GR" sz="1900" spc="-1" strike="noStrike">
                <a:solidFill>
                  <a:srgbClr val="000000"/>
                </a:solidFill>
                <a:latin typeface="Comic Sans MS"/>
              </a:rPr>
              <a:t>Να ξανασκεφτούμε τι είναι σημαντικό και τι όχι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Comic Sans MS"/>
              </a:rPr>
              <a:t>Χρειάζεται να αλλάξουμε και συνήθειες (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Habits of Work</a:t>
            </a:r>
            <a:r>
              <a:rPr b="0" lang="el-GR" sz="19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285480" y="1285560"/>
            <a:ext cx="86439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Μέσα από  τα ουσιαστικά ερωτήματα που θα θέσουμε στους μαθητές μας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α προκύψουν οι </a:t>
            </a:r>
            <a:r>
              <a:rPr b="1" lang="el-GR" sz="1800" spc="-1" strike="noStrike">
                <a:solidFill>
                  <a:srgbClr val="ff0000"/>
                </a:solidFill>
                <a:latin typeface="Comic Sans MS"/>
              </a:rPr>
              <a:t>ΒΑΣΙΚΕΣ ΙΔΕΕΣ (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Big Ideas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που θέλουμε να μάθουν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Και αυτές τις ιδέες, δεν θα τις κατακτήσουν σε ένα επίπεδο απλής γνώσης, αλλά  σε ένα επίπεδο </a:t>
            </a:r>
            <a:r>
              <a:rPr b="1" lang="el-GR" sz="1800" spc="-1" strike="noStrike">
                <a:solidFill>
                  <a:srgbClr val="ff0000"/>
                </a:solidFill>
                <a:latin typeface="Comic Sans MS"/>
              </a:rPr>
              <a:t>ΒΑΘΙΑΣ ΚΑΤΑΝΟΗΣΗΣ (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Enduring Understanding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00"/>
                </a:solidFill>
                <a:latin typeface="Comic Sans MS"/>
              </a:rPr>
              <a:t>Δεν θα ήταν υπερβολικό να πούμε, ότι ο σχεδιασμός της διδασκαλίας, είναι στην ουσία  ΣΧΕΔΙΑΣΜΟΣ ΕΡΩΤΗΜΑΤΩΝ</a:t>
            </a:r>
            <a:r>
              <a:rPr b="0" lang="el-GR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που θα απευθύνουμε στους μαθητές μας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4" name="2 - Τίτλος" descr=""/>
          <p:cNvPicPr/>
          <p:nvPr/>
        </p:nvPicPr>
        <p:blipFill>
          <a:blip r:embed="rId1"/>
          <a:stretch/>
        </p:blipFill>
        <p:spPr>
          <a:xfrm>
            <a:off x="420840" y="317520"/>
            <a:ext cx="824220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45720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 u="sng">
                <a:solidFill>
                  <a:srgbClr val="000000"/>
                </a:solidFill>
                <a:uFillTx/>
                <a:latin typeface="Comic Sans MS"/>
              </a:rPr>
              <a:t>Στοιχείων </a:t>
            </a:r>
            <a:r>
              <a:rPr b="0" lang="el-GR" sz="1400" spc="-1" strike="noStrike" u="sng">
                <a:solidFill>
                  <a:srgbClr val="000000"/>
                </a:solidFill>
                <a:uFillTx/>
                <a:latin typeface="Comic Sans MS"/>
              </a:rPr>
              <a:t>(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Evidence</a:t>
            </a:r>
            <a:r>
              <a:rPr b="0" lang="el-GR" sz="1400" spc="-1" strike="noStrike" u="sng">
                <a:solidFill>
                  <a:srgbClr val="000000"/>
                </a:solidFill>
                <a:uFillTx/>
                <a:latin typeface="Comic Sans MS"/>
              </a:rPr>
              <a:t>):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Comic Sans MS"/>
              </a:rPr>
              <a:t>Πώς ξέρουμε ότι ( αυτό που ισχυρίζεσαι) ισχύει;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Comic Sans MS"/>
              </a:rPr>
              <a:t>Ποια στοιχεία έλαβες  υπόψη;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Comic Sans MS"/>
              </a:rPr>
              <a:t>Πόσο βέβαιοι μπορούμε να είμαστε;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 u="sng">
                <a:solidFill>
                  <a:srgbClr val="000000"/>
                </a:solidFill>
                <a:uFillTx/>
                <a:latin typeface="Comic Sans MS"/>
              </a:rPr>
              <a:t>Απόψεων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(Viewpoint):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Comic Sans MS"/>
              </a:rPr>
              <a:t>Πως αλλιώς μπορούμε να  δούμε το θέμα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Comic Sans MS"/>
              </a:rPr>
              <a:t>Γιατί η άποψή σου είναι καλύτερη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Comic Sans MS"/>
              </a:rPr>
              <a:t>Εάν εξετάζαμε το θέμα από μια διαφορετική οπτική;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6" name="2 - Τίτλος" descr=""/>
          <p:cNvPicPr/>
          <p:nvPr/>
        </p:nvPicPr>
        <p:blipFill>
          <a:blip r:embed="rId3"/>
          <a:stretch/>
        </p:blipFill>
        <p:spPr>
          <a:xfrm>
            <a:off x="493560" y="493560"/>
            <a:ext cx="824256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457200" y="428400"/>
            <a:ext cx="8400960" cy="55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000000"/>
                </a:solidFill>
                <a:latin typeface="Comic Sans MS"/>
              </a:rPr>
              <a:t>Και ακόμα, κριτική θεώρηση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 u="sng">
                <a:solidFill>
                  <a:srgbClr val="000000"/>
                </a:solidFill>
                <a:uFillTx/>
                <a:latin typeface="Comic Sans MS"/>
              </a:rPr>
              <a:t>Συσχετισμών Αιτίου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/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Comic Sans MS"/>
              </a:rPr>
              <a:t>Αποτελέσματος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Connections/Cause and Effect):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Comic Sans MS"/>
              </a:rPr>
              <a:t>Υπάρχει κάποια κανονικότητα σε αυτό που παρατηρείς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Comic Sans MS"/>
              </a:rPr>
              <a:t>Έχεις συναντήσει κάτι παρόμοιο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Comic Sans MS"/>
              </a:rPr>
              <a:t>Ποιες νομίζεις ότι είναι οι πιθανές συνέπειες του......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 u="sng">
                <a:solidFill>
                  <a:srgbClr val="000000"/>
                </a:solidFill>
                <a:uFillTx/>
                <a:latin typeface="Comic Sans MS"/>
              </a:rPr>
              <a:t>Συμπερασμάτων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(Conjecture):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Comic Sans MS"/>
              </a:rPr>
              <a:t>Θα μπορούσε να ήταν διαφορετικά;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Comic Sans MS"/>
              </a:rPr>
              <a:t>Εάν υποτεθεί ότι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…….;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900" spc="-1" strike="noStrike">
                <a:solidFill>
                  <a:srgbClr val="000000"/>
                </a:solidFill>
                <a:latin typeface="Comic Sans MS"/>
              </a:rPr>
              <a:t>Τι θα συνέβαινε αν….;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1 - Ορθογώνιο"/>
          <p:cNvSpPr/>
          <p:nvPr/>
        </p:nvSpPr>
        <p:spPr>
          <a:xfrm>
            <a:off x="928800" y="2286000"/>
            <a:ext cx="7143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Αλήθεια,… </a:t>
            </a:r>
            <a:r>
              <a:rPr b="1" i="1" lang="el-GR" sz="2400" spc="-1" strike="noStrike">
                <a:solidFill>
                  <a:srgbClr val="da1f28"/>
                </a:solidFill>
                <a:latin typeface="Comic Sans MS"/>
              </a:rPr>
              <a:t>τι θα συνέβαινε αν.......τολμούσαμε να αλλάξουμε τον τρόπο που διδάσκουμ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5" descr=""/>
          <p:cNvPicPr/>
          <p:nvPr/>
        </p:nvPicPr>
        <p:blipFill>
          <a:blip r:embed="rId1"/>
          <a:stretch/>
        </p:blipFill>
        <p:spPr>
          <a:xfrm>
            <a:off x="-6480" y="-49320"/>
            <a:ext cx="8925120" cy="67248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Picture 2"/>
          <p:cNvPicPr/>
          <p:nvPr/>
        </p:nvPicPr>
        <p:blipFill>
          <a:blip r:embed="rId2"/>
          <a:stretch/>
        </p:blipFill>
        <p:spPr>
          <a:xfrm>
            <a:off x="4932360" y="1052640"/>
            <a:ext cx="39290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500040" y="85680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mic Sans MS"/>
              </a:rPr>
              <a:t>Μέσα σε αυτό  το θεωρητικό πλαίσιο, ο δάσκαλος καλείται να σχεδιάσει μαθησιακές καταστάσεις, με στόχο την Κατανόηση….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teacher-point-color"/>
          <p:cNvPicPr/>
          <p:nvPr/>
        </p:nvPicPr>
        <p:blipFill>
          <a:blip r:embed="rId1"/>
          <a:stretch/>
        </p:blipFill>
        <p:spPr>
          <a:xfrm>
            <a:off x="500040" y="2143080"/>
            <a:ext cx="1152720" cy="10666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" descr="teacher-point-color"/>
          <p:cNvPicPr/>
          <p:nvPr/>
        </p:nvPicPr>
        <p:blipFill>
          <a:blip r:embed="rId2"/>
          <a:stretch/>
        </p:blipFill>
        <p:spPr>
          <a:xfrm>
            <a:off x="1071720" y="5000760"/>
            <a:ext cx="1382400" cy="1252440"/>
          </a:xfrm>
          <a:prstGeom prst="rect">
            <a:avLst/>
          </a:prstGeom>
          <a:ln w="0">
            <a:noFill/>
          </a:ln>
        </p:spPr>
      </p:pic>
      <p:sp>
        <p:nvSpPr>
          <p:cNvPr id="578" name="5 - Επεξήγηση με σύννεφο"/>
          <p:cNvSpPr/>
          <p:nvPr/>
        </p:nvSpPr>
        <p:spPr>
          <a:xfrm>
            <a:off x="2071800" y="785880"/>
            <a:ext cx="3000240" cy="1643040"/>
          </a:xfrm>
          <a:prstGeom prst="cloudCallout">
            <a:avLst>
              <a:gd name="adj1" fmla="val -67935"/>
              <a:gd name="adj2" fmla="val 60263"/>
            </a:avLst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Lucida Sans Unicode"/>
              </a:rPr>
              <a:t>Κατανόηση </a:t>
            </a:r>
            <a:r>
              <a:rPr b="1" lang="el-GR" sz="1800" spc="-1" strike="noStrike">
                <a:solidFill>
                  <a:srgbClr val="000000"/>
                </a:solidFill>
                <a:latin typeface="Lucida Sans Unicode"/>
              </a:rPr>
              <a:t>….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τίνος </a:t>
            </a:r>
            <a:r>
              <a:rPr b="1" i="1" lang="el-GR" sz="1800" spc="-1" strike="noStrike">
                <a:solidFill>
                  <a:srgbClr val="000000"/>
                </a:solidFill>
                <a:latin typeface="Lucida Sans Unicode"/>
              </a:rPr>
              <a:t>πράγματο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6 - Επεξήγηση με σύννεφο"/>
          <p:cNvSpPr/>
          <p:nvPr/>
        </p:nvSpPr>
        <p:spPr>
          <a:xfrm>
            <a:off x="2643120" y="4429080"/>
            <a:ext cx="3500640" cy="1357200"/>
          </a:xfrm>
          <a:prstGeom prst="cloudCallout">
            <a:avLst>
              <a:gd name="adj1" fmla="val -53324"/>
              <a:gd name="adj2" fmla="val 60263"/>
            </a:avLst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0000"/>
                </a:solidFill>
                <a:latin typeface="Lucida Sans Unicode"/>
              </a:rPr>
              <a:t>Δεν είναι εύκολο να εντοπίσω το στόχο</a:t>
            </a:r>
            <a:r>
              <a:rPr b="1" i="1" lang="el-GR" sz="1600" spc="-1" strike="noStrike">
                <a:solidFill>
                  <a:srgbClr val="000000"/>
                </a:solidFill>
                <a:latin typeface="Arial"/>
              </a:rPr>
              <a:t> στο Αναλυτικό Πρόγραμμ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3" descr="wiggins"/>
          <p:cNvPicPr/>
          <p:nvPr/>
        </p:nvPicPr>
        <p:blipFill>
          <a:blip r:embed="rId3"/>
          <a:stretch/>
        </p:blipFill>
        <p:spPr>
          <a:xfrm>
            <a:off x="7215120" y="2428920"/>
            <a:ext cx="1285920" cy="1409760"/>
          </a:xfrm>
          <a:prstGeom prst="rect">
            <a:avLst/>
          </a:prstGeom>
          <a:ln w="0">
            <a:noFill/>
          </a:ln>
        </p:spPr>
      </p:pic>
      <p:sp>
        <p:nvSpPr>
          <p:cNvPr id="581" name="8 - Επεξήγηση με σύννεφο"/>
          <p:cNvSpPr/>
          <p:nvPr/>
        </p:nvSpPr>
        <p:spPr>
          <a:xfrm>
            <a:off x="2643120" y="2357280"/>
            <a:ext cx="3429000" cy="1714680"/>
          </a:xfrm>
          <a:prstGeom prst="cloudCallout">
            <a:avLst>
              <a:gd name="adj1" fmla="val 67574"/>
              <a:gd name="adj2" fmla="val -2393"/>
            </a:avLst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Lucida Sans Unicode"/>
              </a:rPr>
              <a:t>Αυτού που περιγράφει τ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Lucida Sans Unicode"/>
              </a:rPr>
              <a:t>Αναλυτικό Πρόγραμμ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1 - Τίτλος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622440"/>
          </a:xfrm>
          <a:prstGeom prst="rect">
            <a:avLst/>
          </a:prstGeom>
          <a:ln w="0">
            <a:noFill/>
          </a:ln>
        </p:spPr>
      </p:pic>
      <p:pic>
        <p:nvPicPr>
          <p:cNvPr id="583" name="3 - Πίνακας" descr=""/>
          <p:cNvPicPr/>
          <p:nvPr/>
        </p:nvPicPr>
        <p:blipFill>
          <a:blip r:embed="rId2"/>
          <a:stretch/>
        </p:blipFill>
        <p:spPr>
          <a:xfrm>
            <a:off x="66600" y="639720"/>
            <a:ext cx="901080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1 - Τίτλος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Δυσκολία στον εντοπισμό </a:t>
            </a:r>
            <a:r>
              <a:rPr b="0" i="1" lang="el-GR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του βασικού στόχου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Πολύ συχνά, αυτός που προβάλλεται από τον τίτλο της ενότητας ως βασικός στόχος, ενδέχεται να είναι ένα μέρος ενός ευρύτερου στόχου: ένα κομμάτι στο παζλ!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Σε αυτήν την περίπτωση πρέπει να προβλεφθεί η σύνδεση με τον ευρύτερο στόχο είτε με αναδιάταξη των ενοτήτων, είτε με κατασκευή δραστηριοτήτων που διευκολύνουν τη σύνδεση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teacher-point-color"/>
          <p:cNvPicPr/>
          <p:nvPr/>
        </p:nvPicPr>
        <p:blipFill>
          <a:blip r:embed="rId1"/>
          <a:stretch/>
        </p:blipFill>
        <p:spPr>
          <a:xfrm>
            <a:off x="571680" y="4572000"/>
            <a:ext cx="2100240" cy="1895400"/>
          </a:xfrm>
          <a:prstGeom prst="rect">
            <a:avLst/>
          </a:prstGeom>
          <a:ln w="0">
            <a:noFill/>
          </a:ln>
        </p:spPr>
      </p:pic>
      <p:sp>
        <p:nvSpPr>
          <p:cNvPr id="587" name="4 - Επεξήγηση με σύννεφο"/>
          <p:cNvSpPr/>
          <p:nvPr/>
        </p:nvSpPr>
        <p:spPr>
          <a:xfrm>
            <a:off x="2857680" y="1643040"/>
            <a:ext cx="5981400" cy="4148280"/>
          </a:xfrm>
          <a:prstGeom prst="cloudCallout">
            <a:avLst>
              <a:gd name="adj1" fmla="val -58652"/>
              <a:gd name="adj2" fmla="val 52865"/>
            </a:avLst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Τελικά, τι πρέπει ν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μάθουν  οι μαθητές μου σε αυτήν την ενότητα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Ποια είναι η ουσιαστική γνώση/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ικανότητα/δεξιότητα/στάση/συμπεριφορά που επιδιώκω να αποκτήσου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Comic Sans MS"/>
              </a:rPr>
              <a:t>Πως μπορώ να σχεδιάσω τη διδασκαλία μου;</a:t>
            </a: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3:54:05Z</dcterms:created>
  <dc:creator>Emily Michalou</dc:creator>
  <dc:description/>
  <dc:language>en-US</dc:language>
  <cp:lastModifiedBy>DONKEY</cp:lastModifiedBy>
  <dcterms:modified xsi:type="dcterms:W3CDTF">2012-03-28T10:49:30Z</dcterms:modified>
  <cp:revision>48</cp:revision>
  <dc:subject/>
  <dc:title>ΣΧΕΔΙΑΣΜΟΣ ΤΗΣ ΔΙΔΑΣΚΑΛΙΑΣ  ΜΕ ΣΤΟΧΟ ΤΗΝ ΚΑΤΑΝΟΗΣΗ</dc:title>
</cp:coreProperties>
</file>