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BBA-12D0-4D95-9B5F-384A3EC3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7C3-4C1A-4070-85C3-547E4470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9D0-09B7-4883-BD37-0A55B6EA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49C-4DE5-4F8F-BE3A-C37EA10B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181-127E-4D3C-B61E-08BA915C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52A-65EC-4C6E-B8CB-C7120A9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3C7-3D2B-4CE9-AD6B-2752BFAB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A11-DA1E-4395-9028-A5320F25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1E9-6CF0-48A5-A1C3-8644C18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662-CA11-491B-AE30-6E6C62B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846-2D38-4D16-8ACC-F3DA2F6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8BE-DC82-46EE-9EA2-AE53A30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AB05-AAD9-4C39-A17A-D382FD142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336760"/>
            <a:ext cx="84520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Το νέο Σχολείο: πρώτα ο μαθητή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5080" y="4565520"/>
            <a:ext cx="66164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υνοπτική παρουσία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ηπιαγωγείο, Δημοτικό, Γυμνάσιο, Λύκειο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Απαιτεί νέα ΑΠΣ, νέες διδακτικές μεθόδους, καινοτόμες δράσεις, πολιτιστική ζωή και σύγχρονα ψηφιακά μέσ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διαδραστικό πίνακα, ηλεκτρονικό βιβλίο, ψηφιακό εκπαιδευτικό υλικό, προσωπικό laptop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Ισχυροποιεί τον ρόλο του εκπαιδευτικού με πρωτοβουλίες αυτενέργειας και κίνητρα καινοτομίας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Καλλιεργεί την περιβαλλοντική συνείδηση στον μαθητή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Ανοικτό στην κοινωνία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47320" y="304920"/>
            <a:ext cx="9674280" cy="23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Νέο Σχολείο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Στρατηγικοί στόχοι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000" y="1824120"/>
            <a:ext cx="9667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Πρόσβαση στην προσχολική εκπαίδευση από 4 ετών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Μείωση του ποσοστού μαθητών που τελειώνουν την υποχρεωτική εκπαίδευση με χαμηλές επιδόσεις στην ανάγνωση, τα μαθηματικά και τις θετικές επιστήμες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Μείωση του ποσοστού της σχολικής διαρροής από τη υποχρεωτική εκπαίδευση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Πιστοποίηση των γνώσεων ξένης γλώσσας και χρήσης Η/Υ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Αύξηση του ποσοστού των εκπαιδευτικών που χρησιμοποιούν τις ΤΠΕ-Ε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000" y="309240"/>
            <a:ext cx="967428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Ο Μαθητής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μικρός διανοούμενο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μέσα από τη μελέτη των εκφάνσεων του πολιτισμού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μικρός επιστήμονα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καλλιεργώντας τη μαθηματική λογική και αφαιρετική ικανότητα, με αντίστοιχες δεξιότητες στις φυσικές επιστήμες και την τεχνολογία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μικρός ερευνητή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με αναλυτική σκέψη και ψηφιακό και κριτικό γραμματισμό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γλωσσομαθής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με 1-2 ξένες γλώσσες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Μαθαίνω πώς να μαθαίνω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συνειδητός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Έλληνας Πολίτης - Πολίτης του κόσμου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200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Ψηφιακό Σχολείο – 7 άξονες λειτουργί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800" y="1015920"/>
            <a:ext cx="9674280" cy="68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Ευρυζωνικότητα &amp; εξοπλισμός σε κάθε τάξ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Εκπαιδευτική υποστήριξη στο σχολείο και στο σπίτ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Πύλη άμεσης πληροφόρησης και εξυπηρέτησης όλων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Ολοκλήρωση της Επιμόρφωσης στις ΤΠΕ-Ε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Ψηφιακή εκπαιδευτική βιβλιοθήκ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σχολικά βιβλία, σχέδια μαθημάτων για τους εκπαιδευτικούς και ψηφιακές εκπαιδευτικές εφαρμογές για τους μαθητές για κάθε μάθημα, ψηφιακή τηλεόραση, ανακοινώσεις για γεγονότα του σχολείου, e- class 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Μετασχηματισμός του υπάρχοντος Π.Σ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ώστε να αξιοποιούνται νέες διδακτικές και μαθησιακές πρακτικές, καθώς και τα νέα ψηφιακά περιβάλλοντα και μέσα. Συνεργασία με την ψηφιακή τηλεόραση για αναμετάδοση ολοκληρωμένων εκπαιδευτικών μαθημάτων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Πρόσβαση στο ψηφιακό υλικό - υποδομές για τα Α.ΜΕ.Α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Προώθηση της αριστεία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ώστε να ενθαρρύνεται η δημιουργικότητα και η καινοτομία στο σχολεί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00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Αναβάθμιση του Μαχόμενου Εκπαιδευτικ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320" y="1320480"/>
            <a:ext cx="9674280" cy="120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Καθιέρωση Πιστοποιητικού Παιδαγωγικής Κατάρτιση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κατά τη διάρκεια των σπουδών ή μετά την αποφοίτη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Σταδιακή επιμόρφωσ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όλων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των εκπαιδευτικών στο επιστημονικό αντικείμενο, παιδαγωγικές μεθόδους, ΤΠΕ, καθοδήγηση και διοίκ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Επιλογή και πρόσληψη εκπαιδευτικώ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με βάση τις αρχές της αξιοκρατίας και της διαφάνεια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Μετάθεση σε πραγματικά οργανικά κενά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Κανένας εκπαιδευτικός δεν θα μετακινείται εάν δεν υπάρχει αντικαταστάτης του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Θεσμός του «Δόκιμου εκπαιδευτικού»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Αξιοκρατικό σύστημα επιλογής στελεχών διοίκησης στην εκπαίδευση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711360"/>
            <a:ext cx="9674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Μέτρα-Πολιτικές για το Νέο Σχολεί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2000" y="1821960"/>
            <a:ext cx="967428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Ανάγκη για ένα Πρόγραμμα Σπουδώ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ανοικτό και ευέλικτο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στοχοκεντρικό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ενιαίο και συνεκτικό από το νηπιαγωγείο μέχρι το λύκειο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συνοπτικό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(ύλη περιορισμένη, ισορροπία ανάμεσα στα είδη μάθησης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διαθεματ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παιδαγωγικά διαφοροποιούμενο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για διαφορετικούς ρυθμούς μάθησης, ιδιαιτερότητες στην τάξη, διαφορετικές κοινωνικό-πολιτισμικές αναπαραστάσεις. 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με στοιχεία της σύγχρονης ζωής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ώστε να καλλιεργεί την αποδοχή και την κατανόηση μέσα από τη συλλογικότητα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με μεθοδολογία του βιωματικού και συνεργατικού τρόπου μάθηση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προσανατολισμένο στη χειραφέτηση και αυτονομία των μαθητ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" y="711360"/>
            <a:ext cx="9674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Μέτρα-Πολιτικές για το Νέο Σχολεί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2000" y="1821960"/>
            <a:ext cx="967428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Δεν είμαστε σε φάση εκπαιδευτικής μεταρρύθμισης, αλλά σε προσπάθεια εμπλουτισμού, διεύρυνσης, εξομάλυνσης των ήδη ισχυόντων ΑΠΣ και ΔΕΠΠΣ. Γι' αυτό και τα σχολικά εγχειρίδια δεν αλλάζουν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   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Το Νέο Σχολείο είναι νέα νοοτροπία: στόχος είναι ο μαθητής, όχι η ύλη και τα κείμενα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   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Δεν αγχώνομαι για το αν θα βγει η ύλη γιατί ο εκπαιδευτικός θα έχει άνεση και ευχέρεια στη διαμόρφωσή της. Αγχώνομαι, όμως, για το αν οι μαθητές έμαθαν να σκέφτονται, να συνεργάζονται, να κρίνουν, να δημιουργού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76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320" y="711360"/>
            <a:ext cx="9674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Μέτρα-Πολιτικές για το Νέο Σχολεί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2000" y="1821960"/>
            <a:ext cx="9674280" cy="54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Αναβάθμιση στις Διδακτικές Μεθόδου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Διαθεματική προσέγγι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Σχέδια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Διδασκαλία σε ομά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Διαφοροποιημένη παιδαγωγική (εξατομίκευσ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Αξιοποίηση των ΤΠΕ-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. Επιμόρφωση Εκπαιδευτικών στα νέα Π.Σ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Εξειδικευμένη επιμόρφωση στα ΠΣ που καλούνται να εφαρμόσουν αλλά και να συνδιαμορφώσουν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Επιμόρφωση και στις νέες διδακτικές πρακτικές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Διάρκεια 180 ωρών περίπου, δια ζώσης και από απόστασ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DONKEY</cp:lastModifiedBy>
  <dcterms:modified xsi:type="dcterms:W3CDTF">2012-03-28T10:50:21Z</dcterms:modified>
  <cp:revision>2</cp:revision>
  <dc:subject/>
  <dc:title>PowerPoint Presentation</dc:title>
</cp:coreProperties>
</file>