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gif" ContentType="image/gi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19B-F59E-4E00-A111-296034A6A88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3A3-9CE0-4727-BCE4-28EEC9FEB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Ι ενδε΄ξει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256-9E4C-4A49-B323-9FDD6966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DCE-0CE5-43BC-A86A-36B4E24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EE8-97F3-4940-BE8D-EA8A0D8E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B69-9678-4749-87AC-CA5A17DD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0C3-BD97-4755-9200-8AFB877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8DF-AC75-4673-9599-84EB579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26F-DCB2-47B4-A13B-7F91103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E261-67E8-44A8-94F2-8F956F3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8B3-8514-4CFB-B4F2-16C5128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0B88-AAF4-4129-80B9-9B58D34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A42-CA53-48FD-A491-62B889C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CD4-A8A1-4BF6-A47C-4AFB16B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4EA-A239-4F6F-89EA-5310857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160A-8A53-442A-B3FF-60AA87B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4BD-E605-4B9A-8140-78FDA9C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67D-F673-432A-8E85-A94DF558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2DB-6F72-4905-B3C9-6E69BC58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02D9-E1AE-43E8-A7A3-F82DB0BE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C00E-64BA-4D3A-8665-7178EFEE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806E-8CB3-409E-893F-243A495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C4C9-25FF-4577-A900-84302B5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4B81-8C1A-46E5-AC09-8ED08D4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E1C-6615-4157-A879-EC3179F6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4C65-83F5-43DB-8233-2DFE9AC9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BF95-01DC-470E-8460-F7D93BD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9C4D-377C-4D4C-8CD0-B2230E8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743F-1575-4022-B1F2-D9B8739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73B9-50C6-49AA-91B6-860AC89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4C09-D8A0-4EE3-85AF-F572B475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559D-B73E-4927-8224-FCF39B28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6BAD-90FC-4F8D-A87C-415C3ABB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CBC6-35CC-43AC-9687-6ECF6C02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C4B1-BF24-405D-8B1D-C5814B6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7DD-113F-46B3-ACD7-C2B81BDA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3607-AB29-4DC0-80F1-4D9E5DB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7CBE-F2FF-4399-A3E8-B48E3F8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DA3A-B934-4A41-9405-90BA04A9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3D22-0655-4FA1-B932-40F4D9E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3A1D-92E5-480D-A0E4-A60DE73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5292-D683-411B-866B-1ACB0D0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B271-449D-4767-9F6A-7A034A79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8112-3560-4BD7-A796-A6D03FB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1C0C-6C71-4CFB-B96A-53D79AA5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4939-83FC-451E-85D3-29C001E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BAB-8529-4679-828D-C74C031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EBB6-A920-42D3-B4E7-BC02E9E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93B8-FF4F-4FA0-AC76-6C49669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A606-40B5-4F6F-9C6F-97D6651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D7EB5-E0CD-4969-A2D7-65DC45F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4E1A-E335-4923-82FA-76F8419E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E1DD1-631E-4491-89F1-BD68EF6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247E-9C5B-45E2-90F5-31755DF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9249-3ABD-4276-9759-BAB1E48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6616A-4C5F-4D2C-ABC6-BB5B74E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B245-3D0A-45B4-ACA3-8C07780F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138-DA79-4031-8886-9F5BF48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1BDE1-1E3D-4A56-8B75-43E97370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8DB5-4057-4CB4-AE77-7696253E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9DAF-5A38-4B06-BCEB-2609E80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2AFA-EB6B-4631-B08A-9D4DEEA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112C-D9D1-41A0-B967-4B3D3EE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373E-66E5-414A-85A5-31D649B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55D0-3580-408A-A70F-030D7085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AE57-CDD1-4779-B036-1453A8D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7A40-46A0-409A-A75F-77D3EE4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1FDD-6AE8-4338-A6D1-3FA1F74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E34-97A2-4A21-9210-93A41CB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E3D4A-D2D1-4C79-B3BF-232FA99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6137-8BD7-4960-A6F8-9426CBB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B221-4E3C-4D30-9F12-28D5B1C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2419-4F62-4F8C-984F-A558B8D0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D4CD-8836-4379-87CB-5F4FB5D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960B-09D7-4F91-8462-0F82CC89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87418-782F-4AB0-A3C2-7A32FF2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FAD9-28B6-4166-9486-4D8A0CB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6235-0392-4B13-9946-ADB14F84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5FD7-6B84-4C2F-832C-D8F32D4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52B-B860-4B54-9EEB-2E945C59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FA060-7CF6-43A7-8915-9C3E2A4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1BE6-FDA4-482D-A46F-4B01763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1D65-01EA-48D0-84FF-1D5E77DB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0DBB-157F-4061-859B-BF2AA2F9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35B1-4414-4D56-B566-BBBD2936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204-450A-491E-83FD-8DFEADA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32F-21E0-4077-8DEB-06BDAEAC8CF5}" type="slidenum"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B2A-94A8-41B6-AE5E-EC47004B7BF6}" type="slidenum"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6700-448B-4518-BC41-F395C8AEE409}" type="slidenum">
              <a:rPr b="0" lang="el-G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- Ψαλίδισμα και στρογγύλεμα μίας γωνίας του ορθογωνίου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- Ορθογώνιο τρίγωνο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- Ελεύθερη σχεδίαση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- Ελεύθερη σχεδίαση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EE0F-D04F-476B-BC5C-149D45DAD3ED}" type="slidenum"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6066-5C9E-4825-86B9-162871ED0E8C}" type="slidenum">
              <a:rPr b="0" lang="el-G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6AF9-36A4-4B46-B553-509E50D848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6 - Ελεύθερη σχεδίαση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7 - Ελεύθερη σχεδίαση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7" name="1 - Ομάδα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11 - Ελεύθερη σχεδίαση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11 - Ελεύθερη σχεδίαση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1" name="12 - Ελεύθερη σχεδίαση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12 - Ελεύθερη σχεδίαση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538-777D-4E70-B732-3DF858DCE5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6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7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14.png"/><Relationship Id="rId5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1 - Τίτλος" descr=""/>
          <p:cNvPicPr/>
          <p:nvPr/>
        </p:nvPicPr>
        <p:blipFill>
          <a:blip r:embed="rId2"/>
          <a:stretch/>
        </p:blipFill>
        <p:spPr>
          <a:xfrm>
            <a:off x="1689120" y="1122480"/>
            <a:ext cx="5351400" cy="1315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33160" y="2781000"/>
            <a:ext cx="7351560" cy="2376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ΠΛΑΙΣΙΟ ΠΡΟΓΡΑΜΜΑΤΩ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ΣΠΟΥΔΩΝ (ΠΣ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Χρίστος Δούκα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Αντιπρόεδρος του ΠΙ</a:t>
            </a:r>
            <a:r>
              <a:rPr b="1" lang="en-US" sz="17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4" name="Picture 5" descr="j0299697"/>
          <p:cNvPicPr/>
          <p:nvPr/>
        </p:nvPicPr>
        <p:blipFill>
          <a:blip r:embed="rId3"/>
          <a:stretch/>
        </p:blipFill>
        <p:spPr>
          <a:xfrm>
            <a:off x="468360" y="4005360"/>
            <a:ext cx="2303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3.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 Διδακτικές-παιδαγωγικές προσεγγίσεις-Αξιολόγηση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Προσδοκώμενα αποτελέσματα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Παιδαγωγικές/διδακτικές</a:t>
            </a:r>
            <a:r>
              <a:rPr b="1" lang="el-GR" sz="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</a:t>
            </a: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Αξιολόγηση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ο προγράμματα σπουδών θα δίνεται έμφαση στη</a:t>
            </a:r>
            <a:r>
              <a:rPr b="0" lang="el-GR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διαφοροποιημένη</a:t>
            </a:r>
            <a:r>
              <a:rPr b="0" lang="el-GR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διδασκαλία</a:t>
            </a:r>
            <a:r>
              <a:rPr b="0" lang="el-GR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Μέσω της βασικής αυτής προσέγγισης, επιμέρους έμφαση δίνετα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ν καλλιέργεια κινήτρων για ενεργοποίηση της συμμετοχή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ν καλλιέργεια κλίματος αναγνώρισης και αποδοχή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ν καλλιέργεια επικοινωνίας και κοινωνικών αλληλεπιδράσεων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ν αξιοποίηση των προηγούμενων γνώσεων και εμπειριών των μαθητών στην προοπτική της υποστήριξής τους για επιστημονικού και μορφωτικού χαρακτήρα κατακτήσει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 διαμόρφωση ελκυστικών περιβαλλόντων μάθησης και τη σύνδεσή τους με τα περιβάλλοντα ζωή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ο σχεδιασμό και την οργάνωση ευκαιριών για πλούσιες εμπειρίες μάθησης που συνδέονται με τη συμμετοχή σε εγγράμματα γεγονότα και εγγράμματες πρακτικές της ευρύτερης κοινότητα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στην καλλιέργεια της συμμετοχής των μαθητών στη διαχείριση της μάθησης του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203640" y="1125360"/>
            <a:ext cx="2232000" cy="1297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4617b"/>
                </a:solidFill>
                <a:latin typeface="Arial"/>
              </a:rPr>
              <a:t>                        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3. Αξιολόγηση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Έμφαση στη διαμορφωτική, βασισμένη σε κριτήρια, πολλαπλές μορφές και τύπους, αυτοαξιολόγηση. Περιγραφή επιπέδων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Προσδοκώμενα αποτελέσματα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l-GR" sz="1400" spc="-1" strike="noStrike">
                <a:solidFill>
                  <a:srgbClr val="000000"/>
                </a:solidFill>
                <a:latin typeface="Constantia"/>
              </a:rPr>
              <a:t>Παιδαγωγικές/διδακτικές                                                       Αξιολόγηση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1 - Τίτλος"/>
          <p:cNvSpPr/>
          <p:nvPr/>
        </p:nvSpPr>
        <p:spPr>
          <a:xfrm>
            <a:off x="468360" y="342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4.</a:t>
            </a: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Διδακτικά-Μαθησιακά πεδία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2 - Θέση περιεχομένου"/>
          <p:cNvSpPr/>
          <p:nvPr/>
        </p:nvSpPr>
        <p:spPr>
          <a:xfrm>
            <a:off x="468360" y="3789360"/>
            <a:ext cx="82612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Ο συνολικός διδακτικός χρόνος κατανέμεται στα ευρύτερα μαθησιακά-διδακτικά πεδία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Ελληνική Γλώσσα  και Γραμματεί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Ξένες Γλώσσε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Μαθηματικά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Φυσικές Επιστήμες, Περιβάλλον, και Τεχνολογί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Σπουδές του Ανθρώπου και της Κοινωνία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Πολιτισμός και δραστηριότητες Τέχνη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Σχολική και Κοινωνική Ζωή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Τεχνολογίες Πληροφορίας και Επικοινωνιώ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276720" y="1773360"/>
            <a:ext cx="2160360" cy="1368360"/>
          </a:xfrm>
          <a:prstGeom prst="triangle">
            <a:avLst>
              <a:gd name="adj" fmla="val 4939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Constantia"/>
              </a:rPr>
              <a:t>ΚΑΤΑΝΟΜΗ ΚΑΤΑ ΜΑΘΗΣΙΑΚΑ-ΔΙΔΑΚΤΙΚΑ ΠΕΔΙΑ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 ΚΑΙ ΑΝΤΙΚΕΙΜΕΝΑ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907920"/>
          <a:ext cx="9144000" cy="6232680"/>
        </p:xfrm>
        <a:graphic>
          <a:graphicData uri="http://schemas.openxmlformats.org/drawingml/2006/table">
            <a:tbl>
              <a:tblPr/>
              <a:tblGrid>
                <a:gridCol w="2646360"/>
                <a:gridCol w="1544760"/>
                <a:gridCol w="1539720"/>
                <a:gridCol w="1542960"/>
                <a:gridCol w="18702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ΜΑΘΗΣΙΑΚΑ - ΔΙΔΑΚΤΙΚΑ  ΑΝΤΙΚΕΙΜΕΝ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ΔΑΚΤΙΚΑ-ΜΑΘΗΣΙΑΚΑ ΑΝΤΙΚΕΙΜΕΝ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ΔΙΔΑΚΤΙΚΕΣ ΩΡΕΣ /  ΠΕΡΙΟΔΟ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c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ΗΜΟΤΙΚ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c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ΥΜΝΑΣΙ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c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c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ceff"/>
                    </a:solidFill>
                  </a:tcPr>
                </a:tc>
              </a:tr>
              <a:tr h="39060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εοελληνική Γλώσ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ογοτεχνία-Φιλαναγνωσ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εοελληνική Γλώσσα και Γραμματεία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ρχαία Ελληνική Γλώσαα και Γραμματε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06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γγλικ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η ξένη γλώσ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γγλικ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η ξένη γλώσ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180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ΑΘΗΜΑΤΙΚ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ΑΘΗΜΑΤΙΚ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841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3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υσικ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Γεωγραφί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ελέτη Περιβάλλοντος(1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υσικ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Χημε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ιολογ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Γεωγραφί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εχνολογ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0" y="549360"/>
          <a:ext cx="9144000" cy="5832360"/>
        </p:xfrm>
        <a:graphic>
          <a:graphicData uri="http://schemas.openxmlformats.org/drawingml/2006/table">
            <a:tbl>
              <a:tblPr/>
              <a:tblGrid>
                <a:gridCol w="2124000"/>
                <a:gridCol w="1533600"/>
                <a:gridCol w="136440"/>
                <a:gridCol w="1692360"/>
                <a:gridCol w="1828800"/>
                <a:gridCol w="1828800"/>
              </a:tblGrid>
              <a:tr h="48096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                                            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5) ΣΠΟΥΔΕΣ ΤΟΥ ΑΝΘΡΩΠΟΥ ΚΑΙ ΤΗΣ ΚΟΙΝΩΝΙΑ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2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Ιστορ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Θρησκευτικ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Κοινωνική κ Πολιτική Αγωγ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Μελέτη Περιβάλλοντος (1/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Ιστορ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Θρησκευτικ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Κοινωνική κ Πολιτική Αγωγή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95000"/>
                        <a:buFont typeface="Constant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Οικιακή Οικονομί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7160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                                                         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6) ΣΧΟΛΙΚΗ ΚΑΙ ΚΟΙΝΩΝΙΚΗ ΖΩ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6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Φυσική Αγωγ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Σχολική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κοινωνική ζω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Φυσική Αγωγ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Σχολική-κοινωνική ζωή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ΣΕ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7) ΠΟΛΙΤΙΣΜΟ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ΔΡΑΣΤΗΡΙΟΤΗΤΕΣ ΤΕΧΝ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 ΠΡΟΓΡΑΜΜΑ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Αισθητική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Αγωγ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Μουσικ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Θεατρική Αγωγ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 ΠΡΟΓΡΑΜΜ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 ΠΡΟΓΡΑΜΜΑ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Μουσικ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Καλλιτεχνικ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bd0d9"/>
                        </a:buClr>
                        <a:buSzPct val="95000"/>
                        <a:buFont typeface="Wingdings 2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 ΠΡΟΓΡΑΜΜΑ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8) ΤΠ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6. Οργάνωση σχολικού χρόνου</a:t>
            </a:r>
            <a:br>
              <a:rPr sz="2800"/>
            </a:b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Προτάσεις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4000" y="155736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πιμήκυνση μαθησιακού χρόνου με ενοποίηση διδακτικών ωρών σε μακρύτερες περιόδους (πχ συνεχόμενη 2ωρη διδακτική ενότητα αντί 2 μονόωρων διδακτικών ωρών σε διαφορετικές χρονικές περιόδους με κατάλληλη οργάνωση διδακτικού περιεχομένου 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ίσχυση της ευελιξίας της σχολικής μονάδας στην κατανομή των διδακτικών περιόδων του ωρολογίου προγράμμα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Ζώνες μαθησιακών-διδακτικών αντικειμένων, ζώνες «βιωματικών δράσεων»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Σχολείο ανοικτό στην τοπική κοινότητα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1 - Τίτλος"/>
          <p:cNvSpPr/>
          <p:nvPr/>
        </p:nvSpPr>
        <p:spPr>
          <a:xfrm>
            <a:off x="395280" y="4724280"/>
            <a:ext cx="83026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onstantia"/>
                <a:ea typeface="Arial"/>
              </a:rPr>
              <a:t>+1 θέση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4617b"/>
                </a:solidFill>
                <a:latin typeface="Constantia"/>
              </a:rPr>
              <a:t>Διαδικασίες συνεχούς βελτίωσης των Προγραμμάτων Σπουδών 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(πχ περιοδική δειγματοληπτική αξιολόγηση αποτελεσμάτων μάθησης σε διαφορετικά μαθησιακά αντικείμενα, πραγματοποίησηση ερευνών, μελετών, εκθέσεων μάθησης στην πράξη, διεθνείς τάσεις κ.α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6" descr="j0299697"/>
          <p:cNvPicPr/>
          <p:nvPr/>
        </p:nvPicPr>
        <p:blipFill>
          <a:blip r:embed="rId2"/>
          <a:stretch/>
        </p:blipFill>
        <p:spPr>
          <a:xfrm>
            <a:off x="7020000" y="3141720"/>
            <a:ext cx="1368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1268280"/>
          <a:ext cx="9144000" cy="5977080"/>
        </p:xfrm>
        <a:graphic>
          <a:graphicData uri="http://schemas.openxmlformats.org/drawingml/2006/table">
            <a:tbl>
              <a:tblPr/>
              <a:tblGrid>
                <a:gridCol w="2411280"/>
                <a:gridCol w="2521080"/>
                <a:gridCol w="2160720"/>
                <a:gridCol w="2050920"/>
              </a:tblGrid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Προσδοκώμενα Μαθησιακά Αποτελέσμα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Βασικά θέματ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Δραστηριότη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Εκπαιδευτικό υλικ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69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Περιγράφεται με σαφήνεια το σύνολο αυτών που ο μαθητής συγκεκριμένα θα έχει επιτύχει ως αποτέλεσμα της διδασκαλίας του συγκεκριμένου θέματο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Αναφέρονται σε κεντρικές έννοιες, στοιχεία μεθοδολογίας, και κώδικες (φορμαλισμοί, ειδικοί τρόποι αναπαράστασης, κλπ) του κάθε γνωστικού αντικειμένο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Αναφέρονται γενικοί τύποι δραστηριοτήτων που θα μπορούσαν να διευκολύνουν την επίτευξη των προσδοκώμενων μαθησιακών αποτελεσμάτω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Αναφέρονται τα τμήματα του εκπαιδευτικού υλικού που παραπέμπεται ο εκπαιδευτικός για τη διδασκαλία του θέ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98" name="3 - Ορθογώνιο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4e6d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4e6d"/>
                </a:solidFill>
                <a:latin typeface="Constantia"/>
              </a:rPr>
              <a:t>ΔΟΜΗ ΠΡΟΓΡΑΜΜΑΤΩΝ ΣΠΟΥΔΩ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d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1" lang="el-GR" sz="2900" spc="-1" strike="noStrike">
                <a:solidFill>
                  <a:srgbClr val="04617b"/>
                </a:solidFill>
                <a:latin typeface="Calibri"/>
              </a:rPr>
              <a:t>Σχεδιάζοντας με βάση το ΠΣ..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692280"/>
          <a:ext cx="9144000" cy="6165720"/>
        </p:xfrm>
        <a:graphic>
          <a:graphicData uri="http://schemas.openxmlformats.org/drawingml/2006/table">
            <a:tbl>
              <a:tblPr/>
              <a:tblGrid>
                <a:gridCol w="2700360"/>
                <a:gridCol w="4319640"/>
                <a:gridCol w="2124000"/>
              </a:tblGrid>
              <a:tr h="72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ΤΟΧΟΙ ΤΟΥ ΠΣ: Προσδοκώμενα μαθησιακά αποτελέσματα, βασικά θέμα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αδικασί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ριτήρι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ραστηριότητες-Εκπαιδευτικά υλικ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Αξιοποιώντας τις εμπειρίες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Γνωστέ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Νέε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απαιτούμενες -Προγενέστερες-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οινές ιδέες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»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καταγραφή-ερμηνεία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—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τιμετώπισή του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οικιλία έγκυρων και ζωντανών εμπειρι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Κατανοώντα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ισαγωγή εννοιών/ιδεών ώστε να έχουν νόημα και σκοπ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ισαγωγή όρων/εννοιών που είναι απαραίτητο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ύνδεση ορισμών/εννοιών με εμπειρί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παράσταση εννοιών με ακρίβεια, συνοχή, πληρότητ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πτυξη-χρήση  εννοιών/ιδεών/όρ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Διερευνώντα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νθάρρυνση μαθητών να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φράζουν και να εξηγούν ιδέες-Να αποσαφηνίζουν-Να αναπαριστού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φαρμογή της λογικής ακολουθίας της σκέψης, της σύνδεσης εμπειριών-φαινομένων-εννοιών-ιδε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ατανόηση της διαφοράς μεταξύ παρανοήσεων/στερεοτύπων και έγκυρων αντιλήψε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Εφαρμόζοντας-συνδέοντα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φαρμογή σε συμβατικές και σε διαφορετικές/άγνωστες συνθήκ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ακτικές εφαρμογές σε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οικιλία περιβαλλόντων κλιμακούμενης συνθετότητ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ΠΙΛΟΤΙΚΗ ΕΦΑΡΜΟΓΗ: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r>
              <a:rPr b="0" lang="el-GR" sz="2900" spc="-1" strike="noStrike">
                <a:solidFill>
                  <a:srgbClr val="04617b"/>
                </a:solidFill>
                <a:latin typeface="Constantia"/>
              </a:rPr>
              <a:t>ΠΙΛΟΤΙΚΗ ΕΦΑΡΜΟΓΗ</a:t>
            </a:r>
            <a:r>
              <a:rPr b="0" lang="el-GR" sz="29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900"/>
            </a:br>
            <a:r>
              <a:rPr b="0" lang="el-GR" sz="2900" spc="-1" strike="noStrike">
                <a:solidFill>
                  <a:srgbClr val="04617b"/>
                </a:solidFill>
                <a:latin typeface="Calibri"/>
              </a:rPr>
              <a:t>                                 </a:t>
            </a:r>
            <a:r>
              <a:rPr b="0" lang="el-GR" sz="2800" spc="-1" strike="noStrike">
                <a:solidFill>
                  <a:srgbClr val="04617b"/>
                </a:solidFill>
                <a:latin typeface="Constantia"/>
              </a:rPr>
              <a:t>ΣΧΕΔΙΑΣΜΟΣ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                         </a:t>
            </a:r>
            <a:r>
              <a:rPr b="0" lang="el-GR" sz="2800" spc="-1" strike="noStrike">
                <a:solidFill>
                  <a:srgbClr val="04617b"/>
                </a:solidFill>
                <a:latin typeface="Constantia"/>
              </a:rPr>
              <a:t>        ΕΦΑΡΜΟΓΗ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3" name="Picture 7" descr="j0299697"/>
          <p:cNvPicPr/>
          <p:nvPr/>
        </p:nvPicPr>
        <p:blipFill>
          <a:blip r:embed="rId2"/>
          <a:stretch/>
        </p:blipFill>
        <p:spPr>
          <a:xfrm>
            <a:off x="6012000" y="2637000"/>
            <a:ext cx="267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Τί είναι η πιλοτική εφαρμογή (ΠΕ);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ίναι ένα πρόγραμμα ανάπτυξης των προγραμμάτων σπουδών (ΠΣ) στα σχολεία, έρευνας και αξιολόγησης της εφαρμογής τους ώστε τα ΠΣ να βελτιωθούν και να διαπιστωθεί η δυνατότητα γενίκευσής του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Η ΠΕ δεν είναι μια απλή ένταξη των ΠΣ στις υπάρχουσες δομές και πρακτικές των σχολείων. Είναι ένα όχημα για την αλλαγή ώστε να βελτιωθεί η μάθηση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τηρίζεται στη συλλογή δεδομένων και στη μελέτη ενδείξεων για τη βελτίωση της μάθησης. Είναι μια συμμετοχική διαδικασία που βασίζεται στην ανατροφοδότηση της διδασκαλίας-μάθησης μέσω τη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διερεύνησης των αποτελεσμάτων τη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Organization Chart 2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407" name="_s1028"/>
            <p:cNvCxnSpPr>
              <a:stCxn id="408" idx="0"/>
              <a:endCxn id="40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0" name="_s1029"/>
            <p:cNvCxnSpPr>
              <a:stCxn id="411" idx="0"/>
              <a:endCxn id="40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2" name="_s1030"/>
            <p:cNvCxnSpPr>
              <a:stCxn id="413" idx="0"/>
              <a:endCxn id="40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ffffff"/>
                  </a:solidFill>
                  <a:latin typeface="Verdana"/>
                </a:rPr>
                <a:t>ΣΤΟΧΟΙ 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ffffff"/>
                  </a:solidFill>
                  <a:latin typeface="Verdana"/>
                </a:rPr>
                <a:t>ΠΙΛΟΤΙΚΗΣ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Να εφαρμοσθούν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τα ΠΣ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και να βελτιωθούν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μέσω της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Εφαρμογής τους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στην πράξη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Να διαπιστώσει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ότι τα ΠΣ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προσφέρουν μια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γενικεύσιμη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προσέγγιση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για τη βελτίωση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της μάθησης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0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Να διευρύνει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το ρόλο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του εκπαιδευτικού ως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σχεδιαστού,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διερευνητή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της μάθησης,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δημιουργού υλικών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και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Verdana"/>
                </a:rPr>
                <a:t>περιβαλλόντων</a:t>
              </a:r>
              <a:r>
                <a:rPr b="0" lang="el-GR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2"/>
          <a:stretch/>
        </p:blipFill>
        <p:spPr>
          <a:xfrm>
            <a:off x="450720" y="579600"/>
            <a:ext cx="8643960" cy="10364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onstantia"/>
              </a:rPr>
              <a:t>Δυσαρμονία μεταξύ της πραγματικότητας των σχολείων και του κόσμου της ζωής των μαθητώ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onstantia"/>
              </a:rPr>
              <a:t>Το αίτημα της αλλαγής στα ΠΣ (Ανάλυση στο Σχέδιο για το «Νέο Σχολείο»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                          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ΣΥΜΜΕΤΕΧΟΝΤΕ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415" name="Diagram 2"/>
          <p:cNvGrpSpPr/>
          <p:nvPr/>
        </p:nvGrpSpPr>
        <p:grpSpPr>
          <a:xfrm>
            <a:off x="416880" y="778680"/>
            <a:ext cx="8395200" cy="5834880"/>
            <a:chOff x="416880" y="778680"/>
            <a:chExt cx="8395200" cy="5834880"/>
          </a:xfrm>
        </p:grpSpPr>
        <p:sp>
          <p:nvSpPr>
            <p:cNvPr id="416" name="_s2052"/>
            <p:cNvSpPr/>
            <p:nvPr/>
          </p:nvSpPr>
          <p:spPr>
            <a:xfrm flipH="1" flipV="1">
              <a:off x="2939040" y="2855880"/>
              <a:ext cx="840600" cy="48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7" name="_s2053"/>
            <p:cNvSpPr/>
            <p:nvPr/>
          </p:nvSpPr>
          <p:spPr>
            <a:xfrm>
              <a:off x="1038600" y="1631520"/>
              <a:ext cx="213948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ΕΠΙΜΟΡΦΩΤΕ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8" name="_s2054"/>
            <p:cNvSpPr/>
            <p:nvPr/>
          </p:nvSpPr>
          <p:spPr>
            <a:xfrm flipH="1">
              <a:off x="2522160" y="3972600"/>
              <a:ext cx="105984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19" name="_s2055"/>
            <p:cNvSpPr/>
            <p:nvPr/>
          </p:nvSpPr>
          <p:spPr>
            <a:xfrm>
              <a:off x="416880" y="3554640"/>
              <a:ext cx="213804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ΑΝΕΞΑΡΤΗΤΟΙ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ΑΞΙΟΛΟΓΗΤΕ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nstantia"/>
                </a:rPr>
                <a:t>(</a:t>
              </a: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πέραν των ομάδων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των ΠΣ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0" name="_s2056"/>
            <p:cNvSpPr/>
            <p:nvPr/>
          </p:nvSpPr>
          <p:spPr>
            <a:xfrm flipH="1">
              <a:off x="3681000" y="4478760"/>
              <a:ext cx="469800" cy="69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1" name="_s2057"/>
            <p:cNvSpPr/>
            <p:nvPr/>
          </p:nvSpPr>
          <p:spPr>
            <a:xfrm>
              <a:off x="2151360" y="5097960"/>
              <a:ext cx="213804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2" name="_s2058"/>
            <p:cNvSpPr/>
            <p:nvPr/>
          </p:nvSpPr>
          <p:spPr>
            <a:xfrm>
              <a:off x="5071680" y="4478760"/>
              <a:ext cx="469800" cy="69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3" name="_s2059"/>
            <p:cNvSpPr/>
            <p:nvPr/>
          </p:nvSpPr>
          <p:spPr>
            <a:xfrm>
              <a:off x="4939560" y="5097960"/>
              <a:ext cx="213804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Verdana"/>
                </a:rPr>
                <a:t>ΠΡΟΙΣΤΑΜΕΝΟΙ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l-GR" sz="1600" spc="-1" strike="noStrike">
                  <a:solidFill>
                    <a:srgbClr val="ffffff"/>
                  </a:solidFill>
                  <a:latin typeface="Verdana"/>
                </a:rPr>
                <a:t>ΠΕΡΙΦΕΡΕΙΩΝ-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Verdana"/>
                </a:rPr>
                <a:t>ΔΙΕΥΘΥΝΤΕ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Verdana"/>
                </a:rPr>
                <a:t>ΣΧΟΛΕΙΩΝ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4" name="_s2060"/>
            <p:cNvSpPr/>
            <p:nvPr/>
          </p:nvSpPr>
          <p:spPr>
            <a:xfrm>
              <a:off x="5640840" y="3968280"/>
              <a:ext cx="105984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5" name="_s2061"/>
            <p:cNvSpPr/>
            <p:nvPr/>
          </p:nvSpPr>
          <p:spPr>
            <a:xfrm>
              <a:off x="6674040" y="3554640"/>
              <a:ext cx="213804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ΧΟΛΙΚΟΙ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ΥΜΒΟΥΛΟΙ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6" name="_s2062"/>
            <p:cNvSpPr/>
            <p:nvPr/>
          </p:nvSpPr>
          <p:spPr>
            <a:xfrm flipV="1">
              <a:off x="5435280" y="2855520"/>
              <a:ext cx="848160" cy="47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7" name="_s2063"/>
            <p:cNvSpPr/>
            <p:nvPr/>
          </p:nvSpPr>
          <p:spPr>
            <a:xfrm>
              <a:off x="6050880" y="1631520"/>
              <a:ext cx="2139480" cy="15156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ΠΡΟΩΘΗΤΕ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ΥΜΒΟΥΛΟΙ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ΠΙΛΟΤΙΚΗ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(150 συνολικά</a:t>
              </a:r>
              <a:r>
                <a:rPr b="0" lang="el-GR" sz="16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8" name="_s2064"/>
            <p:cNvSpPr/>
            <p:nvPr/>
          </p:nvSpPr>
          <p:spPr>
            <a:xfrm flipV="1">
              <a:off x="4607640" y="2288880"/>
              <a:ext cx="0" cy="76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9" name="_s2065"/>
            <p:cNvSpPr/>
            <p:nvPr/>
          </p:nvSpPr>
          <p:spPr>
            <a:xfrm>
              <a:off x="3541680" y="778680"/>
              <a:ext cx="2139480" cy="15145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ΚΕΝΤΡΙΚΗ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ΕΠΙΤΡΟΠΗ ΤΩΝ Π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-ΕΙΔΙΚΟΙ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ΕΡΕΥΝΗΤΕ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30" name="_s2066"/>
            <p:cNvSpPr/>
            <p:nvPr/>
          </p:nvSpPr>
          <p:spPr>
            <a:xfrm>
              <a:off x="3541680" y="3053520"/>
              <a:ext cx="2139480" cy="15145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ΠΙΛΟΤΙΚΑ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ΣΧΟΛΕΙΑ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ΕΚΠΑΙΔΕΥΤΙΚΟΙ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Verdana"/>
                </a:rPr>
                <a:t>ΜΑΘΗΤΕ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31" name="Rectangle 24"/>
          <p:cNvSpPr/>
          <p:nvPr/>
        </p:nvSpPr>
        <p:spPr>
          <a:xfrm>
            <a:off x="2484360" y="5229360"/>
            <a:ext cx="470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onstantia"/>
              </a:rPr>
              <a:t>ΟΜΑΔΑ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onstantia"/>
              </a:rPr>
              <a:t>ΔΙΑΧΕΙΡΙΣΗ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onstantia"/>
              </a:rPr>
              <a:t>ΕΡΓΟΥ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                         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ΜΕΘΟΔΟΛΟΓΙΑ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ολυδιάστατη διερεύνησ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Βασίζεται στην εγκυρότητ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τηρίζεται σε πολλαπλές πηγές και μεθόδους άντλησης δεδομέν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Είναι δυναμική και αναπροσαρμόζεται  στις συνθήκ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Λαμβάνει υπόψη τις διεθνείς εμπειρίε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34" name="Object 2"/>
          <p:cNvGraphicFramePr/>
          <p:nvPr/>
        </p:nvGraphicFramePr>
        <p:xfrm>
          <a:off x="324000" y="0"/>
          <a:ext cx="165708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0"/>
                    <a:ext cx="16570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3"/>
          <p:cNvGraphicFramePr/>
          <p:nvPr/>
        </p:nvGraphicFramePr>
        <p:xfrm>
          <a:off x="7236000" y="0"/>
          <a:ext cx="1657080" cy="18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0"/>
                    <a:ext cx="16570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ΣΧΕΔΙΟ ΠΙΛΟΤΙΚΗ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971640" y="1197000"/>
            <a:ext cx="7200720" cy="5661000"/>
          </a:xfrm>
          <a:prstGeom prst="ellipse">
            <a:avLst/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2050920" y="2970360"/>
            <a:ext cx="5113440" cy="3887640"/>
          </a:xfrm>
          <a:prstGeom prst="ellipse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3132000" y="4986360"/>
            <a:ext cx="2880000" cy="187164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42" name="Group 10"/>
          <p:cNvGrpSpPr/>
          <p:nvPr/>
        </p:nvGrpSpPr>
        <p:grpSpPr>
          <a:xfrm>
            <a:off x="5429880" y="2159280"/>
            <a:ext cx="3719160" cy="1941480"/>
            <a:chOff x="5429880" y="2159280"/>
            <a:chExt cx="3719160" cy="1941480"/>
          </a:xfrm>
        </p:grpSpPr>
        <p:sp>
          <p:nvSpPr>
            <p:cNvPr id="443" name="AutoShape 11"/>
            <p:cNvSpPr/>
            <p:nvPr/>
          </p:nvSpPr>
          <p:spPr>
            <a:xfrm rot="20380800">
              <a:off x="5435280" y="2781360"/>
              <a:ext cx="3708000" cy="696960"/>
            </a:xfrm>
            <a:prstGeom prst="leftArrow">
              <a:avLst>
                <a:gd name="adj1" fmla="val 50000"/>
                <a:gd name="adj2" fmla="val 133006"/>
              </a:avLst>
            </a:prstGeom>
            <a:gradFill rotWithShape="0">
              <a:gsLst>
                <a:gs pos="0">
                  <a:srgbClr val="fd0b05"/>
                </a:gs>
                <a:gs pos="100000">
                  <a:srgbClr val="ff6600"/>
                </a:gs>
              </a:gsLst>
              <a:lin ang="661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44" name="Text Box 12"/>
            <p:cNvSpPr/>
            <p:nvPr/>
          </p:nvSpPr>
          <p:spPr>
            <a:xfrm rot="20421600">
              <a:off x="6175440" y="2930400"/>
              <a:ext cx="257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νατροφοδότηση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2771640" y="5661000"/>
            <a:ext cx="46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Εφαρμογή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843280" y="1628640"/>
            <a:ext cx="309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Διερεύνησ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Ανάπτυξ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el-GR" sz="4400" spc="-1" strike="noStrike">
                <a:solidFill>
                  <a:srgbClr val="04617b"/>
                </a:solidFill>
                <a:latin typeface="Calibri"/>
              </a:rPr>
              <a:t>ΕΦΑΡΜΟΓΗ-ΑΝΑΠΤΥΞΗ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448" name="Diagram 2"/>
          <p:cNvGrpSpPr/>
          <p:nvPr/>
        </p:nvGrpSpPr>
        <p:grpSpPr>
          <a:xfrm>
            <a:off x="1118160" y="1600200"/>
            <a:ext cx="6998040" cy="5140800"/>
            <a:chOff x="1118160" y="1600200"/>
            <a:chExt cx="6998040" cy="5140800"/>
          </a:xfrm>
        </p:grpSpPr>
        <p:sp>
          <p:nvSpPr>
            <p:cNvPr id="449" name="_s4100"/>
            <p:cNvSpPr/>
            <p:nvPr/>
          </p:nvSpPr>
          <p:spPr>
            <a:xfrm flipH="1">
              <a:off x="2854440" y="4168080"/>
              <a:ext cx="88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0" name="_s4101"/>
            <p:cNvSpPr/>
            <p:nvPr/>
          </p:nvSpPr>
          <p:spPr>
            <a:xfrm>
              <a:off x="1118160" y="3500640"/>
              <a:ext cx="1744560" cy="14270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1" name="_s4102"/>
            <p:cNvSpPr/>
            <p:nvPr/>
          </p:nvSpPr>
          <p:spPr>
            <a:xfrm>
              <a:off x="4606200" y="4806720"/>
              <a:ext cx="0" cy="64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2" name="_s4103"/>
            <p:cNvSpPr/>
            <p:nvPr/>
          </p:nvSpPr>
          <p:spPr>
            <a:xfrm>
              <a:off x="3738960" y="5456520"/>
              <a:ext cx="1743120" cy="12844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πικοινωνία: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nstantia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nstantia"/>
                </a:rPr>
                <a:t>Help-Desk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3" name="_s4104"/>
            <p:cNvSpPr/>
            <p:nvPr/>
          </p:nvSpPr>
          <p:spPr>
            <a:xfrm>
              <a:off x="5475240" y="4168080"/>
              <a:ext cx="88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4" name="_s4105"/>
            <p:cNvSpPr/>
            <p:nvPr/>
          </p:nvSpPr>
          <p:spPr>
            <a:xfrm>
              <a:off x="6373080" y="3500640"/>
              <a:ext cx="1743120" cy="12830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πιμόρφω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5" name="_s4106"/>
            <p:cNvSpPr/>
            <p:nvPr/>
          </p:nvSpPr>
          <p:spPr>
            <a:xfrm flipV="1">
              <a:off x="4606200" y="2878200"/>
              <a:ext cx="0" cy="64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6" name="_s4107"/>
            <p:cNvSpPr/>
            <p:nvPr/>
          </p:nvSpPr>
          <p:spPr>
            <a:xfrm>
              <a:off x="3633480" y="1600200"/>
              <a:ext cx="1870200" cy="1393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κπαιδευτικό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υλικό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(ΠΣ, Οδηγοί κ.α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57" name="_s4108"/>
            <p:cNvSpPr/>
            <p:nvPr/>
          </p:nvSpPr>
          <p:spPr>
            <a:xfrm>
              <a:off x="3565800" y="3357000"/>
              <a:ext cx="2080800" cy="15818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500" spc="-1" strike="noStrike">
                  <a:solidFill>
                    <a:srgbClr val="ffffff"/>
                  </a:solidFill>
                  <a:latin typeface="Verdana"/>
                </a:rPr>
                <a:t>ΠΙΛΟΤΙΚΑ</a:t>
              </a:r>
              <a:endParaRPr b="0" lang="en-US" sz="2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500" spc="-1" strike="noStrike">
                  <a:solidFill>
                    <a:srgbClr val="ffffff"/>
                  </a:solidFill>
                  <a:latin typeface="Verdana"/>
                </a:rPr>
                <a:t>ΣΧΟΛΕΙΑ</a:t>
              </a:r>
              <a:endParaRPr b="0" lang="en-US" sz="2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58" name="Rectangle 14"/>
          <p:cNvSpPr/>
          <p:nvPr/>
        </p:nvSpPr>
        <p:spPr>
          <a:xfrm>
            <a:off x="1258920" y="3645000"/>
            <a:ext cx="16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nstantia"/>
              </a:rPr>
              <a:t>Προωθητές σύμβουλοι των σχολείω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nstantia"/>
              </a:rPr>
              <a:t>(150 συνολικά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el-GR" sz="3200" spc="-1" strike="noStrike">
                <a:solidFill>
                  <a:srgbClr val="04617b"/>
                </a:solidFill>
                <a:latin typeface="Calibri"/>
              </a:rPr>
              <a:t>ΔΙΕΡΕΥΝΗΣΗ-ΑΝΑΤΡΟΦΟΔΟΤΗΣΗ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460" name="Diagram 2"/>
          <p:cNvGrpSpPr/>
          <p:nvPr/>
        </p:nvGrpSpPr>
        <p:grpSpPr>
          <a:xfrm>
            <a:off x="3201120" y="549360"/>
            <a:ext cx="2662920" cy="6307560"/>
            <a:chOff x="3201120" y="549360"/>
            <a:chExt cx="2662920" cy="6307560"/>
          </a:xfrm>
        </p:grpSpPr>
        <p:sp>
          <p:nvSpPr>
            <p:cNvPr id="461" name="_s5124"/>
            <p:cNvSpPr/>
            <p:nvPr/>
          </p:nvSpPr>
          <p:spPr>
            <a:xfrm>
              <a:off x="4564800" y="4482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2" name="_s5125"/>
            <p:cNvSpPr/>
            <p:nvPr/>
          </p:nvSpPr>
          <p:spPr>
            <a:xfrm>
              <a:off x="3201120" y="5011560"/>
              <a:ext cx="2662920" cy="18453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ΑΝΑΤΡΟΦΟΔΟΤΗΣΗ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ΜΕΣΩ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ΕΠΙΤΕΥΓΜΑΤΩΝ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ΜΑΘΗΣΗ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3" name="_s5126"/>
            <p:cNvSpPr/>
            <p:nvPr/>
          </p:nvSpPr>
          <p:spPr>
            <a:xfrm flipV="1">
              <a:off x="4571280" y="2126880"/>
              <a:ext cx="0" cy="79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4" name="_s5127"/>
            <p:cNvSpPr/>
            <p:nvPr/>
          </p:nvSpPr>
          <p:spPr>
            <a:xfrm>
              <a:off x="3348720" y="549360"/>
              <a:ext cx="2374560" cy="18687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ΔΙΑΜΟΡΦΩΤΙΚΗ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ΑΝΑΤΡΟΦΟΔΟΤΗΣΗ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(απο την Επιστημονική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ομάδα των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Πιλοτικών-ΠΣ)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65" name="_s5128"/>
            <p:cNvSpPr/>
            <p:nvPr/>
          </p:nvSpPr>
          <p:spPr>
            <a:xfrm>
              <a:off x="3433680" y="2918880"/>
              <a:ext cx="2283120" cy="15681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200" spc="-1" strike="noStrike">
                  <a:solidFill>
                    <a:srgbClr val="ffffff"/>
                  </a:solidFill>
                  <a:latin typeface="Constantia"/>
                </a:rPr>
                <a:t>ΠΙΛΟΤΙΚΑ</a:t>
              </a:r>
              <a:endParaRPr b="0" lang="en-US" sz="2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200" spc="-1" strike="noStrike">
                  <a:solidFill>
                    <a:srgbClr val="ffffff"/>
                  </a:solidFill>
                  <a:latin typeface="Constantia"/>
                </a:rPr>
                <a:t>ΣΧΟΛΕΙΑ</a:t>
              </a:r>
              <a:endParaRPr b="0" lang="en-US" sz="2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66" name="Picture 1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331720" cy="1349280"/>
          </a:xfrm>
          <a:prstGeom prst="rect">
            <a:avLst/>
          </a:prstGeom>
          <a:ln w="0">
            <a:noFill/>
          </a:ln>
        </p:spPr>
      </p:pic>
      <p:sp>
        <p:nvSpPr>
          <p:cNvPr id="467" name="Oval 19"/>
          <p:cNvSpPr/>
          <p:nvPr/>
        </p:nvSpPr>
        <p:spPr>
          <a:xfrm>
            <a:off x="6372360" y="1052640"/>
            <a:ext cx="2160360" cy="2160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ΑΝΕΞΑΡΤΗΤ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ΑΞΙΟΛΟΓΗΣΗ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ΤΩΝ Π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(εκτός των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ομάδων των ΠΣ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5580000" y="1989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el-GR" sz="3600" spc="-1" strike="noStrike">
                <a:solidFill>
                  <a:srgbClr val="04617b"/>
                </a:solidFill>
                <a:latin typeface="Calibri"/>
              </a:rPr>
              <a:t>ΔΙΕΡΕΥΝΗΣΗ-ΑΝΑΤΡΟΦΟΔΟΤΗΣ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470" name="Organization Chart 2"/>
          <p:cNvGrpSpPr/>
          <p:nvPr/>
        </p:nvGrpSpPr>
        <p:grpSpPr>
          <a:xfrm>
            <a:off x="468360" y="1052640"/>
            <a:ext cx="8424720" cy="5544720"/>
            <a:chOff x="468360" y="1052640"/>
            <a:chExt cx="8424720" cy="5544720"/>
          </a:xfrm>
        </p:grpSpPr>
        <p:cxnSp>
          <p:nvCxnSpPr>
            <p:cNvPr id="471" name="_s6148"/>
            <p:cNvCxnSpPr/>
            <p:nvPr/>
          </p:nvCxnSpPr>
          <p:spPr>
            <a:xfrm flipV="1" rot="16200000">
              <a:off x="3748680" y="3745800"/>
              <a:ext cx="587880" cy="2543040"/>
            </a:xfrm>
            <a:prstGeom prst="bentConnector3">
              <a:avLst>
                <a:gd name="adj1" fmla="val 194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2" name="_s6149"/>
            <p:cNvCxnSpPr>
              <a:stCxn id="473" idx="0"/>
              <a:endCxn id="474" idx="2"/>
            </p:cNvCxnSpPr>
            <p:nvPr/>
          </p:nvCxnSpPr>
          <p:spPr>
            <a:xfrm flipV="1" rot="16200000">
              <a:off x="3062520" y="4402800"/>
              <a:ext cx="572400" cy="122400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5" name="_s6150"/>
            <p:cNvCxnSpPr>
              <a:stCxn id="476" idx="0"/>
              <a:endCxn id="474" idx="2"/>
            </p:cNvCxnSpPr>
            <p:nvPr/>
          </p:nvCxnSpPr>
          <p:spPr>
            <a:xfrm flipH="1" flipV="1" rot="5400000">
              <a:off x="2301840" y="4866120"/>
              <a:ext cx="572400" cy="29772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7" name="_s6151"/>
            <p:cNvCxnSpPr/>
            <p:nvPr/>
          </p:nvCxnSpPr>
          <p:spPr>
            <a:xfrm flipH="1" flipV="1" rot="5400000">
              <a:off x="1587600" y="4178880"/>
              <a:ext cx="572400" cy="166248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8" name="_s6152"/>
            <p:cNvCxnSpPr/>
            <p:nvPr/>
          </p:nvCxnSpPr>
          <p:spPr>
            <a:xfrm flipV="1" rot="16200000">
              <a:off x="7538040" y="4637880"/>
              <a:ext cx="688680" cy="716040"/>
            </a:xfrm>
            <a:prstGeom prst="bentConnector3">
              <a:avLst>
                <a:gd name="adj1" fmla="val 165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9" name="_s6153"/>
            <p:cNvCxnSpPr/>
            <p:nvPr/>
          </p:nvCxnSpPr>
          <p:spPr>
            <a:xfrm flipH="1" flipV="1" rot="5400000">
              <a:off x="6836040" y="4619520"/>
              <a:ext cx="688680" cy="753120"/>
            </a:xfrm>
            <a:prstGeom prst="bentConnector3">
              <a:avLst>
                <a:gd name="adj1" fmla="val 165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0" name="_s6154"/>
            <p:cNvCxnSpPr/>
            <p:nvPr/>
          </p:nvCxnSpPr>
          <p:spPr>
            <a:xfrm rot="10800000">
              <a:off x="5292000" y="2275920"/>
              <a:ext cx="1404000" cy="14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1" name="_s6155"/>
            <p:cNvCxnSpPr/>
            <p:nvPr/>
          </p:nvCxnSpPr>
          <p:spPr>
            <a:xfrm flipV="1">
              <a:off x="3419280" y="3789000"/>
              <a:ext cx="1726560" cy="1522440"/>
            </a:xfrm>
            <a:prstGeom prst="bentConnector3">
              <a:avLst>
                <a:gd name="adj1" fmla="val 6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2" name="_s6156"/>
            <p:cNvSpPr/>
            <p:nvPr/>
          </p:nvSpPr>
          <p:spPr>
            <a:xfrm>
              <a:off x="3995640" y="1052640"/>
              <a:ext cx="2636280" cy="1229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l-GR" sz="14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ΕΡΩΤΗΜΑΤΑ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l-GR" sz="14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ΠΙΛΟΤΙΚΗΣ 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l-GR" sz="14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(Ενδεικτικά)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4" name="_s6157"/>
            <p:cNvSpPr/>
            <p:nvPr/>
          </p:nvSpPr>
          <p:spPr>
            <a:xfrm>
              <a:off x="1692360" y="2924280"/>
              <a:ext cx="2087280" cy="180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Μπορούν τα ΠΣ να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    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οδηγήσουν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στα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 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προσδοκώμενα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Αποτελέσματ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α;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Ποιές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βελτιώσεις</a:t>
              </a:r>
              <a:r>
                <a:rPr b="1" lang="el-GR" sz="14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3" name="_s6158"/>
            <p:cNvSpPr/>
            <p:nvPr/>
          </p:nvSpPr>
          <p:spPr>
            <a:xfrm>
              <a:off x="6730200" y="2896560"/>
              <a:ext cx="1591200" cy="1731600"/>
            </a:xfrm>
            <a:custGeom>
              <a:avLst/>
              <a:gdLst>
                <a:gd name="textAreaLeft" fmla="*/ 77400 w 1591200"/>
                <a:gd name="textAreaRight" fmla="*/ 1513800 w 1591200"/>
                <a:gd name="textAreaTop" fmla="*/ 77400 h 1731600"/>
                <a:gd name="textAreaBottom" fmla="*/ 1654200 h 1731600"/>
              </a:gdLst>
              <a:ahLst/>
              <a:rect l="textAreaLeft" t="textAreaTop" r="textAreaRight" b="textAreaBottom"/>
              <a:pathLst>
                <a:path w="21600" h="23505">
                  <a:moveTo>
                    <a:pt x="3600" y="0"/>
                  </a:moveTo>
                  <a:arcTo wR="3600" hR="3600" stAng="16200000" swAng="-5400000"/>
                  <a:lnTo>
                    <a:pt x="0" y="19905"/>
                  </a:lnTo>
                  <a:arcTo wR="3600" hR="3600" stAng="10800000" swAng="-5400000"/>
                  <a:lnTo>
                    <a:pt x="18000" y="235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Μπορούν να γίνουν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αποδεκτά;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Ποιές βελτιώσεις;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4" name="_s6159"/>
            <p:cNvSpPr/>
            <p:nvPr/>
          </p:nvSpPr>
          <p:spPr>
            <a:xfrm>
              <a:off x="468360" y="5301360"/>
              <a:ext cx="1211040" cy="1227960"/>
            </a:xfrm>
            <a:custGeom>
              <a:avLst/>
              <a:gdLst>
                <a:gd name="textAreaLeft" fmla="*/ 59040 w 1211040"/>
                <a:gd name="textAreaRight" fmla="*/ 1152000 w 1211040"/>
                <a:gd name="textAreaTop" fmla="*/ 59040 h 1227960"/>
                <a:gd name="textAreaBottom" fmla="*/ 1168920 h 1227960"/>
              </a:gdLst>
              <a:ahLst/>
              <a:rect l="textAreaLeft" t="textAreaTop" r="textAreaRight" b="textAreaBottom"/>
              <a:pathLst>
                <a:path w="21600" h="21902">
                  <a:moveTo>
                    <a:pt x="3600" y="0"/>
                  </a:moveTo>
                  <a:arcTo wR="3600" hR="3600" stAng="16200000" swAng="-5400000"/>
                  <a:lnTo>
                    <a:pt x="0" y="18302"/>
                  </a:lnTo>
                  <a:arcTo wR="3600" hR="3600" stAng="10800000" swAng="-5400000"/>
                  <a:lnTo>
                    <a:pt x="18000" y="21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5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</a:t>
              </a: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1. 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Ενδείξεις από εργασίες μαθητών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5" name="_s6160"/>
            <p:cNvSpPr/>
            <p:nvPr/>
          </p:nvSpPr>
          <p:spPr>
            <a:xfrm>
              <a:off x="6159600" y="5316840"/>
              <a:ext cx="1229040" cy="1280520"/>
            </a:xfrm>
            <a:custGeom>
              <a:avLst/>
              <a:gdLst>
                <a:gd name="textAreaLeft" fmla="*/ 59760 w 1229040"/>
                <a:gd name="textAreaRight" fmla="*/ 1169280 w 1229040"/>
                <a:gd name="textAreaTop" fmla="*/ 59760 h 1280520"/>
                <a:gd name="textAreaBottom" fmla="*/ 1220760 h 1280520"/>
              </a:gdLst>
              <a:ahLst/>
              <a:rect l="textAreaLeft" t="textAreaTop" r="textAreaRight" b="textAreaBottom"/>
              <a:pathLst>
                <a:path w="21600" h="22504">
                  <a:moveTo>
                    <a:pt x="3600" y="0"/>
                  </a:moveTo>
                  <a:arcTo wR="3600" hR="3600" stAng="16200000" swAng="-5400000"/>
                  <a:lnTo>
                    <a:pt x="0" y="18904"/>
                  </a:lnTo>
                  <a:arcTo wR="3600" hR="3600" stAng="10800000" swAng="-5400000"/>
                  <a:lnTo>
                    <a:pt x="18000" y="22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5.</a:t>
              </a:r>
              <a:r>
                <a:rPr b="0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 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Ανάλυση ηλεκτρονικού καταλόγου απόψεων (επικοινωνία με </a:t>
              </a:r>
              <a:r>
                <a:rPr b="0" lang="en-US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e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mail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6" name="_s6161"/>
            <p:cNvSpPr/>
            <p:nvPr/>
          </p:nvSpPr>
          <p:spPr>
            <a:xfrm>
              <a:off x="1834920" y="5301360"/>
              <a:ext cx="1209960" cy="122940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229400"/>
                <a:gd name="textAreaBottom" fmla="*/ 1170360 h 1229400"/>
              </a:gdLst>
              <a:ahLst/>
              <a:rect l="textAreaLeft" t="textAreaTop" r="textAreaRight" b="textAreaBottom"/>
              <a:pathLst>
                <a:path w="21600" h="21947">
                  <a:moveTo>
                    <a:pt x="3600" y="0"/>
                  </a:moveTo>
                  <a:arcTo wR="3600" hR="3600" stAng="16200000" swAng="-5400000"/>
                  <a:lnTo>
                    <a:pt x="0" y="18347"/>
                  </a:lnTo>
                  <a:arcTo wR="3600" hR="3600" stAng="10800000" swAng="-5400000"/>
                  <a:lnTo>
                    <a:pt x="18000" y="219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2</a:t>
              </a:r>
              <a:r>
                <a:rPr b="0" lang="el-GR" sz="12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. </a:t>
              </a:r>
              <a:r>
                <a:rPr b="0" lang="el-GR" sz="1000" spc="-1" strike="noStrike">
                  <a:solidFill>
                    <a:srgbClr val="000000"/>
                  </a:solidFill>
                  <a:latin typeface="Arial Narrow"/>
                  <a:ea typeface="MS Mincho"/>
                </a:rPr>
                <a:t>Ενδείξεις από διδακτικές πρακτικές</a:t>
              </a:r>
              <a:r>
                <a:rPr b="0" lang="el-GR" sz="1200" spc="-1" strike="noStrike">
                  <a:solidFill>
                    <a:srgbClr val="000000"/>
                  </a:solidFill>
                  <a:latin typeface="Arial Narrow"/>
                  <a:ea typeface="MS Mincho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6" name="_s6162"/>
            <p:cNvSpPr/>
            <p:nvPr/>
          </p:nvSpPr>
          <p:spPr>
            <a:xfrm>
              <a:off x="7590600" y="5316840"/>
              <a:ext cx="1302480" cy="1229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6. </a:t>
              </a:r>
              <a:r>
                <a:rPr b="0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-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Ερωτημοτολόγιο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Ημιδομημένες συνεντεύξεις κ.α.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73" name="_s6163"/>
            <p:cNvSpPr/>
            <p:nvPr/>
          </p:nvSpPr>
          <p:spPr>
            <a:xfrm>
              <a:off x="3203280" y="5301360"/>
              <a:ext cx="1512720" cy="1280520"/>
            </a:xfrm>
            <a:prstGeom prst="roundRect">
              <a:avLst>
                <a:gd name="adj" fmla="val 1759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3. 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Φύλλα παρατήρησης-ημερολόγιο σημαντικών ενδείξεων- 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87" name="_s6164"/>
            <p:cNvSpPr/>
            <p:nvPr/>
          </p:nvSpPr>
          <p:spPr>
            <a:xfrm>
              <a:off x="4803120" y="5316840"/>
              <a:ext cx="952560" cy="1229400"/>
            </a:xfrm>
            <a:custGeom>
              <a:avLst/>
              <a:gdLst>
                <a:gd name="textAreaLeft" fmla="*/ 46440 w 952560"/>
                <a:gd name="textAreaRight" fmla="*/ 906120 w 952560"/>
                <a:gd name="textAreaTop" fmla="*/ 46440 h 1229400"/>
                <a:gd name="textAreaBottom" fmla="*/ 1182960 h 1229400"/>
              </a:gdLst>
              <a:ahLst/>
              <a:rect l="textAreaLeft" t="textAreaTop" r="textAreaRight" b="textAreaBottom"/>
              <a:pathLst>
                <a:path w="21600" h="27875">
                  <a:moveTo>
                    <a:pt x="3600" y="0"/>
                  </a:moveTo>
                  <a:arcTo wR="3600" hR="3600" stAng="16200000" swAng="-5400000"/>
                  <a:lnTo>
                    <a:pt x="0" y="24275"/>
                  </a:lnTo>
                  <a:arcTo wR="3600" hR="3600" stAng="10800000" swAng="-5400000"/>
                  <a:lnTo>
                    <a:pt x="18000" y="278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4</a:t>
              </a:r>
              <a:r>
                <a:rPr b="0" lang="el-GR" sz="12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. </a:t>
              </a:r>
              <a:r>
                <a:rPr b="0" lang="el-GR" sz="1000" spc="-1" strike="noStrike">
                  <a:solidFill>
                    <a:srgbClr val="000000"/>
                  </a:solidFill>
                  <a:latin typeface="Constantia"/>
                  <a:ea typeface="MS Mincho"/>
                </a:rPr>
                <a:t>Συγκριτική ανάλυση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88" name="Rectangle 25"/>
          <p:cNvSpPr/>
          <p:nvPr/>
        </p:nvSpPr>
        <p:spPr>
          <a:xfrm>
            <a:off x="4140360" y="2997360"/>
            <a:ext cx="230328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Π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(προσδοκώμενα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αποτελέσματα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Βασικά  Θέματα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δραστηριότητε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onstantia"/>
              </a:rPr>
              <a:t>υλικά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onstantia"/>
              </a:rPr>
              <a:t>ΟΔΗΓΟ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4617b"/>
                </a:solidFill>
                <a:latin typeface="Arial"/>
              </a:rPr>
              <a:t>               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ΠΙΛΟΤΙΚΑ ΣΧΟΛΕΙΑ:</a:t>
            </a:r>
            <a:br>
              <a:rPr sz="3600"/>
            </a:br>
            <a:r>
              <a:rPr b="0" lang="el-GR" sz="3600" spc="-1" strike="noStrike">
                <a:solidFill>
                  <a:srgbClr val="04617b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ΣΥΝΔΕΣΕΙΣ, ΣΥΝΟΧΗ, ΕΠΕΚΤΑΣ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1" name="87 - Ομάδα"/>
          <p:cNvGrpSpPr/>
          <p:nvPr/>
        </p:nvGrpSpPr>
        <p:grpSpPr>
          <a:xfrm>
            <a:off x="0" y="1484280"/>
            <a:ext cx="9144000" cy="4942080"/>
            <a:chOff x="0" y="1484280"/>
            <a:chExt cx="9144000" cy="4942080"/>
          </a:xfrm>
        </p:grpSpPr>
        <p:sp>
          <p:nvSpPr>
            <p:cNvPr id="492" name="90 - Στρογγυλεμένο ορθογώνιο"/>
            <p:cNvSpPr/>
            <p:nvPr/>
          </p:nvSpPr>
          <p:spPr>
            <a:xfrm>
              <a:off x="430200" y="1484280"/>
              <a:ext cx="8277480" cy="44946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493" name="25 - Ομάδα"/>
            <p:cNvGrpSpPr/>
            <p:nvPr/>
          </p:nvGrpSpPr>
          <p:grpSpPr>
            <a:xfrm>
              <a:off x="5925960" y="3281760"/>
              <a:ext cx="999000" cy="898560"/>
              <a:chOff x="5925960" y="3281760"/>
              <a:chExt cx="999000" cy="898560"/>
            </a:xfrm>
          </p:grpSpPr>
          <p:pic>
            <p:nvPicPr>
              <p:cNvPr id="494" name="7 - Εικόνα" descr="sc2_2.gif"/>
              <p:cNvPicPr/>
              <p:nvPr/>
            </p:nvPicPr>
            <p:blipFill>
              <a:blip r:embed="rId2"/>
              <a:stretch/>
            </p:blipFill>
            <p:spPr>
              <a:xfrm>
                <a:off x="6343560" y="3281760"/>
                <a:ext cx="540720" cy="36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9 - Εικόνα" descr="sc2_2.gif"/>
              <p:cNvPicPr/>
              <p:nvPr/>
            </p:nvPicPr>
            <p:blipFill>
              <a:blip r:embed="rId3"/>
              <a:stretch/>
            </p:blipFill>
            <p:spPr>
              <a:xfrm>
                <a:off x="5925960" y="3382920"/>
                <a:ext cx="727560" cy="49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8 - Εικόνα" descr="sc2_2.gif"/>
              <p:cNvPicPr/>
              <p:nvPr/>
            </p:nvPicPr>
            <p:blipFill>
              <a:blip r:embed="rId4"/>
              <a:stretch/>
            </p:blipFill>
            <p:spPr>
              <a:xfrm>
                <a:off x="6110640" y="3628440"/>
                <a:ext cx="814320" cy="551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7" name="14 - Εικόνα" descr="sc2_2.gif"/>
            <p:cNvPicPr/>
            <p:nvPr/>
          </p:nvPicPr>
          <p:blipFill>
            <a:blip r:embed="rId5"/>
            <a:stretch/>
          </p:blipFill>
          <p:spPr>
            <a:xfrm>
              <a:off x="4712760" y="3075120"/>
              <a:ext cx="929520" cy="51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24 - Ομάδα"/>
            <p:cNvGrpSpPr/>
            <p:nvPr/>
          </p:nvGrpSpPr>
          <p:grpSpPr>
            <a:xfrm>
              <a:off x="7423920" y="3488760"/>
              <a:ext cx="1141560" cy="928800"/>
              <a:chOff x="7423920" y="3488760"/>
              <a:chExt cx="1141560" cy="928800"/>
            </a:xfrm>
          </p:grpSpPr>
          <p:pic>
            <p:nvPicPr>
              <p:cNvPr id="499" name="23 - Εικόνα" descr="sc2_2.gif"/>
              <p:cNvPicPr/>
              <p:nvPr/>
            </p:nvPicPr>
            <p:blipFill>
              <a:blip r:embed="rId6"/>
              <a:stretch/>
            </p:blipFill>
            <p:spPr>
              <a:xfrm>
                <a:off x="7423920" y="3488760"/>
                <a:ext cx="59580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15 - Εικόνα" descr="sc2_2.gif"/>
              <p:cNvPicPr/>
              <p:nvPr/>
            </p:nvPicPr>
            <p:blipFill>
              <a:blip r:embed="rId7"/>
              <a:stretch/>
            </p:blipFill>
            <p:spPr>
              <a:xfrm>
                <a:off x="7700040" y="3598920"/>
                <a:ext cx="63720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16 - Εικόνα" descr="sc2_2.gif"/>
              <p:cNvPicPr/>
              <p:nvPr/>
            </p:nvPicPr>
            <p:blipFill>
              <a:blip r:embed="rId8"/>
              <a:stretch/>
            </p:blipFill>
            <p:spPr>
              <a:xfrm>
                <a:off x="7423920" y="3828240"/>
                <a:ext cx="68508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17 - Εικόνα" descr="sc2_2.gif"/>
              <p:cNvPicPr/>
              <p:nvPr/>
            </p:nvPicPr>
            <p:blipFill>
              <a:blip r:embed="rId9"/>
              <a:stretch/>
            </p:blipFill>
            <p:spPr>
              <a:xfrm>
                <a:off x="7926120" y="3780720"/>
                <a:ext cx="639360" cy="3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18 - Εικόνα" descr="sc2_2.gif"/>
              <p:cNvPicPr/>
              <p:nvPr/>
            </p:nvPicPr>
            <p:blipFill>
              <a:blip r:embed="rId10"/>
              <a:stretch/>
            </p:blipFill>
            <p:spPr>
              <a:xfrm>
                <a:off x="7606440" y="3962880"/>
                <a:ext cx="861120" cy="45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4" name="41 - Ομάδα"/>
            <p:cNvGrpSpPr/>
            <p:nvPr/>
          </p:nvGrpSpPr>
          <p:grpSpPr>
            <a:xfrm>
              <a:off x="644400" y="2401560"/>
              <a:ext cx="2926440" cy="1729080"/>
              <a:chOff x="644400" y="2401560"/>
              <a:chExt cx="2926440" cy="1729080"/>
            </a:xfrm>
          </p:grpSpPr>
          <p:sp>
            <p:nvSpPr>
              <p:cNvPr id="505" name="164 - Έλλειψη"/>
              <p:cNvSpPr/>
              <p:nvPr/>
            </p:nvSpPr>
            <p:spPr>
              <a:xfrm>
                <a:off x="644400" y="2401560"/>
                <a:ext cx="2926440" cy="1729080"/>
              </a:xfrm>
              <a:prstGeom prst="ellipse">
                <a:avLst/>
              </a:prstGeom>
              <a:solidFill>
                <a:srgbClr val="007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506" name="26 - Ομάδα"/>
              <p:cNvGrpSpPr/>
              <p:nvPr/>
            </p:nvGrpSpPr>
            <p:grpSpPr>
              <a:xfrm>
                <a:off x="955440" y="2747160"/>
                <a:ext cx="1430280" cy="894600"/>
                <a:chOff x="955440" y="2747160"/>
                <a:chExt cx="1430280" cy="894600"/>
              </a:xfrm>
            </p:grpSpPr>
            <p:pic>
              <p:nvPicPr>
                <p:cNvPr id="507" name="11 - Εικόνα" descr="sc2_2.gif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41920" y="2747160"/>
                  <a:ext cx="809280" cy="44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12 - Εικόνα" descr="sc2_2.gif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515600" y="2926080"/>
                  <a:ext cx="870120" cy="47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13 - Εικόνα" descr="sc2_2.gif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55440" y="3105000"/>
                  <a:ext cx="984240" cy="53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0" name="27 - Ομάδα"/>
              <p:cNvGrpSpPr/>
              <p:nvPr/>
            </p:nvGrpSpPr>
            <p:grpSpPr>
              <a:xfrm>
                <a:off x="2013840" y="2568240"/>
                <a:ext cx="1120320" cy="417240"/>
                <a:chOff x="2013840" y="2568240"/>
                <a:chExt cx="1120320" cy="417240"/>
              </a:xfrm>
            </p:grpSpPr>
            <p:pic>
              <p:nvPicPr>
                <p:cNvPr id="511" name="19 - Εικόνα" descr="sc2_2.gif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13840" y="2568240"/>
                  <a:ext cx="61812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20 - Εικόνα" descr="sc2_2.gif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98960" y="2606040"/>
                  <a:ext cx="835200" cy="3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3" name="21 - Εικόνα" descr="sc2_2.gif"/>
              <p:cNvPicPr/>
              <p:nvPr/>
            </p:nvPicPr>
            <p:blipFill>
              <a:blip r:embed="rId16"/>
              <a:stretch/>
            </p:blipFill>
            <p:spPr>
              <a:xfrm>
                <a:off x="2512080" y="3105000"/>
                <a:ext cx="81180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22 - Εικόνα" descr="sc2_2.gif"/>
              <p:cNvPicPr/>
              <p:nvPr/>
            </p:nvPicPr>
            <p:blipFill>
              <a:blip r:embed="rId17"/>
              <a:stretch/>
            </p:blipFill>
            <p:spPr>
              <a:xfrm>
                <a:off x="1578240" y="3510360"/>
                <a:ext cx="747000" cy="40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5" name="36 - Ομάδα"/>
            <p:cNvGrpSpPr/>
            <p:nvPr/>
          </p:nvGrpSpPr>
          <p:grpSpPr>
            <a:xfrm>
              <a:off x="3070440" y="1690920"/>
              <a:ext cx="999000" cy="701640"/>
              <a:chOff x="3070440" y="1690920"/>
              <a:chExt cx="999000" cy="701640"/>
            </a:xfrm>
          </p:grpSpPr>
          <p:pic>
            <p:nvPicPr>
              <p:cNvPr id="516" name="37 - Εικόνα" descr="sc2_2.gif"/>
              <p:cNvPicPr/>
              <p:nvPr/>
            </p:nvPicPr>
            <p:blipFill>
              <a:blip r:embed="rId18"/>
              <a:stretch/>
            </p:blipFill>
            <p:spPr>
              <a:xfrm>
                <a:off x="3488040" y="1690920"/>
                <a:ext cx="54072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38 - Εικόνα" descr="sc2_2.gif"/>
              <p:cNvPicPr/>
              <p:nvPr/>
            </p:nvPicPr>
            <p:blipFill>
              <a:blip r:embed="rId19"/>
              <a:stretch/>
            </p:blipFill>
            <p:spPr>
              <a:xfrm>
                <a:off x="3070440" y="1769760"/>
                <a:ext cx="727560" cy="38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39 - Εικόνα" descr="sc2_2.gif"/>
              <p:cNvPicPr/>
              <p:nvPr/>
            </p:nvPicPr>
            <p:blipFill>
              <a:blip r:embed="rId20"/>
              <a:stretch/>
            </p:blipFill>
            <p:spPr>
              <a:xfrm>
                <a:off x="3255120" y="1961640"/>
                <a:ext cx="814320" cy="43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9" name="40 - Εικόνα" descr="sc2_2.gif"/>
            <p:cNvPicPr/>
            <p:nvPr/>
          </p:nvPicPr>
          <p:blipFill>
            <a:blip r:embed="rId21"/>
            <a:stretch/>
          </p:blipFill>
          <p:spPr>
            <a:xfrm>
              <a:off x="4497480" y="2037600"/>
              <a:ext cx="500400" cy="34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44 - Ομάδα"/>
            <p:cNvGrpSpPr/>
            <p:nvPr/>
          </p:nvGrpSpPr>
          <p:grpSpPr>
            <a:xfrm>
              <a:off x="5568120" y="4319280"/>
              <a:ext cx="2354760" cy="1314000"/>
              <a:chOff x="5568120" y="4319280"/>
              <a:chExt cx="2354760" cy="1314000"/>
            </a:xfrm>
          </p:grpSpPr>
          <p:sp>
            <p:nvSpPr>
              <p:cNvPr id="521" name="154 - Έλλειψη"/>
              <p:cNvSpPr/>
              <p:nvPr/>
            </p:nvSpPr>
            <p:spPr>
              <a:xfrm>
                <a:off x="5568120" y="4319280"/>
                <a:ext cx="2354760" cy="1314000"/>
              </a:xfrm>
              <a:prstGeom prst="ellipse">
                <a:avLst/>
              </a:prstGeom>
              <a:solidFill>
                <a:srgbClr val="b1bd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pic>
            <p:nvPicPr>
              <p:cNvPr id="522" name="10 - Εικόνα" descr="sc2_2.gif"/>
              <p:cNvPicPr/>
              <p:nvPr/>
            </p:nvPicPr>
            <p:blipFill>
              <a:blip r:embed="rId22"/>
              <a:stretch/>
            </p:blipFill>
            <p:spPr>
              <a:xfrm>
                <a:off x="6712920" y="4856760"/>
                <a:ext cx="891000" cy="44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3" name="31 - Ομάδα"/>
              <p:cNvGrpSpPr/>
              <p:nvPr/>
            </p:nvGrpSpPr>
            <p:grpSpPr>
              <a:xfrm>
                <a:off x="6712920" y="4677480"/>
                <a:ext cx="999360" cy="360720"/>
                <a:chOff x="6712920" y="4677480"/>
                <a:chExt cx="999360" cy="360720"/>
              </a:xfrm>
            </p:grpSpPr>
            <p:pic>
              <p:nvPicPr>
                <p:cNvPr id="524" name="32 - Εικόνα" descr="sc2_2.gif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712920" y="4677480"/>
                  <a:ext cx="551160" cy="24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33 - Εικόνα" descr="sc2_2.gif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967080" y="4710240"/>
                  <a:ext cx="745200" cy="32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6" name="34 - Εικόνα" descr="sc2_2.gif"/>
              <p:cNvPicPr/>
              <p:nvPr/>
            </p:nvPicPr>
            <p:blipFill>
              <a:blip r:embed="rId25"/>
              <a:stretch/>
            </p:blipFill>
            <p:spPr>
              <a:xfrm>
                <a:off x="5885280" y="4557600"/>
                <a:ext cx="63648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43 - Εικόνα" descr="sc2_2.gif"/>
              <p:cNvPicPr/>
              <p:nvPr/>
            </p:nvPicPr>
            <p:blipFill>
              <a:blip r:embed="rId26"/>
              <a:stretch/>
            </p:blipFill>
            <p:spPr>
              <a:xfrm>
                <a:off x="6012720" y="4976280"/>
                <a:ext cx="445320" cy="298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8" name="45 - Ομάδα"/>
            <p:cNvGrpSpPr/>
            <p:nvPr/>
          </p:nvGrpSpPr>
          <p:grpSpPr>
            <a:xfrm>
              <a:off x="551520" y="4570200"/>
              <a:ext cx="923040" cy="628920"/>
              <a:chOff x="551520" y="4570200"/>
              <a:chExt cx="923040" cy="628920"/>
            </a:xfrm>
          </p:grpSpPr>
          <p:pic>
            <p:nvPicPr>
              <p:cNvPr id="529" name="46 - Εικόνα" descr="sc2_2.gif"/>
              <p:cNvPicPr/>
              <p:nvPr/>
            </p:nvPicPr>
            <p:blipFill>
              <a:blip r:embed="rId27"/>
              <a:stretch/>
            </p:blipFill>
            <p:spPr>
              <a:xfrm>
                <a:off x="937440" y="4570200"/>
                <a:ext cx="499680" cy="25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47 - Εικόνα" descr="sc2_2.gif"/>
              <p:cNvPicPr/>
              <p:nvPr/>
            </p:nvPicPr>
            <p:blipFill>
              <a:blip r:embed="rId28"/>
              <a:stretch/>
            </p:blipFill>
            <p:spPr>
              <a:xfrm>
                <a:off x="551520" y="4641120"/>
                <a:ext cx="672480" cy="34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48 - Εικόνα" descr="sc2_2.gif"/>
              <p:cNvPicPr/>
              <p:nvPr/>
            </p:nvPicPr>
            <p:blipFill>
              <a:blip r:embed="rId29"/>
              <a:stretch/>
            </p:blipFill>
            <p:spPr>
              <a:xfrm>
                <a:off x="722160" y="4812840"/>
                <a:ext cx="752400" cy="386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2" name="49 - Εικόνα" descr="sc2_2.gif"/>
            <p:cNvPicPr/>
            <p:nvPr/>
          </p:nvPicPr>
          <p:blipFill>
            <a:blip r:embed="rId30"/>
            <a:stretch/>
          </p:blipFill>
          <p:spPr>
            <a:xfrm>
              <a:off x="5069160" y="2244600"/>
              <a:ext cx="7142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50 - Εικόνα" descr="sc2_2.gif"/>
            <p:cNvPicPr/>
            <p:nvPr/>
          </p:nvPicPr>
          <p:blipFill>
            <a:blip r:embed="rId31"/>
            <a:stretch/>
          </p:blipFill>
          <p:spPr>
            <a:xfrm>
              <a:off x="3509640" y="4180680"/>
              <a:ext cx="35100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52 - Εικόνα" descr="sc2_2.gif"/>
            <p:cNvPicPr/>
            <p:nvPr/>
          </p:nvPicPr>
          <p:blipFill>
            <a:blip r:embed="rId32"/>
            <a:stretch/>
          </p:blipFill>
          <p:spPr>
            <a:xfrm>
              <a:off x="4244040" y="4788720"/>
              <a:ext cx="498600" cy="3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53 - Εικόνα" descr="sc2_2.gif"/>
            <p:cNvPicPr/>
            <p:nvPr/>
          </p:nvPicPr>
          <p:blipFill>
            <a:blip r:embed="rId33"/>
            <a:stretch/>
          </p:blipFill>
          <p:spPr>
            <a:xfrm>
              <a:off x="1572480" y="1523880"/>
              <a:ext cx="498600" cy="3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54 - Εικόνα" descr="sc2_2.gif"/>
            <p:cNvPicPr/>
            <p:nvPr/>
          </p:nvPicPr>
          <p:blipFill>
            <a:blip r:embed="rId34"/>
            <a:stretch/>
          </p:blipFill>
          <p:spPr>
            <a:xfrm>
              <a:off x="1773000" y="1612440"/>
              <a:ext cx="7142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55 - Εικόνα" descr="sc2_2.gif"/>
            <p:cNvPicPr/>
            <p:nvPr/>
          </p:nvPicPr>
          <p:blipFill>
            <a:blip r:embed="rId35"/>
            <a:stretch/>
          </p:blipFill>
          <p:spPr>
            <a:xfrm>
              <a:off x="4212360" y="3261960"/>
              <a:ext cx="717480" cy="39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8" name="66 - Ομάδα"/>
            <p:cNvGrpSpPr/>
            <p:nvPr/>
          </p:nvGrpSpPr>
          <p:grpSpPr>
            <a:xfrm>
              <a:off x="5925960" y="1829520"/>
              <a:ext cx="2354760" cy="1314000"/>
              <a:chOff x="5925960" y="1829520"/>
              <a:chExt cx="2354760" cy="1314000"/>
            </a:xfrm>
          </p:grpSpPr>
          <p:sp>
            <p:nvSpPr>
              <p:cNvPr id="539" name="142 - Έλλειψη"/>
              <p:cNvSpPr/>
              <p:nvPr/>
            </p:nvSpPr>
            <p:spPr>
              <a:xfrm>
                <a:off x="5925960" y="1829520"/>
                <a:ext cx="2354760" cy="1314000"/>
              </a:xfrm>
              <a:prstGeom prst="ellipse">
                <a:avLst/>
              </a:prstGeom>
              <a:solidFill>
                <a:srgbClr val="ffcc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pic>
            <p:nvPicPr>
              <p:cNvPr id="540" name="58 - Εικόνα" descr="sc2_2.gif"/>
              <p:cNvPicPr/>
              <p:nvPr/>
            </p:nvPicPr>
            <p:blipFill>
              <a:blip r:embed="rId36"/>
              <a:stretch/>
            </p:blipFill>
            <p:spPr>
              <a:xfrm>
                <a:off x="7070760" y="2367720"/>
                <a:ext cx="890640" cy="443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1" name="59 - Ομάδα"/>
              <p:cNvGrpSpPr/>
              <p:nvPr/>
            </p:nvGrpSpPr>
            <p:grpSpPr>
              <a:xfrm>
                <a:off x="7070760" y="2188440"/>
                <a:ext cx="999000" cy="360360"/>
                <a:chOff x="7070760" y="2188440"/>
                <a:chExt cx="999000" cy="360360"/>
              </a:xfrm>
            </p:grpSpPr>
            <p:pic>
              <p:nvPicPr>
                <p:cNvPr id="542" name="62 - Εικόνα" descr="sc2_2.gif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070760" y="2188440"/>
                  <a:ext cx="551160" cy="242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63 - Εικόνα" descr="sc2_2.gif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7324920" y="2221200"/>
                  <a:ext cx="744840" cy="327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4" name="60 - Εικόνα" descr="sc2_2.gif"/>
              <p:cNvPicPr/>
              <p:nvPr/>
            </p:nvPicPr>
            <p:blipFill>
              <a:blip r:embed="rId39"/>
              <a:stretch/>
            </p:blipFill>
            <p:spPr>
              <a:xfrm>
                <a:off x="6243480" y="2068920"/>
                <a:ext cx="63612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61 - Εικόνα" descr="sc2_2.gif"/>
              <p:cNvPicPr/>
              <p:nvPr/>
            </p:nvPicPr>
            <p:blipFill>
              <a:blip r:embed="rId40"/>
              <a:stretch/>
            </p:blipFill>
            <p:spPr>
              <a:xfrm>
                <a:off x="6282360" y="2383200"/>
                <a:ext cx="445320" cy="29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64 - Εικόνα" descr="sc2_2.gif"/>
              <p:cNvPicPr/>
              <p:nvPr/>
            </p:nvPicPr>
            <p:blipFill>
              <a:blip r:embed="rId41"/>
              <a:stretch/>
            </p:blipFill>
            <p:spPr>
              <a:xfrm>
                <a:off x="6852960" y="1928880"/>
                <a:ext cx="3564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65 - Εικόνα" descr="sc2_2.gif"/>
              <p:cNvPicPr/>
              <p:nvPr/>
            </p:nvPicPr>
            <p:blipFill>
              <a:blip r:embed="rId42"/>
              <a:stretch/>
            </p:blipFill>
            <p:spPr>
              <a:xfrm>
                <a:off x="6567480" y="2590920"/>
                <a:ext cx="445320" cy="2984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548" name="113 - Ευθύγραμμο βέλος σύνδεσης"/>
            <p:cNvCxnSpPr/>
            <p:nvPr/>
          </p:nvCxnSpPr>
          <p:spPr>
            <a:xfrm flipV="1">
              <a:off x="3500280" y="2796480"/>
              <a:ext cx="2567520" cy="4165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49" name="115 - Ευθύγραμμο βέλος σύνδεσης"/>
            <p:cNvCxnSpPr/>
            <p:nvPr/>
          </p:nvCxnSpPr>
          <p:spPr>
            <a:xfrm>
              <a:off x="3338640" y="3732120"/>
              <a:ext cx="2302560" cy="11404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550" name="73 - Εικόνα" descr="sc2_2.gif"/>
            <p:cNvPicPr/>
            <p:nvPr/>
          </p:nvPicPr>
          <p:blipFill>
            <a:blip r:embed="rId43"/>
            <a:stretch/>
          </p:blipFill>
          <p:spPr>
            <a:xfrm>
              <a:off x="4855320" y="3835440"/>
              <a:ext cx="783720" cy="542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51" name="117 - Ευθύγραμμο βέλος σύνδεσης"/>
            <p:cNvCxnSpPr/>
            <p:nvPr/>
          </p:nvCxnSpPr>
          <p:spPr>
            <a:xfrm>
              <a:off x="3499920" y="3558960"/>
              <a:ext cx="26103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2" name="118 - Ευθύγραμμο βέλος σύνδεσης"/>
            <p:cNvCxnSpPr/>
            <p:nvPr/>
          </p:nvCxnSpPr>
          <p:spPr>
            <a:xfrm>
              <a:off x="3041640" y="3924000"/>
              <a:ext cx="4831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3" name="119 - Ευθύγραμμο βέλος σύνδεσης"/>
            <p:cNvCxnSpPr/>
            <p:nvPr/>
          </p:nvCxnSpPr>
          <p:spPr>
            <a:xfrm flipH="1">
              <a:off x="1101240" y="4052880"/>
              <a:ext cx="52272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554" name="120 - Τόξο" descr=""/>
            <p:cNvPicPr/>
            <p:nvPr/>
          </p:nvPicPr>
          <p:blipFill>
            <a:blip r:embed="rId44"/>
            <a:stretch/>
          </p:blipFill>
          <p:spPr>
            <a:xfrm>
              <a:off x="5876640" y="1663920"/>
              <a:ext cx="243828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121 - Τόξο" descr=""/>
            <p:cNvPicPr/>
            <p:nvPr/>
          </p:nvPicPr>
          <p:blipFill>
            <a:blip r:embed="rId45"/>
            <a:stretch/>
          </p:blipFill>
          <p:spPr>
            <a:xfrm>
              <a:off x="566640" y="2218680"/>
              <a:ext cx="3078360" cy="18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122 - Τόξο" descr=""/>
            <p:cNvPicPr/>
            <p:nvPr/>
          </p:nvPicPr>
          <p:blipFill>
            <a:blip r:embed="rId46"/>
            <a:stretch/>
          </p:blipFill>
          <p:spPr>
            <a:xfrm>
              <a:off x="5535360" y="4517280"/>
              <a:ext cx="24382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123 - Επεξήγηση με επάνω βέλος"/>
            <p:cNvSpPr/>
            <p:nvPr/>
          </p:nvSpPr>
          <p:spPr>
            <a:xfrm>
              <a:off x="3003480" y="5848560"/>
              <a:ext cx="3133800" cy="577800"/>
            </a:xfrm>
            <a:prstGeom prst="upArrowCallout">
              <a:avLst>
                <a:gd name="adj1" fmla="val 39627"/>
                <a:gd name="adj2" fmla="val 39598"/>
                <a:gd name="adj3" fmla="val 25000"/>
                <a:gd name="adj4" fmla="val 94286"/>
              </a:avLst>
            </a:prstGeom>
            <a:solidFill>
              <a:srgbClr val="dbf5f9"/>
            </a:solidFill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617b"/>
                  </a:solidFill>
                  <a:latin typeface="Calibri"/>
                </a:rPr>
                <a:t>Μείζων Επιμόρφω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8" name="124 - Επεξήγηση με επάνω βέλος"/>
            <p:cNvSpPr/>
            <p:nvPr/>
          </p:nvSpPr>
          <p:spPr>
            <a:xfrm rot="5400000">
              <a:off x="-1080360" y="3463200"/>
              <a:ext cx="2695680" cy="534960"/>
            </a:xfrm>
            <a:prstGeom prst="upArrowCallout">
              <a:avLst>
                <a:gd name="adj1" fmla="val 29350"/>
                <a:gd name="adj2" fmla="val 29348"/>
                <a:gd name="adj3" fmla="val 25000"/>
                <a:gd name="adj4" fmla="val 76773"/>
              </a:avLst>
            </a:prstGeom>
            <a:solidFill>
              <a:srgbClr val="dbf5f9"/>
            </a:solidFill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617b"/>
                  </a:solidFill>
                  <a:latin typeface="Calibri"/>
                </a:rPr>
                <a:t>Μείζων Επιμόρφω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59" name="125 - Επεξήγηση με επάνω βέλος"/>
            <p:cNvSpPr/>
            <p:nvPr/>
          </p:nvSpPr>
          <p:spPr>
            <a:xfrm rot="16200000">
              <a:off x="7528680" y="3463200"/>
              <a:ext cx="2695680" cy="534960"/>
            </a:xfrm>
            <a:prstGeom prst="upArrowCallout">
              <a:avLst>
                <a:gd name="adj1" fmla="val 29350"/>
                <a:gd name="adj2" fmla="val 29348"/>
                <a:gd name="adj3" fmla="val 25000"/>
                <a:gd name="adj4" fmla="val 76773"/>
              </a:avLst>
            </a:prstGeom>
            <a:solidFill>
              <a:srgbClr val="dbf5f9"/>
            </a:solidFill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4617b"/>
                  </a:solidFill>
                  <a:latin typeface="Calibri"/>
                </a:rPr>
                <a:t>Μείζων Επιμόρφω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560" name="85 - Ομάδα"/>
            <p:cNvGrpSpPr/>
            <p:nvPr/>
          </p:nvGrpSpPr>
          <p:grpSpPr>
            <a:xfrm>
              <a:off x="1673640" y="4467600"/>
              <a:ext cx="2386080" cy="1540800"/>
              <a:chOff x="1673640" y="4467600"/>
              <a:chExt cx="2386080" cy="1540800"/>
            </a:xfrm>
          </p:grpSpPr>
          <p:grpSp>
            <p:nvGrpSpPr>
              <p:cNvPr id="561" name="72 - Ομάδα"/>
              <p:cNvGrpSpPr/>
              <p:nvPr/>
            </p:nvGrpSpPr>
            <p:grpSpPr>
              <a:xfrm>
                <a:off x="1704960" y="4467600"/>
                <a:ext cx="2305800" cy="1319760"/>
                <a:chOff x="1704960" y="4467600"/>
                <a:chExt cx="2305800" cy="1319760"/>
              </a:xfrm>
            </p:grpSpPr>
            <p:sp>
              <p:nvSpPr>
                <p:cNvPr id="562" name="135 - Έλλειψη"/>
                <p:cNvSpPr/>
                <p:nvPr/>
              </p:nvSpPr>
              <p:spPr>
                <a:xfrm>
                  <a:off x="1704960" y="4467600"/>
                  <a:ext cx="2305800" cy="1319760"/>
                </a:xfrm>
                <a:prstGeom prst="ellipse">
                  <a:avLst/>
                </a:prstGeom>
                <a:solidFill>
                  <a:srgbClr val="ff5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pic>
              <p:nvPicPr>
                <p:cNvPr id="563" name="75 - Εικόνα" descr="sc2_2.gif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2825280" y="5007240"/>
                  <a:ext cx="874080" cy="444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64" name="31 - Ομάδα"/>
                <p:cNvGrpSpPr/>
                <p:nvPr/>
              </p:nvGrpSpPr>
              <p:grpSpPr>
                <a:xfrm>
                  <a:off x="2825280" y="4827600"/>
                  <a:ext cx="980640" cy="361800"/>
                  <a:chOff x="2825280" y="4827600"/>
                  <a:chExt cx="980640" cy="361800"/>
                </a:xfrm>
              </p:grpSpPr>
              <p:pic>
                <p:nvPicPr>
                  <p:cNvPr id="565" name="82 - Εικόνα" descr="sc2_2.gif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825280" y="4827600"/>
                    <a:ext cx="541080" cy="2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6" name="83 - Εικόνα" descr="sc2_2.gif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074760" y="4860360"/>
                    <a:ext cx="731160" cy="3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567" name="79 - Εικόνα" descr="sc2_2.gif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013480" y="4707360"/>
                  <a:ext cx="624240" cy="34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81 - Εικόνα" descr="sc2_2.gif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2138400" y="5127480"/>
                  <a:ext cx="437040" cy="299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9" name="134 - Τόξο" descr=""/>
              <p:cNvPicPr/>
              <p:nvPr/>
            </p:nvPicPr>
            <p:blipFill>
              <a:blip r:embed="rId52"/>
              <a:stretch/>
            </p:blipFill>
            <p:spPr>
              <a:xfrm>
                <a:off x="1673640" y="4692240"/>
                <a:ext cx="2386080" cy="1316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0" name="86 - Εικόνα" descr="sc2_2.gif"/>
            <p:cNvPicPr/>
            <p:nvPr/>
          </p:nvPicPr>
          <p:blipFill>
            <a:blip r:embed="rId53"/>
            <a:stretch/>
          </p:blipFill>
          <p:spPr>
            <a:xfrm>
              <a:off x="4406400" y="5273640"/>
              <a:ext cx="369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87 - Εικόνα" descr="sc2_2.gif"/>
            <p:cNvPicPr/>
            <p:nvPr/>
          </p:nvPicPr>
          <p:blipFill>
            <a:blip r:embed="rId54"/>
            <a:stretch/>
          </p:blipFill>
          <p:spPr>
            <a:xfrm>
              <a:off x="4532400" y="5292360"/>
              <a:ext cx="528480" cy="365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2" name="129 - Ευθύγραμμο βέλος σύνδεσης"/>
            <p:cNvCxnSpPr/>
            <p:nvPr/>
          </p:nvCxnSpPr>
          <p:spPr>
            <a:xfrm>
              <a:off x="2294280" y="4116240"/>
              <a:ext cx="222840" cy="3862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3" name="130 - Ευθύγραμμο βέλος σύνδεσης"/>
            <p:cNvCxnSpPr/>
            <p:nvPr/>
          </p:nvCxnSpPr>
          <p:spPr>
            <a:xfrm flipV="1">
              <a:off x="3413160" y="2382480"/>
              <a:ext cx="1119600" cy="51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4" name="131 - Ευθύγραμμο βέλος σύνδεσης"/>
            <p:cNvCxnSpPr/>
            <p:nvPr/>
          </p:nvCxnSpPr>
          <p:spPr>
            <a:xfrm flipV="1">
              <a:off x="3860640" y="4106160"/>
              <a:ext cx="993960" cy="66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5" name="132 - Ευθύγραμμο βέλος σύνδεσης"/>
            <p:cNvCxnSpPr/>
            <p:nvPr/>
          </p:nvCxnSpPr>
          <p:spPr>
            <a:xfrm>
              <a:off x="3860640" y="5335560"/>
              <a:ext cx="52272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4358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                 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ΠΙΛΟΤΙΚΗ ΕΦΑΡΜΟΓΗ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ΕΠΑΓΓΕΛΜΑΤΙΚΗ ΑΝΑΠΤΥΞΗ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ΕΚΠΑΙΔΕΥΤΙΚΩΝ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l-GR" sz="3600" spc="-1" strike="noStrike">
                <a:solidFill>
                  <a:srgbClr val="04617b"/>
                </a:solidFill>
                <a:latin typeface="Calibri"/>
              </a:rPr>
              <a:t>(ΕΑΕ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8" name="Picture 18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l-GR" sz="3600" spc="-1" strike="noStrike">
                <a:solidFill>
                  <a:srgbClr val="04617b"/>
                </a:solidFill>
                <a:latin typeface="Calibri"/>
              </a:rPr>
              <a:t>Τέσσερεις Θεμελιώδεις Αρχές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507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ΕΠΑΓΓΕΛΜΑΤΙΚΗ ΑΝΑΠΤΥΞΗ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ΣΤΟ ΕΠΙΚΕΝΤΡΟ Η ΜΑΘΗΣ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4617b"/>
                </a:solidFill>
                <a:latin typeface="Constantia"/>
              </a:rPr>
              <a:t>Ο εκπαιδευτικός-ως-σχεδιαστής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(και συν-δημιουργός)  περιβαλλόντων μάθησης και εκπαιδευτικών υλικώ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4617b"/>
                </a:solidFill>
                <a:latin typeface="Constantia"/>
              </a:rPr>
              <a:t>Η επαγγελματική μάθηση επικεντρώνεται στο χώρο του σχολείου και στηρίζεται στις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</a:t>
            </a:r>
            <a:br>
              <a:rPr sz="1800"/>
            </a:b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el-GR" sz="1800" spc="-1" strike="noStrike">
                <a:solidFill>
                  <a:srgbClr val="04617b"/>
                </a:solidFill>
                <a:latin typeface="Constantia"/>
              </a:rPr>
              <a:t>πρακτικές μάθησης.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   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Η έμφαση δίνεται σε με σταδιακή προσέγγιση  μετασχηματισμού των πρακτικών μάθησης κατά τον οποίο οι εκπαιδευτικοί είναι παράγοντες της αλλαγής αντί για  παθητικούς αποδέκτες  πληροφοριών και ιδεών που μεταβιβάζονται σε αυτού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el-GR" sz="1800" spc="-1" strike="noStrike">
                <a:solidFill>
                  <a:srgbClr val="04617b"/>
                </a:solidFill>
                <a:latin typeface="Constantia"/>
              </a:rPr>
              <a:t>Η έμφαση δίνεται στη βελτίωση των επιδόσεων των μαθητών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el-GR" sz="1800" spc="-1" strike="noStrike">
                <a:solidFill>
                  <a:srgbClr val="04617b"/>
                </a:solidFill>
                <a:latin typeface="Constantia"/>
              </a:rPr>
              <a:t>με  βάση αποτελέσματα/ενδείξεις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– οι εκπαιδευτικοί είναι ερευνητές δράσης, που συλλέγουν πληροφορίες σχετικά με τις επιδόσεις των μαθητών και συνεχώς αναβαθμίζουν και ανασχεδιάζου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Εστίαση στην «παιδαγωγική γνώση περιεχομένου»(</a:t>
            </a:r>
            <a:r>
              <a:rPr b="0" lang="en-US" sz="1800" spc="-1" strike="noStrike">
                <a:solidFill>
                  <a:srgbClr val="04617b"/>
                </a:solidFill>
                <a:latin typeface="Constantia"/>
              </a:rPr>
              <a:t>pedagogical content knowledge)</a:t>
            </a:r>
            <a:r>
              <a:rPr b="0" lang="el-GR" sz="1800" spc="-1" strike="noStrike">
                <a:solidFill>
                  <a:srgbClr val="04617b"/>
                </a:solidFill>
                <a:latin typeface="Constantia"/>
              </a:rPr>
              <a:t> δηλ. στη σύγκλιση του περιεχομένου του μαθήματος (τί και γιατί θα διδαχθεί) με την μέθοδο διδασκαλίας (πώς θα διδαχθεί) και με το τί και πώς μαθαίνουν οι μαθητές (ποιά αποτελέσματα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Diagram 2"/>
          <p:cNvGrpSpPr/>
          <p:nvPr/>
        </p:nvGrpSpPr>
        <p:grpSpPr>
          <a:xfrm>
            <a:off x="459720" y="795240"/>
            <a:ext cx="8009280" cy="5728320"/>
            <a:chOff x="459720" y="795240"/>
            <a:chExt cx="8009280" cy="5728320"/>
          </a:xfrm>
        </p:grpSpPr>
        <p:sp>
          <p:nvSpPr>
            <p:cNvPr id="582" name="_s7172"/>
            <p:cNvSpPr/>
            <p:nvPr/>
          </p:nvSpPr>
          <p:spPr>
            <a:xfrm flipH="1">
              <a:off x="2455560" y="3595320"/>
              <a:ext cx="10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3" name="_s7173"/>
            <p:cNvSpPr/>
            <p:nvPr/>
          </p:nvSpPr>
          <p:spPr>
            <a:xfrm>
              <a:off x="459720" y="2897280"/>
              <a:ext cx="1999800" cy="13989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Ο εκπαιδευτικός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ως-σχεδιαστή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4" name="_s7174"/>
            <p:cNvSpPr/>
            <p:nvPr/>
          </p:nvSpPr>
          <p:spPr>
            <a:xfrm>
              <a:off x="4462560" y="4294080"/>
              <a:ext cx="0" cy="70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5" name="_s7175"/>
            <p:cNvSpPr/>
            <p:nvPr/>
          </p:nvSpPr>
          <p:spPr>
            <a:xfrm>
              <a:off x="3348000" y="4999320"/>
              <a:ext cx="2232000" cy="15242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Επικέντρωση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στο σχολείο</a:t>
              </a: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/</a:t>
              </a: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πρακτικέ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μάθηση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6" name="_s7176"/>
            <p:cNvSpPr/>
            <p:nvPr/>
          </p:nvSpPr>
          <p:spPr>
            <a:xfrm>
              <a:off x="5460480" y="3595320"/>
              <a:ext cx="10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7" name="_s7177"/>
            <p:cNvSpPr/>
            <p:nvPr/>
          </p:nvSpPr>
          <p:spPr>
            <a:xfrm>
              <a:off x="6469200" y="2709360"/>
              <a:ext cx="1999800" cy="17283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Κέντρο βάρου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η μάθηση με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διερεύνηση-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Τεκμηρίωση-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Βελτίω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αποτελεσμάτων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8" name="_s7178"/>
            <p:cNvSpPr/>
            <p:nvPr/>
          </p:nvSpPr>
          <p:spPr>
            <a:xfrm flipV="1">
              <a:off x="4462560" y="2191320"/>
              <a:ext cx="0" cy="70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89" name="_s7179"/>
            <p:cNvSpPr/>
            <p:nvPr/>
          </p:nvSpPr>
          <p:spPr>
            <a:xfrm>
              <a:off x="3464640" y="795240"/>
              <a:ext cx="1999800" cy="13989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700" spc="-1" strike="noStrike">
                  <a:solidFill>
                    <a:srgbClr val="ffffff"/>
                  </a:solidFill>
                  <a:latin typeface="Constantia"/>
                </a:rPr>
                <a:t>Εστίαση στην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700" spc="-1" strike="noStrike">
                  <a:solidFill>
                    <a:srgbClr val="ffffff"/>
                  </a:solidFill>
                  <a:latin typeface="Constantia"/>
                </a:rPr>
                <a:t>«παιδαγωγική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7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el-GR" sz="1700" spc="-1" strike="noStrike">
                  <a:solidFill>
                    <a:srgbClr val="ffffff"/>
                  </a:solidFill>
                  <a:latin typeface="Constantia"/>
                </a:rPr>
                <a:t>γνώση του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700" spc="-1" strike="noStrike">
                  <a:solidFill>
                    <a:srgbClr val="ffffff"/>
                  </a:solidFill>
                  <a:latin typeface="Constantia"/>
                </a:rPr>
                <a:t>περιεχομένου»</a:t>
              </a:r>
              <a:r>
                <a:rPr b="0" lang="el-GR" sz="1500" spc="-1" strike="noStrike">
                  <a:solidFill>
                    <a:srgbClr val="04617b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0" name="_s7180"/>
            <p:cNvSpPr/>
            <p:nvPr/>
          </p:nvSpPr>
          <p:spPr>
            <a:xfrm>
              <a:off x="3464640" y="2897280"/>
              <a:ext cx="1999800" cy="13989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700" spc="-1" strike="noStrike">
                  <a:solidFill>
                    <a:srgbClr val="ffffff"/>
                  </a:solidFill>
                  <a:latin typeface="Verdana"/>
                </a:rPr>
                <a:t>Τέσσερεις 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700" spc="-1" strike="noStrike">
                  <a:solidFill>
                    <a:srgbClr val="ffffff"/>
                  </a:solidFill>
                  <a:latin typeface="Verdana"/>
                </a:rPr>
                <a:t>Θεμελιώδεις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7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el-GR" sz="1700" spc="-1" strike="noStrike">
                  <a:solidFill>
                    <a:srgbClr val="ffffff"/>
                  </a:solidFill>
                  <a:latin typeface="Verdana"/>
                </a:rPr>
                <a:t>Αρχές ΕΑΕ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700"/>
              </a:b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4617b"/>
                </a:solidFill>
                <a:latin typeface="Constantia"/>
              </a:rPr>
              <a:t>Κατευθύνσεις  αλλαγών του προγράμματος σπουδών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 u="sng">
                <a:solidFill>
                  <a:srgbClr val="000000"/>
                </a:solidFill>
                <a:uFillTx/>
                <a:latin typeface="Constantia"/>
              </a:rPr>
              <a:t>Ανάγκη για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πικέντρωση  των προγραμμάτων της υποχρεωτικής εκπαίδευσης στα ουσιώδη της μάθησης- και στη σύνδεση των επιμέρους διδακτικών-μαθησιακών αντικειμένων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στίαση των περιεχομένων της μάθησης σε κεντρικές, ενοποιητικές ιδέες/έννοιες/γεγονότα και διαδικασίες κλειδιά που έχουν αξία στην πραγματική ζωή και οι οποίες αναπτύσσονται και επεκτείνονται σε όλη τη διάρκεια της σχολικής εκπαίδευσης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νάπτυξη των περιεχομένων της διδασκαλίας-μάθησης σ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μορφωτικά αποτελέσματα/ενέργειες/δραστηριότητες για την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πόκτηση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μορφωτικών αξιών, γνώσεων και δεξιοτήτων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λιέργεια θετικής στάσης για τη μάθηση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ξιοποίηση πολλαπλών μέσων διαμόρφωσης νοημάτων και επικοινωνίας (προφορικών, έντυπων, εικονικών, ψηφιακών και πρόσωπο με πρόσωπο αλληλεπιδράσεων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 u="sng">
                <a:solidFill>
                  <a:srgbClr val="000000"/>
                </a:solidFill>
                <a:uFillTx/>
                <a:latin typeface="Constantia"/>
              </a:rPr>
              <a:t>Ανάγκη για ΠΣ με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374"/>
              </a:spcBef>
              <a:spcAft>
                <a:spcPts val="337"/>
              </a:spcAft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Σαφήνεια στους στόχους, προσανατολισμένα στην εκπαιδευτική πράξη, ανοικτά στις συνεχείς εξελίξεις, συνεχώς ανανεούμενα και  ευέλικτα ώστε να αναπροσαρμόζονται  στις ανάγκες των μαθητών, και στη χρήση πολλαπλών πηγών</a:t>
            </a:r>
            <a:r>
              <a:rPr b="0" lang="el-GR" sz="15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5" descr="j0271194"/>
          <p:cNvPicPr/>
          <p:nvPr/>
        </p:nvPicPr>
        <p:blipFill>
          <a:blip r:embed="rId2"/>
          <a:stretch/>
        </p:blipFill>
        <p:spPr>
          <a:xfrm>
            <a:off x="7164360" y="2565360"/>
            <a:ext cx="136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ΚΟΙΝΟΤΗΤΕΣ ΠΡΑΞΗΣ (ΜΑΘΗΣΗΣ):   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 Χαρακτηριστικά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31640" y="1924200"/>
            <a:ext cx="8208720" cy="4320000"/>
            <a:chOff x="431640" y="1924200"/>
            <a:chExt cx="8208720" cy="4320000"/>
          </a:xfrm>
        </p:grpSpPr>
        <p:cxnSp>
          <p:nvCxnSpPr>
            <p:cNvPr id="593" name="_s60432"/>
            <p:cNvCxnSpPr>
              <a:stCxn id="594" idx="0"/>
              <a:endCxn id="595" idx="2"/>
            </p:cNvCxnSpPr>
            <p:nvPr/>
          </p:nvCxnSpPr>
          <p:spPr>
            <a:xfrm flipV="1" rot="16200000">
              <a:off x="5681880" y="2469600"/>
              <a:ext cx="864720" cy="3228480"/>
            </a:xfrm>
            <a:prstGeom prst="bentConnector3">
              <a:avLst>
                <a:gd name="adj1" fmla="val 13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6" name="_s60430"/>
            <p:cNvCxnSpPr>
              <a:stCxn id="597" idx="0"/>
              <a:endCxn id="595" idx="2"/>
            </p:cNvCxnSpPr>
            <p:nvPr/>
          </p:nvCxnSpPr>
          <p:spPr>
            <a:xfrm flipV="1" rot="16200000">
              <a:off x="4617720" y="3533760"/>
              <a:ext cx="864720" cy="1100160"/>
            </a:xfrm>
            <a:prstGeom prst="bentConnector3">
              <a:avLst>
                <a:gd name="adj1" fmla="val 13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8" name="_s60429"/>
            <p:cNvCxnSpPr>
              <a:stCxn id="599" idx="0"/>
              <a:endCxn id="595" idx="2"/>
            </p:cNvCxnSpPr>
            <p:nvPr/>
          </p:nvCxnSpPr>
          <p:spPr>
            <a:xfrm flipH="1" flipV="1" rot="5400000">
              <a:off x="3555000" y="3570840"/>
              <a:ext cx="864720" cy="1026720"/>
            </a:xfrm>
            <a:prstGeom prst="bentConnector3">
              <a:avLst>
                <a:gd name="adj1" fmla="val 13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0" name="_s60428"/>
            <p:cNvCxnSpPr>
              <a:stCxn id="601" idx="0"/>
              <a:endCxn id="595" idx="2"/>
            </p:cNvCxnSpPr>
            <p:nvPr/>
          </p:nvCxnSpPr>
          <p:spPr>
            <a:xfrm flipH="1" flipV="1" rot="5400000">
              <a:off x="2489400" y="2505600"/>
              <a:ext cx="864720" cy="3157200"/>
            </a:xfrm>
            <a:prstGeom prst="bentConnector3">
              <a:avLst>
                <a:gd name="adj1" fmla="val 13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5" name="_s60424"/>
            <p:cNvSpPr/>
            <p:nvPr/>
          </p:nvSpPr>
          <p:spPr>
            <a:xfrm>
              <a:off x="3347280" y="1924200"/>
              <a:ext cx="2303280" cy="172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Κοινότητες Πράξη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1" name="_s60425"/>
            <p:cNvSpPr/>
            <p:nvPr/>
          </p:nvSpPr>
          <p:spPr>
            <a:xfrm>
              <a:off x="431640" y="4516200"/>
              <a:ext cx="1824120" cy="172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υμμετοχή-Ένταξη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9" name="_s60426"/>
            <p:cNvSpPr/>
            <p:nvPr/>
          </p:nvSpPr>
          <p:spPr>
            <a:xfrm>
              <a:off x="2559600" y="4516200"/>
              <a:ext cx="1824120" cy="172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Διαπραγμάτευση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Νοημάτων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7" name="_s60427"/>
            <p:cNvSpPr/>
            <p:nvPr/>
          </p:nvSpPr>
          <p:spPr>
            <a:xfrm>
              <a:off x="4687920" y="4516200"/>
              <a:ext cx="1824120" cy="172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Πρακτικές μάθηση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(σχεδιασμοί μάθησης,</a:t>
              </a:r>
              <a:endParaRPr b="0" lang="en-US" sz="11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1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παραγωγή υλικών κ.α.)</a:t>
              </a:r>
              <a:endParaRPr b="0" lang="en-US" sz="11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94" name="_s60431"/>
            <p:cNvSpPr/>
            <p:nvPr/>
          </p:nvSpPr>
          <p:spPr>
            <a:xfrm>
              <a:off x="6816240" y="4516200"/>
              <a:ext cx="1824120" cy="172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Επαγγελματικές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Ταυτότητες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εκπαιδευτικών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ΕΠΑΓΓΕΛΜΑΤΙΚΗ ΑΝΑΠΤΥΞΗ: ΣΤΟ ΕΠΙΚΕΝΤΡΟ Η ΜΑΘΗΣΗ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603" name="Diagram 2"/>
          <p:cNvGrpSpPr/>
          <p:nvPr/>
        </p:nvGrpSpPr>
        <p:grpSpPr>
          <a:xfrm>
            <a:off x="1019160" y="552960"/>
            <a:ext cx="7321680" cy="6297480"/>
            <a:chOff x="1019160" y="552960"/>
            <a:chExt cx="7321680" cy="6297480"/>
          </a:xfrm>
        </p:grpSpPr>
        <p:sp>
          <p:nvSpPr>
            <p:cNvPr id="604" name="_s8196"/>
            <p:cNvSpPr/>
            <p:nvPr/>
          </p:nvSpPr>
          <p:spPr>
            <a:xfrm flipH="1" flipV="1">
              <a:off x="2913120" y="2909160"/>
              <a:ext cx="892440" cy="39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5" name="_s8197"/>
            <p:cNvSpPr/>
            <p:nvPr/>
          </p:nvSpPr>
          <p:spPr>
            <a:xfrm>
              <a:off x="1019160" y="173448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ffffff"/>
                  </a:solidFill>
                  <a:latin typeface="Constantia"/>
                </a:rPr>
                <a:t>Β ΚΥΚΛΟΣ 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ffffff"/>
                  </a:solidFill>
                  <a:latin typeface="Constantia"/>
                </a:rPr>
                <a:t>ΕΠΙΜΟΡΦΩΣΗ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(ανατροφοδότηση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500" spc="-1" strike="noStrike">
                  <a:solidFill>
                    <a:srgbClr val="ffffff"/>
                  </a:solidFill>
                  <a:latin typeface="Constantia"/>
                </a:rPr>
                <a:t>-ανασχεδιασμός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6" name="_s8198"/>
            <p:cNvSpPr/>
            <p:nvPr/>
          </p:nvSpPr>
          <p:spPr>
            <a:xfrm flipH="1">
              <a:off x="2913120" y="4091400"/>
              <a:ext cx="892440" cy="3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7" name="_s8199"/>
            <p:cNvSpPr/>
            <p:nvPr/>
          </p:nvSpPr>
          <p:spPr>
            <a:xfrm>
              <a:off x="1023120" y="4097520"/>
              <a:ext cx="2032920" cy="15750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Επικοινωνία με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Προωθητέ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του Π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(150 εμπειρ.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8" name="_s8200"/>
            <p:cNvSpPr/>
            <p:nvPr/>
          </p:nvSpPr>
          <p:spPr>
            <a:xfrm>
              <a:off x="4678200" y="4480560"/>
              <a:ext cx="0" cy="79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09" name="_s8201"/>
            <p:cNvSpPr/>
            <p:nvPr/>
          </p:nvSpPr>
          <p:spPr>
            <a:xfrm>
              <a:off x="3667320" y="527616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Συναντήσεις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εκπαιδευτικών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el-GR" sz="1800" spc="-1" strike="noStrike">
                  <a:solidFill>
                    <a:srgbClr val="ffffff"/>
                  </a:solidFill>
                  <a:latin typeface="Constantia"/>
                </a:rPr>
                <a:t>των σχολείων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0" name="_s8202"/>
            <p:cNvSpPr/>
            <p:nvPr/>
          </p:nvSpPr>
          <p:spPr>
            <a:xfrm>
              <a:off x="5553000" y="4091400"/>
              <a:ext cx="888480" cy="3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1" name="_s8203"/>
            <p:cNvSpPr/>
            <p:nvPr/>
          </p:nvSpPr>
          <p:spPr>
            <a:xfrm>
              <a:off x="6307920" y="409140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υναντήσεις με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χολικού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συμβούλου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2" name="_s8204"/>
            <p:cNvSpPr/>
            <p:nvPr/>
          </p:nvSpPr>
          <p:spPr>
            <a:xfrm flipV="1">
              <a:off x="5553000" y="2912760"/>
              <a:ext cx="888480" cy="3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3" name="_s8205"/>
            <p:cNvSpPr/>
            <p:nvPr/>
          </p:nvSpPr>
          <p:spPr>
            <a:xfrm>
              <a:off x="6302880" y="173160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Γ ΚΥΚΛΟ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ΠΙΜΟΡΦΩΣΗ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(ανατροφοδότη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-ανασχεδιασμό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4" name="_s8206"/>
            <p:cNvSpPr/>
            <p:nvPr/>
          </p:nvSpPr>
          <p:spPr>
            <a:xfrm flipV="1">
              <a:off x="4678200" y="2124000"/>
              <a:ext cx="0" cy="79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5" name="_s8207"/>
            <p:cNvSpPr/>
            <p:nvPr/>
          </p:nvSpPr>
          <p:spPr>
            <a:xfrm>
              <a:off x="3663360" y="55296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Α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ΚΥΚΛΟ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ΠΙΜΟΡΦΩΣΗ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(ανατροφοδότηση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ffffff"/>
                  </a:solidFill>
                  <a:latin typeface="Constantia"/>
                </a:rPr>
                <a:t>-ανασχεδιασμός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16" name="_s8208"/>
            <p:cNvSpPr/>
            <p:nvPr/>
          </p:nvSpPr>
          <p:spPr>
            <a:xfrm>
              <a:off x="3663360" y="2916000"/>
              <a:ext cx="2032920" cy="15742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Constantia"/>
                </a:rPr>
                <a:t>ΣΧΟΛΕΙΑ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Constantia"/>
                </a:rPr>
                <a:t>(σχεδιασμοί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Constantia"/>
                </a:rPr>
                <a:t>μάθησης)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4617b"/>
                </a:solidFill>
                <a:latin typeface="Calibri"/>
              </a:rPr>
              <a:t>Επαγγελματική Ανάπτυξη: Δεξιότητες σχεδιασμού-αξιολόγησης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α)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δεξιότητες διδακτικού σχεδιασμού για την «κριτική ευθυγράμμιση» μεταξύ των στόχων των νέων ΠΣ και της διδακτικής πράξης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β)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δεξιότητες σύνταξης   εννοιοκεντρικού προγράμματος, οργανωμένου σε δραστηριότητες/διαδικασίες μάθησης και σε αποτελέσματα  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διδασκαλίας (έννοιες  - γενικεύσεις – μεταφορά γνώσης). Δεξιότητες παραγωγή διδακτικού υλικού στα γνωστικά αντικείμενα της υποχρεωτικής εκπαίδευση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γ)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δεξιότητες σύνταξης και χρήσης εργαλείων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και κριτηρίων για την αξιολόγηση κατάλληλου διδακτικού υλικού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δ)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δεξιότητες «Δια Βίου Μάθησης» με την αξιοποίηση συνεργατικών εργαλείων μάθησης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 2.0),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για τη δημιουργία 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εκπαιδευτικών δικτύων συνεργασίας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  και τον από κοινού σχεδιασμό διδακτικών παρεμβάσεων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ε) δεξιότητες υλοποίησης και κριτικής ανάλυσης μικρο-διδασκαλιών και μικρο-μαθημάτων 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icro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eaching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ini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ssons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στ) δεξιότητες προώθησης εσωτερικών κινήτρων μάθηση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ζ) δεξιότητες εκπόνησης ενδο-σχολικής  έρευνας – δράση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onstantia"/>
              </a:rPr>
              <a:t>(η) δεξιότητες συνολικού σχεδιασμού σε επίπεδο σχολείου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4617b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4617b"/>
                </a:solidFill>
                <a:latin typeface="Calibri"/>
              </a:rPr>
              <a:t>Έμφαση στις διαδικασίες τεκμηρίωσης-διερεύνησης: </a:t>
            </a:r>
            <a:br>
              <a:rPr sz="2800"/>
            </a:br>
            <a:r>
              <a:rPr b="0" lang="el-GR" sz="2800" spc="-1" strike="noStrike">
                <a:solidFill>
                  <a:srgbClr val="04617b"/>
                </a:solidFill>
                <a:latin typeface="Arial"/>
              </a:rPr>
              <a:t>               </a:t>
            </a:r>
            <a:r>
              <a:rPr b="1" lang="el-GR" sz="2800" spc="-1" strike="noStrike">
                <a:solidFill>
                  <a:srgbClr val="04617b"/>
                </a:solidFill>
                <a:latin typeface="Calibri"/>
              </a:rPr>
              <a:t>Ο εκπαιδευτικός ως σχεδιαστής</a:t>
            </a:r>
            <a:r>
              <a:rPr b="0" lang="el-GR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Η ΕΑΕ για την πιλοτική δεν περιορίζεται στην απόκτηση δεξιοτήτων ή γνώσεων. Δίνει επιπλέον στους εκπαιδευτικούς ευκαιρίες κριτικού αναστοχασμού των διδακτικών τους πρακτικών ώστε να δημιουργούν νέες γνώσεις/στάσεις απέναντι στο περιεχόμενο,την παιδαγωγική και τους μαθητές. Αναπτύσσει συνεργατικούς τρόπους διερεύνησης/σχεδιασμού της μάθησης. Στο επίκεντρό της είναι η συνεχής  διερεύνηση-τεκμηρίωση-σχεδιασμός/ανασχεδιασμός της μάθησης για τη συνεχή βελτίωσή της. Ειδικότερα η ΕΑΕ για την πιλοτική αποβλέπει σε πρακτικές όπω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Αναλαμβάνοντας πρωτοβουλίες και διερευνώντας με βάση ενδείξεις (πχ θέτοντας ερωτήματα, διατυπώνοντας υποθέσεις, σχεδιάζοντας διαδικασίες μάθησης κ.α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Κατανοώντας και αξιοποιώντας μέσα και διαδικασίες διδασκαλίας (πχ ακολουθώντας διαδικασίες και κριτήρια, αξιολογώντας τις πληροφορίες για τα αποτελέσματα μάθησης, ταξινομώντας παρατηρήσεις και ευρήματα, υιοθετώντας συνεργατικούς-συμμετοχικούς τρόπους διερεύνησης κ.α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Αναλύοντας και ερμηνεύοντας (πχ συγκέντρωση και οργάνωση των δεδομένων, αναστοχασμός στα ευρήματα, εξαγωγή συμπερασμάτων κ.α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Εφαρμόζοντας (πχ υιοθετώντας νέους σχεδιασμούς μάθησης, δημιουργώντας εκπαιδευτικά υλικά για τις τοπικές συνθήκες κ.α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Ο εκπαιδευτικός ως σχεδιαστής-ερευνητή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622" name="Diagram 2"/>
          <p:cNvGrpSpPr/>
          <p:nvPr/>
        </p:nvGrpSpPr>
        <p:grpSpPr>
          <a:xfrm>
            <a:off x="2638440" y="1970280"/>
            <a:ext cx="3794040" cy="4317120"/>
            <a:chOff x="2638440" y="1970280"/>
            <a:chExt cx="3794040" cy="4317120"/>
          </a:xfrm>
        </p:grpSpPr>
        <p:sp>
          <p:nvSpPr>
            <p:cNvPr id="623" name="_s9220"/>
            <p:cNvSpPr/>
            <p:nvPr/>
          </p:nvSpPr>
          <p:spPr>
            <a:xfrm>
              <a:off x="3244680" y="1970280"/>
              <a:ext cx="2581560" cy="2937240"/>
            </a:xfrm>
            <a:custGeom>
              <a:avLst/>
              <a:gdLst>
                <a:gd name="textAreaLeft" fmla="*/ 0 w 2581560"/>
                <a:gd name="textAreaRight" fmla="*/ 2581920 w 2581560"/>
                <a:gd name="textAreaTop" fmla="*/ 0 h 2937240"/>
                <a:gd name="textAreaBottom" fmla="*/ 2937600 h 293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4" name="_s9221"/>
            <p:cNvSpPr/>
            <p:nvPr/>
          </p:nvSpPr>
          <p:spPr>
            <a:xfrm rot="5400000">
              <a:off x="3673080" y="2837880"/>
              <a:ext cx="2937240" cy="2581200"/>
            </a:xfrm>
            <a:custGeom>
              <a:avLst/>
              <a:gdLst>
                <a:gd name="textAreaLeft" fmla="*/ 0 w 2937240"/>
                <a:gd name="textAreaRight" fmla="*/ 2937600 w 2937240"/>
                <a:gd name="textAreaTop" fmla="*/ 0 h 2581200"/>
                <a:gd name="textAreaBottom" fmla="*/ 2581560 h 258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5" name="_s9222"/>
            <p:cNvSpPr/>
            <p:nvPr/>
          </p:nvSpPr>
          <p:spPr>
            <a:xfrm rot="10800000">
              <a:off x="3244320" y="3350160"/>
              <a:ext cx="2581560" cy="2937240"/>
            </a:xfrm>
            <a:custGeom>
              <a:avLst/>
              <a:gdLst>
                <a:gd name="textAreaLeft" fmla="*/ 0 w 2581560"/>
                <a:gd name="textAreaRight" fmla="*/ 2581920 w 2581560"/>
                <a:gd name="textAreaTop" fmla="*/ 0 h 2937240"/>
                <a:gd name="textAreaBottom" fmla="*/ 2937600 h 293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6" name="_s9223"/>
            <p:cNvSpPr/>
            <p:nvPr/>
          </p:nvSpPr>
          <p:spPr>
            <a:xfrm rot="16200000">
              <a:off x="2460240" y="2837520"/>
              <a:ext cx="2937240" cy="2581200"/>
            </a:xfrm>
            <a:custGeom>
              <a:avLst/>
              <a:gdLst>
                <a:gd name="textAreaLeft" fmla="*/ 0 w 2937240"/>
                <a:gd name="textAreaRight" fmla="*/ 2937600 w 2937240"/>
                <a:gd name="textAreaTop" fmla="*/ 0 h 2581200"/>
                <a:gd name="textAreaBottom" fmla="*/ 2581560 h 258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7" name="_s9224"/>
            <p:cNvSpPr/>
            <p:nvPr/>
          </p:nvSpPr>
          <p:spPr>
            <a:xfrm>
              <a:off x="5222880" y="2239560"/>
              <a:ext cx="9730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Διερευνά με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βάση ενδείξεις/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εμπειρίες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8" name="_s9225"/>
            <p:cNvSpPr/>
            <p:nvPr/>
          </p:nvSpPr>
          <p:spPr>
            <a:xfrm>
              <a:off x="2876400" y="4912920"/>
              <a:ext cx="9734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Αναλύει και ερμηνεύει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29" name="_s9226"/>
            <p:cNvSpPr/>
            <p:nvPr/>
          </p:nvSpPr>
          <p:spPr>
            <a:xfrm>
              <a:off x="2874960" y="2241000"/>
              <a:ext cx="97308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Εφαρμόζει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0" name="_s9227"/>
            <p:cNvSpPr/>
            <p:nvPr/>
          </p:nvSpPr>
          <p:spPr>
            <a:xfrm>
              <a:off x="5224320" y="4911120"/>
              <a:ext cx="973440" cy="11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Κατανοεί-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Αξιοποιεί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Πηγές και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Verdana"/>
                </a:rPr>
                <a:t>ενδείξεις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1" name="Oval 18"/>
          <p:cNvSpPr/>
          <p:nvPr/>
        </p:nvSpPr>
        <p:spPr>
          <a:xfrm>
            <a:off x="3635280" y="3141720"/>
            <a:ext cx="1728720" cy="1871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Συνεργάζετα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-Αναστοχάζετα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-Σχεδιάζει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-Ανασχεδιάζε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4617b"/>
                </a:solidFill>
                <a:latin typeface="Calibri"/>
              </a:rPr>
              <a:t>                                     </a:t>
            </a:r>
            <a:r>
              <a:rPr b="1" lang="el-GR" sz="2000" spc="-1" strike="noStrike">
                <a:solidFill>
                  <a:srgbClr val="04617b"/>
                </a:solidFill>
                <a:latin typeface="Calibri"/>
              </a:rPr>
              <a:t>ΚΑΤΗΓΟΡΙΕΣ ΕΠΙΜΟΡΦΟΥΜΕΝΩΝ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633" name="Diagram 2"/>
          <p:cNvGrpSpPr/>
          <p:nvPr/>
        </p:nvGrpSpPr>
        <p:grpSpPr>
          <a:xfrm>
            <a:off x="971640" y="475200"/>
            <a:ext cx="7055280" cy="6379200"/>
            <a:chOff x="971640" y="475200"/>
            <a:chExt cx="7055280" cy="6379200"/>
          </a:xfrm>
        </p:grpSpPr>
        <p:sp>
          <p:nvSpPr>
            <p:cNvPr id="634" name="_s10244"/>
            <p:cNvSpPr/>
            <p:nvPr/>
          </p:nvSpPr>
          <p:spPr>
            <a:xfrm flipH="1">
              <a:off x="2730600" y="366300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5" name="_s10245"/>
            <p:cNvSpPr/>
            <p:nvPr/>
          </p:nvSpPr>
          <p:spPr>
            <a:xfrm>
              <a:off x="971640" y="2867400"/>
              <a:ext cx="1762560" cy="1593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ffffff"/>
                  </a:solidFill>
                  <a:latin typeface="Constantia"/>
                </a:rPr>
                <a:t>Σχολικοί Σύμβουλοι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500" spc="-1" strike="noStrike">
                  <a:solidFill>
                    <a:srgbClr val="ffffff"/>
                  </a:solidFill>
                  <a:latin typeface="Constantia"/>
                </a:rPr>
                <a:t>(μια φάση)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6" name="_s10246"/>
            <p:cNvSpPr/>
            <p:nvPr/>
          </p:nvSpPr>
          <p:spPr>
            <a:xfrm>
              <a:off x="4498200" y="4458240"/>
              <a:ext cx="0" cy="80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7" name="_s10247"/>
            <p:cNvSpPr/>
            <p:nvPr/>
          </p:nvSpPr>
          <p:spPr>
            <a:xfrm>
              <a:off x="3618360" y="5260680"/>
              <a:ext cx="1762560" cy="1593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πιμορφωτέ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(1 φάση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(28</a:t>
              </a:r>
              <a:r>
                <a:rPr b="1" lang="en-US" sz="1600" spc="-1" strike="noStrike">
                  <a:solidFill>
                    <a:srgbClr val="ffffff"/>
                  </a:solidFill>
                  <a:latin typeface="Constantia"/>
                </a:rPr>
                <a:t>5</a:t>
              </a: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 συνολικά</a:t>
              </a:r>
              <a:r>
                <a:rPr b="0" lang="el-GR" sz="1500" spc="-1" strike="noStrike">
                  <a:solidFill>
                    <a:srgbClr val="ffffff"/>
                  </a:solidFill>
                  <a:latin typeface="Verdana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8" name="_s10248"/>
            <p:cNvSpPr/>
            <p:nvPr/>
          </p:nvSpPr>
          <p:spPr>
            <a:xfrm>
              <a:off x="5376960" y="366300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39" name="_s10249"/>
            <p:cNvSpPr/>
            <p:nvPr/>
          </p:nvSpPr>
          <p:spPr>
            <a:xfrm>
              <a:off x="6264360" y="2867400"/>
              <a:ext cx="1762560" cy="1593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Στελέχη της 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κπαίδευσης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(2 φάσεις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0" name="_s10250"/>
            <p:cNvSpPr/>
            <p:nvPr/>
          </p:nvSpPr>
          <p:spPr>
            <a:xfrm flipV="1">
              <a:off x="4498200" y="2066040"/>
              <a:ext cx="0" cy="80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1" name="_s10251"/>
            <p:cNvSpPr/>
            <p:nvPr/>
          </p:nvSpPr>
          <p:spPr>
            <a:xfrm>
              <a:off x="3618360" y="475200"/>
              <a:ext cx="1762560" cy="1593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Εκπαιδευτικοί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Πιλοτικών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σχολειων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ffffff"/>
                  </a:solidFill>
                  <a:latin typeface="Constantia"/>
                </a:rPr>
                <a:t>(3 φάσεις)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2" name="_s10252"/>
            <p:cNvSpPr/>
            <p:nvPr/>
          </p:nvSpPr>
          <p:spPr>
            <a:xfrm>
              <a:off x="3618360" y="2867400"/>
              <a:ext cx="1762560" cy="1593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nstantia"/>
                </a:rPr>
                <a:t>ΕΠΙΜΟΡΦΟΥΜΕΝΟΙ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Diagram 2"/>
          <p:cNvGrpSpPr/>
          <p:nvPr/>
        </p:nvGrpSpPr>
        <p:grpSpPr>
          <a:xfrm>
            <a:off x="1360440" y="909720"/>
            <a:ext cx="6994440" cy="5181120"/>
            <a:chOff x="1360440" y="909720"/>
            <a:chExt cx="6994440" cy="5181120"/>
          </a:xfrm>
        </p:grpSpPr>
        <p:sp>
          <p:nvSpPr>
            <p:cNvPr id="644" name="_s11268"/>
            <p:cNvSpPr/>
            <p:nvPr/>
          </p:nvSpPr>
          <p:spPr>
            <a:xfrm flipH="1">
              <a:off x="3133440" y="4213080"/>
              <a:ext cx="882360" cy="36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5" name="_s11269"/>
            <p:cNvSpPr/>
            <p:nvPr/>
          </p:nvSpPr>
          <p:spPr>
            <a:xfrm>
              <a:off x="1360440" y="4216320"/>
              <a:ext cx="1943280" cy="180468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300" spc="-1" strike="noStrike">
                  <a:solidFill>
                    <a:srgbClr val="ffffff"/>
                  </a:solidFill>
                  <a:latin typeface="Constantia"/>
                </a:rPr>
                <a:t>Επιμορφωτές</a:t>
              </a:r>
              <a:endParaRPr b="0" lang="en-US" sz="13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300" spc="-1" strike="noStrike">
                  <a:solidFill>
                    <a:srgbClr val="ffffff"/>
                  </a:solidFill>
                  <a:latin typeface="Constantia"/>
                </a:rPr>
                <a:t>(</a:t>
              </a:r>
              <a:r>
                <a:rPr b="0" lang="en-US" sz="1300" spc="-1" strike="noStrike">
                  <a:solidFill>
                    <a:srgbClr val="ffffff"/>
                  </a:solidFill>
                  <a:latin typeface="Constantia"/>
                </a:rPr>
                <a:t>285</a:t>
              </a:r>
              <a:r>
                <a:rPr b="0" lang="el-GR" sz="1300" spc="-1" strike="noStrike">
                  <a:solidFill>
                    <a:srgbClr val="ffffff"/>
                  </a:solidFill>
                  <a:latin typeface="Constantia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6" name="_s11270"/>
            <p:cNvSpPr/>
            <p:nvPr/>
          </p:nvSpPr>
          <p:spPr>
            <a:xfrm>
              <a:off x="5694480" y="4216320"/>
              <a:ext cx="965880" cy="36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7" name="_s11271"/>
            <p:cNvSpPr/>
            <p:nvPr/>
          </p:nvSpPr>
          <p:spPr>
            <a:xfrm>
              <a:off x="6411600" y="4219200"/>
              <a:ext cx="1943280" cy="18716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onstantia"/>
                </a:rPr>
                <a:t>Ομάδα 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onstantia"/>
                </a:rPr>
                <a:t>διαχείρισης 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onstantia"/>
                </a:rPr>
                <a:t>του Έργου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8" name="_s11272"/>
            <p:cNvSpPr/>
            <p:nvPr/>
          </p:nvSpPr>
          <p:spPr>
            <a:xfrm flipV="1">
              <a:off x="4858200" y="2420280"/>
              <a:ext cx="360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49" name="_s11273"/>
            <p:cNvSpPr/>
            <p:nvPr/>
          </p:nvSpPr>
          <p:spPr>
            <a:xfrm>
              <a:off x="3888360" y="909720"/>
              <a:ext cx="1943280" cy="187164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onstantia"/>
                </a:rPr>
                <a:t>Επιστημονική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1" lang="el-GR" sz="1400" spc="-1" strike="noStrike">
                  <a:solidFill>
                    <a:srgbClr val="ffffff"/>
                  </a:solidFill>
                  <a:latin typeface="Constantia"/>
                </a:rPr>
                <a:t>Ομάδα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1" lang="el-GR" sz="1400" spc="-1" strike="noStrike">
                  <a:solidFill>
                    <a:srgbClr val="ffffff"/>
                  </a:solidFill>
                  <a:latin typeface="Constantia"/>
                </a:rPr>
                <a:t>Πιλοτικής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50" name="_s11274"/>
            <p:cNvSpPr/>
            <p:nvPr/>
          </p:nvSpPr>
          <p:spPr>
            <a:xfrm>
              <a:off x="3888360" y="3212280"/>
              <a:ext cx="2051280" cy="19440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Προωθητές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Επιμόρφωσης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(παρακολούθηση,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προετοιμασία υλικών,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Αξιολόγηση)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(23 συνολικά,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απο όλα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1" lang="el-GR" sz="1200" spc="-1" strike="noStrike">
                  <a:solidFill>
                    <a:srgbClr val="ffffff"/>
                  </a:solidFill>
                  <a:latin typeface="Constantia"/>
                </a:rPr>
                <a:t>τα διδ. πεδία)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51" name="Rectangle 15"/>
          <p:cNvSpPr/>
          <p:nvPr/>
        </p:nvSpPr>
        <p:spPr>
          <a:xfrm>
            <a:off x="395280" y="115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1" lang="el-GR" sz="18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Οργάνωση-Εφαρμογή-παρακολούθηση επιμόρφωσης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                              </a:t>
            </a:r>
            <a:r>
              <a:rPr b="1" lang="el-GR" sz="2000" spc="-1" strike="noStrike">
                <a:solidFill>
                  <a:srgbClr val="04617b"/>
                </a:solidFill>
                <a:latin typeface="Arial"/>
              </a:rPr>
              <a:t>                </a:t>
            </a: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4617b"/>
                </a:solidFill>
                <a:latin typeface="Constantia"/>
              </a:rPr>
              <a:t>Ποιοί συμμετέχου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4617b"/>
                </a:solidFill>
                <a:latin typeface="Constantia"/>
              </a:rPr>
              <a:t>Τα νέα ΠΣ-Οδηγοί επικεντρώνονται στο σχολείο-μάθηση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. </a:t>
            </a:r>
            <a:r>
              <a:rPr b="1" lang="el-GR" sz="2900" spc="-1" strike="noStrike">
                <a:solidFill>
                  <a:srgbClr val="04617b"/>
                </a:solidFill>
                <a:latin typeface="Constantia"/>
              </a:rPr>
              <a:t>Επικεντρώνονται στις πρακτικές μάθησης:</a:t>
            </a:r>
            <a:r>
              <a:rPr b="1" lang="en-US" sz="2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692000" y="1915920"/>
            <a:ext cx="5761080" cy="98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2400" spc="-1" strike="noStrike">
                <a:solidFill>
                  <a:srgbClr val="ffffff"/>
                </a:solidFill>
                <a:latin typeface="Constantia"/>
              </a:rPr>
              <a:t>Αυτό που επιδιώκετα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el-GR" sz="2400" spc="-1" strike="noStrike">
                <a:solidFill>
                  <a:srgbClr val="ffffff"/>
                </a:solidFill>
                <a:latin typeface="Constantia"/>
              </a:rPr>
              <a:t>(κεντρικό επίπεδο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619280" y="3789360"/>
            <a:ext cx="5832360" cy="1008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onstantia"/>
              </a:rPr>
              <a:t>Αυτό που Εφαρμόζετα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onstantia"/>
              </a:rPr>
              <a:t>(Διδασκαλία, εκπαιδευτικοί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Rectangle 6"/>
          <p:cNvSpPr/>
          <p:nvPr/>
        </p:nvSpPr>
        <p:spPr>
          <a:xfrm flipV="1">
            <a:off x="1692360" y="5659920"/>
            <a:ext cx="5759280" cy="934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onstantia"/>
              </a:rPr>
              <a:t>Αυτό που τελικά επιτυγχάνετα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onstantia"/>
              </a:rPr>
              <a:t>(Αποτελέσματα, μαθητέ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4140360" y="2924280"/>
            <a:ext cx="129672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4356000" y="486900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en-US" sz="4600" spc="-1" strike="noStrike">
                <a:solidFill>
                  <a:srgbClr val="04617b"/>
                </a:solidFill>
                <a:latin typeface="Constantia"/>
              </a:rPr>
              <a:t>6+1 </a:t>
            </a:r>
            <a:r>
              <a:rPr b="1" lang="el-GR" sz="4600" spc="-1" strike="noStrike">
                <a:solidFill>
                  <a:srgbClr val="04617b"/>
                </a:solidFill>
                <a:latin typeface="Constantia"/>
              </a:rPr>
              <a:t>Θέσεις για τα νέα ΠΣ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1.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Τα ΠΣ ως Βάση Σχεδιασμού της Διδασκαλίας-μάθηση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2. Κοινοί μορφωτικοί στόχο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3. Σύνδεση μεταξύ των διδακτικών αντικειμέν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4. Διδακτικές-παιδαγωγικές προσεγγίσεις-Αξιολόγηση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5. Διδακτικά-Μαθησιακά πεδία και αντικείμεν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6.  Οργάνωση σχολικού χρόνο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θέσ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Διαδικασίες συνεχούς βελτίωσης των Προγραμμάτων Σπουδώ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0440" indent="-460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02v0wo1_[1]"/>
          <p:cNvPicPr/>
          <p:nvPr/>
        </p:nvPicPr>
        <p:blipFill>
          <a:blip r:embed="rId2"/>
          <a:stretch/>
        </p:blipFill>
        <p:spPr>
          <a:xfrm>
            <a:off x="6877080" y="3789360"/>
            <a:ext cx="165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200" spc="-1" strike="noStrike">
                <a:solidFill>
                  <a:srgbClr val="04617b"/>
                </a:solidFill>
                <a:latin typeface="Constantia"/>
              </a:rPr>
              <a:t>1. Τα ΠΣ ως Βάση Σχεδιασμού της Διδασκαλίας-Μάθησης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ό το σχεδιασμό της διδασκαλίας με βάση το σχολικό εγχειρίδιο, στο σχεδιασμό με βάση το Πρόγραμμα Σπουδών και την αξιοποίηση του σχολικού εγχειριδίου και άλλων πηγών/υλικώ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Οδηγός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: Διαδικασίες και παραδείγματα εφαρμογής στην πράξη. Παρέχουν συγκεκριμένες ενδεικτικές προτάσεις  σχεδίων μαθημάτων-εργασιών με βάση το πρόγραμμα, με ευέλικτο τρόπο ώστε να ενισχύεται ο ανασχεδιασμός στις τοπικές συνθήκες, ο «αναστοχασμός» και η «κυριότητα» της αλλαγή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l-GR" sz="40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l-GR" sz="4000" spc="-1" strike="noStrike">
                <a:solidFill>
                  <a:srgbClr val="04617b"/>
                </a:solidFill>
                <a:latin typeface="Constantia"/>
              </a:rPr>
              <a:t>2</a:t>
            </a: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.</a:t>
            </a: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l-GR" sz="3200" spc="-1" strike="noStrike">
                <a:solidFill>
                  <a:srgbClr val="04617b"/>
                </a:solidFill>
                <a:latin typeface="Constantia"/>
              </a:rPr>
              <a:t>Κοινοί μορφωτικοί στόχοι-Αρχές σχεδιασμού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Γνωρίζοντας και Κατανοώντας (με βάση τις εμπειρίε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Διερευνώντα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Επικοινωνώντα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Συνδέοντας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Γνωρίζοντας και Κατανοώντας (με βάση τις εμπειρίες)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Κατανόηση βασικών εννοιών, διαδικασιών και γεγονότων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Οι μαθητές μαθαίνουν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αναγνωρίζουν τα σημαντικά χαρακτηριστικά εννοιών και διαδικασιών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υνδέουν μιαν έννοια – ιδέα με άλλες συναφείς, μέσα από τη σύγκριση και τον εντοπισμό ομοιοτήτων και διαφορών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μπορούν να δώσουν παραδείγματα που να αναφέρονται σε συγκεκριμένες έννοιε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μπορούν να κατανοούν και να περιγράφουν γεγονότα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μπορούν να κατανοούν και να αξιοποιούν διαδικασίε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Διερευνώντας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Μύηση σε ερευνητικές διαδικασίες και διεργασίε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Οι μαθητές μαθαίνουν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διατυπώνουν ερωτήματα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προσδιορίζουν προβλήματα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χεδιάζουν και να μεθοδεύουν διερευνήσει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αναζητούν απαντήσεις στα προβλήματα που έχουν τεθεί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αναζητούν και να αξιοποιούν ερευνητικά εργαλεία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αναλύουν και να συνθέτουν δεδομένα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Picture 5" descr="w0de2pab[1]"/>
          <p:cNvPicPr/>
          <p:nvPr/>
        </p:nvPicPr>
        <p:blipFill>
          <a:blip r:embed="rId2"/>
          <a:stretch/>
        </p:blipFill>
        <p:spPr>
          <a:xfrm>
            <a:off x="7020000" y="4221000"/>
            <a:ext cx="15843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78544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4617b"/>
                </a:solidFill>
                <a:latin typeface="Constantia"/>
              </a:rPr>
              <a:t>2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. </a:t>
            </a:r>
            <a:r>
              <a:rPr b="1" lang="el-GR" sz="2900" spc="-1" strike="noStrike">
                <a:solidFill>
                  <a:srgbClr val="04617b"/>
                </a:solidFill>
                <a:latin typeface="Constantia"/>
              </a:rPr>
              <a:t>Κοινοί μορφωτικοί στόχοι-Αρχές σχεδιασμού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9640" y="126828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Επικοινωνώντας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Επικοινωνία και συνεργασία. Οι μαθητές μαθαίνουν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αξιοποιούν πολλαπλά μέσα επικοινωνίας και διαμόρφωσης νοημάτω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επικοινωνούν και να μοιράζονται ιδέες, σκέψεις και συναισθήματα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επικοινωνούν προκειμένου να διερευνούν ατομικά επιχειρήματα και ισχυρισμούς ή να διασαφηνίζουν ιδέες και απόψει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υνεργάζονται προκειμένου να αναπτύσσουν συλλογικά επιχειρήματα, να κατανοούν έννοιες, ιδέες ή διαδικασίες, να τεκμηριώνουν θέσεις, να επιλύουν προβλήματα κλπ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υνεργάζονται προκειμένου να παράγουν έργα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nstantia"/>
              </a:rPr>
              <a:t>Συνδέοντας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Σύνδεση με τα περιβάλλοντα της ζωής. Παραγωγή και δημιουργία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Οι μαθητές μαθαίνουν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υνδέουν με τις κοινότητες, την τεχνολογία, το περιβάλλον, τον πολιτισμ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σχεδιάζουν και να εφαρμόζουν δραστηριότητες σε οικείες και μη οικείες καταστάσεις ζωή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ολοκληρώνοντας τις ερευνητικές τους προσπάθειες, να καταλήγουν σε συμπεράσματα και προτάσει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παράγουν έργα (ερευνητικά, καλλιτεχνικά, κατασκευαστικά κλπ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nstantia"/>
              </a:rPr>
              <a:t>να δημοσιοποιούν τις παραγωγές τους στην κοινότητα και να δέχονται την κριτική της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5" descr="w0de2pab[1]"/>
          <p:cNvPicPr/>
          <p:nvPr/>
        </p:nvPicPr>
        <p:blipFill>
          <a:blip r:embed="rId2"/>
          <a:stretch/>
        </p:blipFill>
        <p:spPr>
          <a:xfrm>
            <a:off x="0" y="5300640"/>
            <a:ext cx="1332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3.</a:t>
            </a:r>
            <a:r>
              <a:rPr b="1" lang="en-US" sz="2900" spc="-1" strike="noStrike">
                <a:solidFill>
                  <a:srgbClr val="04617b"/>
                </a:solidFill>
                <a:latin typeface="Constantia"/>
              </a:rPr>
              <a:t> Σύνδεση μεταξύ των διδακτικών αντικειμένων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2276280"/>
            <a:ext cx="867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06200" indent="-106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Κοινοί μορφωτικοί στόχο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Δράσεις για τη Σχολική κα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κοινωνική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 ζωή (ΣΚΖ),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Περιβάλλον και Εκπαίδευσ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για την Αειφόρο Ανάπτυξη (ΠΕΑΑ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ΤΠΕ, Πολιτισμός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Ζώνη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βιωματικών δράσεων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nstantia"/>
              </a:rPr>
              <a:t>Οργάνωση σε διδακτικά-μαθησιακά πεδία και αντικείμεν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6200" indent="-106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376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1:50:39Z</dcterms:created>
  <dc:creator>user</dc:creator>
  <dc:description/>
  <dc:language>en-US</dc:language>
  <cp:lastModifiedBy>DONKEY</cp:lastModifiedBy>
  <dcterms:modified xsi:type="dcterms:W3CDTF">2012-03-28T10:51:35Z</dcterms:modified>
  <cp:revision>13</cp:revision>
  <dc:subject/>
  <dc:title>ΚΕΙΜΕΝΟ ΕΡΓΑΣΙΑΣ</dc:title>
</cp:coreProperties>
</file>