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493-6127-4D4E-9791-8127F747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7E3-FC49-44BD-9A45-34D0FF9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F2A-B6A5-4624-B811-5573022E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19E-5BA0-454B-8E0B-A46756B2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A32B-FE18-46E7-B286-2C3D1E9A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9895-47FA-4D5B-B6CF-6E73310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C2A-11AF-46F0-98B0-C090AF0F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3BA9-686A-45C9-BEA6-6E350D2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4EAF-2CC6-4D97-A9A9-4BE8865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8EF-723A-4DF3-97E6-73C7D39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F1F7-D452-42EB-9FF2-6CE64365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B38-0161-466E-AD0A-C92A9EE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284-68F7-4F27-85A7-C0D1E59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5D5-8A00-4706-81A9-7B3CDAE4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77C-9DD7-4169-AEA5-19AB679B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10E6-A025-46EB-8A43-09D29E0D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BBC4-3C96-46CB-8C85-17EA2375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C64-312C-4C6B-AA90-6B681C87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F51-0DEF-484F-94DC-9E45A17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034-5065-4105-8C69-5A7BF0C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65B-9D58-466A-9029-E0091F0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788-DD26-4E12-955F-550D102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219-7140-4E1C-9DFC-EF34789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A22-8FB6-4F3F-AF48-03A0136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A7FB-E66F-4082-AFAB-A28E165FA9A2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8AF5-40D7-4069-9F9E-F722D23B5894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0066"/>
                </a:solidFill>
                <a:latin typeface="Arial"/>
              </a:rPr>
              <a:t>Προγραμματισμός παιχνιδιού γνώσεων για αυτοκίνητα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rebuchet MS"/>
              </a:rPr>
              <a:t>Ιωάννης Φόρογλου, Ιωάννης Φράγκος, Θεοφάνης Χατζηδιαμαντ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Μαθητές της Β΄ Γυμνασ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Πρότυπου Πειραματικού Σχολείου Πανεπιστημίου Θεσσαλονίκ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Δρ Γεωργία Αλεξούδα – ΠΕ19 Πληροφορικ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3 - Εικόνα" descr="C:\Users\KOUKOULAS\Desktop\ΠΠΣΠΘ\ΛΕΙΤΟΥΡΓΙΑ ΣΧΟΛΕΙΟΥ\Λογότυπος Σχολείου\Νέος Λογότυπος ΠΠΣΠΘ\logo1.jpg"/>
          <p:cNvPicPr/>
          <p:nvPr/>
        </p:nvPicPr>
        <p:blipFill>
          <a:blip r:embed="rId1"/>
          <a:stretch/>
        </p:blipFill>
        <p:spPr>
          <a:xfrm>
            <a:off x="7524720" y="765000"/>
            <a:ext cx="1401840" cy="132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σαγωγή-Σκοπός της ομάδ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79280" y="1844640"/>
            <a:ext cx="8748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Σκοπός της εργασίας μας ήταν να δημιουργήσουμε ένα εύχρηστο και ενδιαφέρον παιχνίδι γνώσεων που αφορά τα αυτοκίνητ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θοδολογί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177336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0" y="1557360"/>
            <a:ext cx="9144000" cy="78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Αρχικά αναζητήσαμε πληροφορίες για τα αυτοκίνη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Συντάξαμε 30 ερωτήσεις σχετικά με το θέμα μας και τις χωρίσαμε σε 3 επίπεδα δυσκολί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Έγινε ο προγραμματισμός του παιχνιδιο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Ελέγχθηκε η ορθότητα του προγράμματος και έγιναν οι απαραίτητες διορθώ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Η θεματολογία του παιχνιδι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παιχνίδι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περιλαμβάνει ερωτήσεις κλειστού τύπου που αφορού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μάρκες αυτοκινήτ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διάσημους οδηγούς αγώ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υτοκινητοβιομηχανίε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γώ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μηχανολογικά θέμ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ίπεδα δυσκολίας και υπολογισμός σκο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Οι ερωτήσεις διακρίνονται σε τρία επίπεδα δυσκολίας. Κάθε επίπεδο δυσκολίας περιλαμβάνει 10 ερωτήσεις. Οι πόντοι που κερδίζει ο παίκτης για κάθε σωστή απάντηση εξαρτώνται από το επίπεδο δυσκολία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Εύκολο επίπεδο:1 πόντ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Μέτριο επίπεδο: 2 πόντο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Δύσκολο επίπεδο: 3 πόντο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ια ενδεικτική εικόνα του παιχνιδι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rcRect l="8203" t="9188" r="8203" b="9188"/>
          <a:stretch/>
        </p:blipFill>
        <p:spPr>
          <a:xfrm>
            <a:off x="1258920" y="1700280"/>
            <a:ext cx="6192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Σενάρια του παιχνιδιού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rcRect l="0" t="3500" r="0" b="3500"/>
          <a:stretch/>
        </p:blipFill>
        <p:spPr>
          <a:xfrm>
            <a:off x="324000" y="1341360"/>
            <a:ext cx="69847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rebuchet MS"/>
              </a:rPr>
              <a:t>Για να παίξετε το παιχνίδι μας πατήστ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Δεξιό βέλος"/>
          <p:cNvSpPr/>
          <p:nvPr/>
        </p:nvSpPr>
        <p:spPr>
          <a:xfrm>
            <a:off x="7380360" y="1844640"/>
            <a:ext cx="93672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08:13:14Z</dcterms:created>
  <dc:creator>User09</dc:creator>
  <dc:description/>
  <dc:language>en-US</dc:language>
  <cp:lastModifiedBy>User</cp:lastModifiedBy>
  <dcterms:modified xsi:type="dcterms:W3CDTF">2014-05-28T21:37:06Z</dcterms:modified>
  <cp:revision>18</cp:revision>
  <dc:subject/>
  <dc:title>Διαφάνεια 1</dc:title>
</cp:coreProperties>
</file>