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8511F-F512-41CF-878B-E3E986E1FD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5E53B-D1A2-4932-964F-1CA730C0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B1B1C-BDB6-45F8-8774-EE4FAF4E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C67AF-3F89-4C5E-B7A4-68535BA0B7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11CA6-F273-4168-97A1-831E18F4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ADFF5-4D14-44F2-8DFA-44404F8F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DDEB9-B70B-4D61-A569-B552CE50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99C27-0F3A-4193-A155-9065D566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69D60-8116-4047-9BC7-B8A3995B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9B84F-7DCF-4D59-A06D-67340CA2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480D3-13F6-49BE-BEBD-364A743D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651B0-C278-4703-8193-BB92E7FF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22D0DC-F6E3-456A-9864-DA406510FB52}" type="slidenum">
              <a:rPr b="0" lang="el-GR" sz="1200" spc="-1" strike="noStrike">
                <a:solidFill>
                  <a:srgbClr val="898989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4400" spc="-1" strike="noStrike">
                <a:solidFill>
                  <a:srgbClr val="000000"/>
                </a:solidFill>
                <a:latin typeface="Comic Sans MS"/>
              </a:rPr>
              <a:t>Άγιοι Τρεις Ιεράρχε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0" y="1197000"/>
            <a:ext cx="4029120" cy="5440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4" name=""/>
          <p:cNvSpPr txBox="1"/>
          <p:nvPr/>
        </p:nvSpPr>
        <p:spPr>
          <a:xfrm>
            <a:off x="250920" y="1844640"/>
            <a:ext cx="3743280" cy="324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0847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2f1311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ded8b"/>
                    </a:gs>
                  </a:gsLst>
                  <a:lin ang="27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man Old Style"/>
              </a:rPr>
              <a:t>ΓΙΟΡΤΗ</a:t>
            </a:r>
            <a:endParaRPr b="1" lang="en-US" sz="1800" spc="1" strike="noStrike">
              <a:ln w="9360">
                <a:solidFill>
                  <a:srgbClr val="2f1311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ded8b"/>
                  </a:gs>
                </a:gsLst>
                <a:lin ang="27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2f1311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ded8b"/>
                    </a:gs>
                  </a:gsLst>
                  <a:lin ang="27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man Old Style"/>
              </a:rPr>
              <a:t>ΤΩΝ</a:t>
            </a:r>
            <a:endParaRPr b="1" lang="en-US" sz="1800" spc="1" strike="noStrike">
              <a:ln w="9360">
                <a:solidFill>
                  <a:srgbClr val="2f1311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ded8b"/>
                  </a:gs>
                </a:gsLst>
                <a:lin ang="27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2f1311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ded8b"/>
                    </a:gs>
                  </a:gsLst>
                  <a:lin ang="27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man Old Style"/>
              </a:rPr>
              <a:t>ΓΡΑΜΜΑΤΩΝ</a:t>
            </a:r>
            <a:endParaRPr b="1" lang="en-US" sz="1800" spc="1" strike="noStrike">
              <a:ln w="9360">
                <a:solidFill>
                  <a:srgbClr val="2f1311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ded8b"/>
                  </a:gs>
                </a:gsLst>
                <a:lin ang="27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slow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dur="indefinite" fill="hold">
                      <p:stCondLst>
                        <p:cond delay="indefinite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4360" y="404640"/>
            <a:ext cx="4176720" cy="5975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Monotype Corsiva"/>
              </a:rPr>
              <a:t>« Όπως δεν τρώμ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Monotype Corsiva"/>
              </a:rPr>
              <a:t>βλαβερές κι επικίνδυνε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Monotype Corsiva"/>
              </a:rPr>
              <a:t>τροφές, έτσι δεν πρέπε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Monotype Corsiva"/>
              </a:rPr>
              <a:t>να διαβάζουμ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Monotype Corsiva"/>
              </a:rPr>
              <a:t>ακατάλληλα βιβλία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Monotype Corsiva"/>
              </a:rPr>
              <a:t>που καταστρέφου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Monotype Corsiva"/>
              </a:rPr>
              <a:t>την ψυχή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Monotype Corsiva"/>
              </a:rPr>
              <a:t>« Άνθρωπος πο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Monotype Corsiva"/>
              </a:rPr>
              <a:t>δε δέχεται συμβουλές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Monotype Corsiva"/>
              </a:rPr>
              <a:t>είναι εχθρό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Monotype Corsiva"/>
              </a:rPr>
              <a:t>του εαυτού του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l-GR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l-GR" sz="1800" spc="-1" strike="noStrike">
                <a:solidFill>
                  <a:srgbClr val="000000"/>
                </a:solidFill>
                <a:latin typeface="Book Antiqu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Μέγας </a:t>
            </a:r>
            <a:r>
              <a:rPr b="1" i="1" lang="el-GR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Βασίλειο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626080" y="328680"/>
            <a:ext cx="2573280" cy="11850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dur="indefinite" fill="hold">
                      <p:stCondLst>
                        <p:cond delay="indefinite"/>
                      </p:stCondLst>
                      <p:childTnLst>
                        <p:par>
                          <p:cTn id="3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dur="indefinite" fill="hold">
                      <p:stCondLst>
                        <p:cond delay="indefinite"/>
                      </p:stCondLst>
                      <p:childTnLst>
                        <p:par>
                          <p:cTn id="3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dur="indefinite" fill="hold">
                      <p:stCondLst>
                        <p:cond delay="indefinite"/>
                      </p:stCondLst>
                      <p:childTnLst>
                        <p:par>
                          <p:cTn id="4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20600" y="692280"/>
            <a:ext cx="2722680" cy="5545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2" name=""/>
          <p:cNvSpPr/>
          <p:nvPr/>
        </p:nvSpPr>
        <p:spPr>
          <a:xfrm>
            <a:off x="2987640" y="260280"/>
            <a:ext cx="4753080" cy="6048360"/>
          </a:xfrm>
          <a:prstGeom prst="verticalScroll">
            <a:avLst>
              <a:gd name="adj" fmla="val 12500"/>
            </a:avLst>
          </a:prstGeom>
          <a:solidFill>
            <a:srgbClr val="ddf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l-GR" sz="2200" spc="-1" strike="noStrike">
                <a:solidFill>
                  <a:srgbClr val="000000"/>
                </a:solidFill>
                <a:latin typeface="Monotype Corsiva"/>
              </a:rPr>
              <a:t>«</a:t>
            </a:r>
            <a:r>
              <a:rPr b="1" i="1" lang="el-GR" sz="2200" spc="-1" strike="noStrike">
                <a:solidFill>
                  <a:srgbClr val="000000"/>
                </a:solidFill>
                <a:latin typeface="Monotype Corsiva"/>
              </a:rPr>
              <a:t>Να μιμείσαι το έργο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200" spc="-1" strike="noStrike">
                <a:solidFill>
                  <a:srgbClr val="000000"/>
                </a:solidFill>
                <a:latin typeface="Monotype Corsiva"/>
              </a:rPr>
              <a:t>της σοφής μέλισσας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200" spc="-1" strike="noStrike">
                <a:solidFill>
                  <a:srgbClr val="000000"/>
                </a:solidFill>
                <a:latin typeface="Monotype Corsiva"/>
              </a:rPr>
              <a:t>που με πολλή  σοφί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200" spc="-1" strike="noStrike">
                <a:solidFill>
                  <a:srgbClr val="000000"/>
                </a:solidFill>
                <a:latin typeface="Monotype Corsiva"/>
              </a:rPr>
              <a:t>τρυγάει από κάθε άνθο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200" spc="-1" strike="noStrike">
                <a:solidFill>
                  <a:srgbClr val="000000"/>
                </a:solidFill>
                <a:latin typeface="Monotype Corsiva"/>
              </a:rPr>
              <a:t>μόνον ό,τι είναι χρήσιμο.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200" spc="-1" strike="noStrike">
                <a:solidFill>
                  <a:srgbClr val="000000"/>
                </a:solidFill>
                <a:latin typeface="Monotype Corsiva"/>
              </a:rPr>
              <a:t>«Να τιμούμε τη μητέρ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l-GR" sz="2200" spc="-1" strike="noStrike">
                <a:solidFill>
                  <a:srgbClr val="000000"/>
                </a:solidFill>
                <a:latin typeface="Monotype Corsiva"/>
              </a:rPr>
              <a:t>μας.  Ο καθένας έχει τ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l-GR" sz="2200" spc="-1" strike="noStrike">
                <a:solidFill>
                  <a:srgbClr val="000000"/>
                </a:solidFill>
                <a:latin typeface="Monotype Corsiva"/>
              </a:rPr>
              <a:t>δική του μητέρα.  Όλο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200" spc="-1" strike="noStrike">
                <a:solidFill>
                  <a:srgbClr val="000000"/>
                </a:solidFill>
                <a:latin typeface="Monotype Corsiva"/>
              </a:rPr>
              <a:t>όμως έχουμε κοινή μητέρ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l-GR" sz="2200" spc="-1" strike="noStrike">
                <a:solidFill>
                  <a:srgbClr val="000000"/>
                </a:solidFill>
                <a:latin typeface="Monotype Corsiva"/>
              </a:rPr>
              <a:t>την Πατρίδα και αυτή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l-GR" sz="2200" spc="-1" strike="noStrike">
                <a:solidFill>
                  <a:srgbClr val="000000"/>
                </a:solidFill>
                <a:latin typeface="Monotype Corsiva"/>
              </a:rPr>
              <a:t>πρέπει να τιμούμ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l-GR" sz="2200" spc="-1" strike="noStrike">
                <a:solidFill>
                  <a:srgbClr val="000000"/>
                </a:solidFill>
                <a:latin typeface="Monotype Corsiva"/>
              </a:rPr>
              <a:t>ιδιαίτερα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i="1" lang="el-GR" sz="2200" spc="-1" strike="noStrike">
                <a:solidFill>
                  <a:srgbClr val="000000"/>
                </a:solidFill>
                <a:latin typeface="Book Antiqua"/>
              </a:rPr>
              <a:t>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2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1" i="1" lang="el-GR" sz="2200" spc="-1" strike="noStrike">
                <a:solidFill>
                  <a:srgbClr val="000000"/>
                </a:solidFill>
                <a:latin typeface="Book Antiqua"/>
              </a:rPr>
              <a:t>Γρηγόριος Θεολόγο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dur="indefinite" fill="hold">
                      <p:stCondLst>
                        <p:cond delay="indefinite"/>
                      </p:stCondLst>
                      <p:childTnLst>
                        <p:par>
                          <p:cTn id="4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dur="indefinite" fill="hold">
                      <p:stCondLst>
                        <p:cond delay="indefinite"/>
                      </p:stCondLst>
                      <p:childTnLst>
                        <p:par>
                          <p:cTn id="4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dur="indefinite" fill="hold">
                      <p:stCondLst>
                        <p:cond delay="indefinite"/>
                      </p:stCondLst>
                      <p:childTnLst>
                        <p:par>
                          <p:cTn id="5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067280" y="907920"/>
            <a:ext cx="4752720" cy="5329440"/>
          </a:xfrm>
          <a:prstGeom prst="vertic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i="1" lang="el-GR" sz="2000" spc="-1" strike="noStrike">
                <a:solidFill>
                  <a:srgbClr val="000000"/>
                </a:solidFill>
                <a:latin typeface="Monotype Corsiva"/>
              </a:rPr>
              <a:t>«Δεν έχει τόση αξία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Monotype Corsiva"/>
              </a:rPr>
              <a:t>το να γεννηθεί κανεί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Monotype Corsiva"/>
              </a:rPr>
              <a:t>από μεγάλους σε πλούτο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Monotype Corsiva"/>
              </a:rPr>
              <a:t>και σε αξίωμα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Monotype Corsiva"/>
              </a:rPr>
              <a:t>όσο το να γίνε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Monotype Corsiva"/>
              </a:rPr>
              <a:t>ο ίδιος μεγάλος.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Monotype Corsiva"/>
              </a:rPr>
              <a:t>«Το χρυσάφι δε βρέθηκ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Monotype Corsiva"/>
              </a:rPr>
              <a:t>για να δενόμαστε μ’ αυτ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Monotype Corsiva"/>
              </a:rPr>
              <a:t>– </a:t>
            </a:r>
            <a:r>
              <a:rPr b="1" i="1" lang="el-GR" sz="2000" spc="-1" strike="noStrike">
                <a:solidFill>
                  <a:srgbClr val="000000"/>
                </a:solidFill>
                <a:latin typeface="Monotype Corsiva"/>
              </a:rPr>
              <a:t>εννοώντας τις χρυσέ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Monotype Corsiva"/>
              </a:rPr>
              <a:t>αλυσίδες και τα κοσμήματα 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l-GR" sz="2000" spc="-1" strike="noStrike">
                <a:solidFill>
                  <a:srgbClr val="000000"/>
                </a:solidFill>
                <a:latin typeface="Monotype Corsiva"/>
              </a:rPr>
              <a:t>αλλά για να λύνουμ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Monotype Corsiva"/>
              </a:rPr>
              <a:t>τους δεμένους.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Book Antiqua"/>
              </a:rPr>
              <a:t>Ιωάννης Χρυσόστομο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i="1" lang="el-GR" sz="2000" spc="-1" strike="noStrike">
                <a:solidFill>
                  <a:srgbClr val="000000"/>
                </a:solidFill>
                <a:latin typeface="Book Antiqua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55640" y="620640"/>
            <a:ext cx="2616120" cy="5905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slow">
    <p:newsflash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dur="indefinite" fill="hold">
                      <p:stCondLst>
                        <p:cond delay="indefinite"/>
                      </p:stCondLst>
                      <p:childTnLst>
                        <p:par>
                          <p:cTn id="5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dur="indefinite" fill="hold">
                      <p:stCondLst>
                        <p:cond delay="indefinite"/>
                      </p:stCondLst>
                      <p:childTnLst>
                        <p:par>
                          <p:cTn id="5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dur="indefinite" fill="hold">
                      <p:stCondLst>
                        <p:cond delay="indefinite"/>
                      </p:stCondLst>
                      <p:childTnLst>
                        <p:par>
                          <p:cTn id="6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0"/>
            <a:ext cx="8893080" cy="65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omic Sans MS"/>
              </a:rPr>
              <a:t>Στις 30 Ιανουαρίου εορτάζουμε τους τρεις Ιεράρχες που είναι ο </a:t>
            </a:r>
            <a:r>
              <a:rPr b="1" i="1" lang="el-GR" sz="3200" spc="-1" strike="noStrike">
                <a:solidFill>
                  <a:srgbClr val="000000"/>
                </a:solidFill>
                <a:latin typeface="Comic Sans MS"/>
              </a:rPr>
              <a:t>Μέγας Βασίλειος</a:t>
            </a:r>
            <a:r>
              <a:rPr b="1" lang="el-GR" sz="3200" spc="-1" strike="noStrike">
                <a:solidFill>
                  <a:srgbClr val="000000"/>
                </a:solidFill>
                <a:latin typeface="Comic Sans MS"/>
              </a:rPr>
              <a:t>, ο </a:t>
            </a:r>
            <a:r>
              <a:rPr b="1" i="1" lang="el-GR" sz="3200" spc="-1" strike="noStrike">
                <a:solidFill>
                  <a:srgbClr val="000000"/>
                </a:solidFill>
                <a:latin typeface="Comic Sans MS"/>
              </a:rPr>
              <a:t>Ιωάννης ο Χρυσόστομος</a:t>
            </a:r>
            <a:r>
              <a:rPr b="1" lang="el-GR" sz="3200" spc="-1" strike="noStrike">
                <a:solidFill>
                  <a:srgbClr val="000000"/>
                </a:solidFill>
                <a:latin typeface="Comic Sans MS"/>
              </a:rPr>
              <a:t> και ο </a:t>
            </a:r>
            <a:r>
              <a:rPr b="1" i="1" lang="el-GR" sz="3200" spc="-1" strike="noStrike">
                <a:solidFill>
                  <a:srgbClr val="000000"/>
                </a:solidFill>
                <a:latin typeface="Comic Sans MS"/>
              </a:rPr>
              <a:t>Γρηγόριος ο Θεoλόγoς</a:t>
            </a:r>
            <a:r>
              <a:rPr b="1" lang="el-GR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4211640" y="35733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Comic Sans MS"/>
              </a:rPr>
              <a:t>Γιατί την γιορτή των Τριών Ιεραρχών την αποκαλούμε και «γιορτή των Γραμμάτων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2280" y="4071960"/>
            <a:ext cx="3578400" cy="5327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067280" y="4941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omic Sans MS"/>
              </a:rPr>
              <a:t>Η γιορτή τους λέγεται και </a:t>
            </a:r>
            <a:r>
              <a:rPr b="1" i="1" lang="el-GR" sz="1800" spc="-1" strike="noStrike" u="sng">
                <a:solidFill>
                  <a:srgbClr val="000000"/>
                </a:solidFill>
                <a:uFillTx/>
                <a:latin typeface="Comic Sans MS"/>
              </a:rPr>
              <a:t>Γιορτή των Γραμμάτων</a:t>
            </a:r>
            <a:r>
              <a:rPr b="1" i="1" lang="el-GR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l-GR" sz="1800" spc="-1" strike="noStrike">
                <a:solidFill>
                  <a:srgbClr val="000000"/>
                </a:solidFill>
                <a:latin typeface="Comic Sans MS"/>
              </a:rPr>
              <a:t> γιατί και οι τρεις Ιεράρχες ήταν μεγάλοι  Δάσκαλοι  και  Πατέρες  της Εκκλησία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2332080"/>
            <a:ext cx="8713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Γεννήθηκε στην Καισάρεια της Καππαδοκίας το 329 μΧ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Σπούδασε Ρητορική, Γραμματική, Αστρονομία, Φιλοσοφία, Ιατρική και Γεωμετρί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Διακρίθηκε για την αφοσίωση του στην ορθόδοξη πίστη μας αλλά και για το πλούσιο φιλανθρωπικό του έργο, μοιράζοντας όλη την περιουσία του στους φτωχού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Ίδρυσε τη Βασιλειάδα, ένα πολύ μεγάλο φιλανθρωπικό ίδρυμα, που περιλάμβανε νοσοκομεία, ορφανοτροφείο, ξενώνες, γηροκομείο και είχε σκοπό τη δωρεάν περίθαλψη όσων είχαν ανάγκη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Πέθανε την 1η Ιανουαρίου το 379 και η εκκλησία μας τιμά τη μνήμη του κάθε πρώτη Ιανουαρίο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348000" y="549360"/>
            <a:ext cx="1249560" cy="1619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3" name=""/>
          <p:cNvSpPr/>
          <p:nvPr/>
        </p:nvSpPr>
        <p:spPr>
          <a:xfrm>
            <a:off x="2805480" y="0"/>
            <a:ext cx="27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Comic Sans MS"/>
              </a:rPr>
              <a:t>έγας Βασίλειο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4360" y="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800" spc="-1" strike="noStrike" u="sng">
                <a:solidFill>
                  <a:srgbClr val="000000"/>
                </a:solidFill>
                <a:uFillTx/>
                <a:latin typeface="Comic Sans MS"/>
              </a:rPr>
              <a:t>Γρηγόριος ο Θεολόγο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100" spc="-1" strike="noStrike">
                <a:solidFill>
                  <a:srgbClr val="000000"/>
                </a:solidFill>
                <a:latin typeface="Comic Sans MS"/>
              </a:rPr>
              <a:t>Γεννήθηκε στη Ναζιανζό της Καππαδοκίας το 329 μΧ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100" spc="-1" strike="noStrike">
                <a:solidFill>
                  <a:srgbClr val="000000"/>
                </a:solidFill>
                <a:latin typeface="Comic Sans MS"/>
              </a:rPr>
              <a:t>σπούδασε στα καλύτερα σχολεία της εποχής του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100" spc="-1" strike="noStrike">
                <a:solidFill>
                  <a:srgbClr val="000000"/>
                </a:solidFill>
                <a:latin typeface="Comic Sans MS"/>
              </a:rPr>
              <a:t>Μετά τις σπουδές του έμεινε για δέκα χρόνια στη Αθήνα διδάσκοντας ρητορική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100" spc="-1" strike="noStrike">
                <a:solidFill>
                  <a:srgbClr val="000000"/>
                </a:solidFill>
                <a:latin typeface="Comic Sans MS"/>
              </a:rPr>
              <a:t>Αργότερα πήγε στον Πόντο, όπου συνάντησε το φίλο του Βασίλειο και έμεινε μαζί του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100" spc="-1" strike="noStrike">
                <a:solidFill>
                  <a:srgbClr val="000000"/>
                </a:solidFill>
                <a:latin typeface="Comic Sans MS"/>
              </a:rPr>
              <a:t>Ο Γρηγόριος βοήθησε στην αντιμετώπιση της αίρεσης του Αρείου στην Κωνσταντινούπολη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100" spc="-1" strike="noStrike">
                <a:solidFill>
                  <a:srgbClr val="000000"/>
                </a:solidFill>
                <a:latin typeface="Comic Sans MS"/>
              </a:rPr>
              <a:t>Με τα φλογερά του κηρύγματα έκανε αρκετούς Αρειανούς να πιστέψουν στη σωστή διδασκαλία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100" spc="-1" strike="noStrike">
                <a:solidFill>
                  <a:srgbClr val="000000"/>
                </a:solidFill>
                <a:latin typeface="Comic Sans MS"/>
              </a:rPr>
              <a:t>Έτσι οι χριστιανοί τον ονόμασαν θεολόγο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100" spc="-1" strike="noStrike">
                <a:solidFill>
                  <a:srgbClr val="000000"/>
                </a:solidFill>
                <a:latin typeface="Comic Sans MS"/>
              </a:rPr>
              <a:t>Πέθανε στις 25 Ιανουαρίου το 391, σε ένα ερημικό μέρος, όπου ασκήθηκε στην προσευχή, τη νηστεία και τη μελέτη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100" spc="-1" strike="noStrike">
                <a:solidFill>
                  <a:srgbClr val="000000"/>
                </a:solidFill>
                <a:latin typeface="Comic Sans MS"/>
              </a:rPr>
              <a:t>Η εκκλησία μας τιμά τη μνήμη του στις 25 Ιανουαρίου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24360" y="620640"/>
            <a:ext cx="1295280" cy="1569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slow">
    <p:newsflash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dur="indefinite" fill="hold">
                      <p:stCondLst>
                        <p:cond delay="indefinite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dur="indefinite" fill="hold">
                      <p:stCondLst>
                        <p:cond delay="indefinite"/>
                      </p:stCondLst>
                      <p:childTnLst>
                        <p:par>
                          <p:cTn id="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dur="indefinite" fill="hold">
                      <p:stCondLst>
                        <p:cond delay="indefinite"/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dur="indefinite" fill="hold">
                      <p:stCondLst>
                        <p:cond delay="indefinite"/>
                      </p:stCondLst>
                      <p:childTnLst>
                        <p:par>
                          <p:cTn id="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6560" y="-24300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 u="sng">
                <a:solidFill>
                  <a:srgbClr val="000000"/>
                </a:solidFill>
                <a:uFillTx/>
                <a:latin typeface="Comic Sans MS"/>
              </a:rPr>
              <a:t>Ιωάννης ο Χρυσόστομο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66560" y="2060640"/>
            <a:ext cx="82296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500" spc="-1" strike="noStrike">
                <a:solidFill>
                  <a:srgbClr val="000000"/>
                </a:solidFill>
                <a:latin typeface="Comic Sans MS"/>
              </a:rPr>
              <a:t>Γεννήθηκε στην Αντιόχεια της Συρίας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500" spc="-1" strike="noStrike">
                <a:solidFill>
                  <a:srgbClr val="000000"/>
                </a:solidFill>
                <a:latin typeface="Comic Sans MS"/>
              </a:rPr>
              <a:t>Σπούδασε Ρητορική και θεολογία και μετά έζησε σε διάφορα μοναστήρια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500" spc="-1" strike="noStrike">
                <a:solidFill>
                  <a:srgbClr val="000000"/>
                </a:solidFill>
                <a:latin typeface="Comic Sans MS"/>
              </a:rPr>
              <a:t>Έγραψε πολλά βιβλία καθώς και την </a:t>
            </a:r>
            <a:r>
              <a:rPr b="1" i="1" lang="el-GR" sz="2500" spc="-1" strike="noStrike">
                <a:solidFill>
                  <a:srgbClr val="000000"/>
                </a:solidFill>
                <a:latin typeface="Comic Sans MS"/>
              </a:rPr>
              <a:t>κυριακάτικη λειτουργία </a:t>
            </a:r>
            <a:r>
              <a:rPr b="1" lang="el-GR" sz="2500" spc="-1" strike="noStrike">
                <a:solidFill>
                  <a:srgbClr val="000000"/>
                </a:solidFill>
                <a:latin typeface="Comic Sans MS"/>
              </a:rPr>
              <a:t>της εκκλησίας μας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500" spc="-1" strike="noStrike">
                <a:solidFill>
                  <a:srgbClr val="000000"/>
                </a:solidFill>
                <a:latin typeface="Comic Sans MS"/>
              </a:rPr>
              <a:t>Εκφωνούσε ωραίους θρησκευτικούς λόγους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500" spc="-1" strike="noStrike">
                <a:solidFill>
                  <a:srgbClr val="000000"/>
                </a:solidFill>
                <a:latin typeface="Comic Sans MS"/>
              </a:rPr>
              <a:t>Ο κόσμος έλεγε χαρακτηριστικά ότι από το στόμα του « έρρεε χρυσός » και έτσι ονομάστηκε Χρυσόστομος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500" spc="-1" strike="noStrike">
                <a:solidFill>
                  <a:srgbClr val="000000"/>
                </a:solidFill>
                <a:latin typeface="Comic Sans MS"/>
              </a:rPr>
              <a:t>Εξορίστηκε στον Πόντο και μετά στην Αρμενία, όπου και πέθανε εξασθενημένος σε ηλικία 62 χρονών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500" spc="-1" strike="noStrike">
                <a:solidFill>
                  <a:srgbClr val="000000"/>
                </a:solidFill>
                <a:latin typeface="Comic Sans MS"/>
              </a:rPr>
              <a:t>Η εκκλησία μας τιμά τη μνήμη του στις 13 Νοεμβρίου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995640" y="404640"/>
            <a:ext cx="1440000" cy="15717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slow">
    <p:newsflash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dur="indefinite" fill="hold">
                      <p:stCondLst>
                        <p:cond delay="indefinite"/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dur="indefinite" fill="hold">
                      <p:stCondLst>
                        <p:cond delay="indefinite"/>
                      </p:stCondLst>
                      <p:childTnLst>
                        <p:par>
                          <p:cTn id="1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dur="indefinite" fill="hold">
                      <p:stCondLst>
                        <p:cond delay="indefinite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dur="indefinite" fill="hold">
                      <p:stCondLst>
                        <p:cond delay="indefinite"/>
                      </p:stCondLst>
                      <p:childTnLst>
                        <p:par>
                          <p:cTn id="1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dur="indefinite" fill="hold">
                      <p:stCondLst>
                        <p:cond delay="indefinite"/>
                      </p:stCondLst>
                      <p:childTnLst>
                        <p:par>
                          <p:cTn id="2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dur="indefinite" fill="hold">
                      <p:stCondLst>
                        <p:cond delay="indefinite"/>
                      </p:stCondLst>
                      <p:childTnLst>
                        <p:par>
                          <p:cTn id="2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dur="indefinite" fill="hold">
                      <p:stCondLst>
                        <p:cond delay="indefinite"/>
                      </p:stCondLst>
                      <p:childTnLst>
                        <p:par>
                          <p:cTn id="2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dur="indefinite" fill="hold">
                      <p:stCondLst>
                        <p:cond delay="indefinite"/>
                      </p:stCondLst>
                      <p:childTnLst>
                        <p:par>
                          <p:cTn id="2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dur="indefinite" fill="hold">
                      <p:stCondLst>
                        <p:cond delay="indefinite"/>
                      </p:stCondLst>
                      <p:childTnLst>
                        <p:par>
                          <p:cTn id="2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57200" y="260280"/>
            <a:ext cx="8229600" cy="64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omic Sans MS"/>
              </a:rPr>
              <a:t>Γιατί οι Άγιοι Τρείς Ιεράρχες εορτάζονται και οι τρεις μαζί, ενώ υπάρχουν ήδη μέρες που εορτάζεται ο καθένας ξεχωριστά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dur="indefinite" fill="hold">
                      <p:stCondLst>
                        <p:cond delay="indefinite"/>
                      </p:stCondLst>
                      <p:childTnLst>
                        <p:par>
                          <p:cTn id="2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411280" y="0"/>
            <a:ext cx="6624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l-GR" sz="2600" spc="-1" strike="noStrike">
                <a:solidFill>
                  <a:srgbClr val="000000"/>
                </a:solidFill>
                <a:latin typeface="Comic Sans MS"/>
              </a:rPr>
              <a:t>Την περίοδο που διοικούσε ο αυτοκράτορας Αλέξιος Α’ ο Κομνηνός οι χριστιανοί, μάλωναν μεταξύ τους, με αποτέλεσμα να χωριστούν σε 3 αντίπαλες ομάδες, </a:t>
            </a:r>
            <a:r>
              <a:rPr b="1" lang="el-G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2600" spc="-1" strike="noStrike">
                <a:solidFill>
                  <a:srgbClr val="000000"/>
                </a:solidFill>
                <a:latin typeface="Comic Sans MS"/>
              </a:rPr>
              <a:t>στους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600" spc="-1" strike="noStrike" u="sng">
                <a:solidFill>
                  <a:srgbClr val="000000"/>
                </a:solidFill>
                <a:uFillTx/>
                <a:latin typeface="Comic Sans MS"/>
              </a:rPr>
              <a:t>Βασιλείτες</a:t>
            </a:r>
            <a:r>
              <a:rPr b="1" lang="el-G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6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1" lang="el-GR" sz="2600" spc="-1" strike="noStrike">
                <a:solidFill>
                  <a:srgbClr val="000000"/>
                </a:solidFill>
                <a:latin typeface="Comic Sans MS"/>
              </a:rPr>
              <a:t>αυτοί που θαύμαζαν τον Μέγα Βασίλειο για την μεγάλη φιλανθρωπική του δράση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600" spc="-1" strike="noStrike" u="sng">
                <a:solidFill>
                  <a:srgbClr val="000000"/>
                </a:solidFill>
                <a:uFillTx/>
                <a:latin typeface="Comic Sans MS"/>
              </a:rPr>
              <a:t>Γρηγορίτες</a:t>
            </a:r>
            <a:r>
              <a:rPr b="1" lang="el-GR" sz="2600" spc="-1" strike="noStrike">
                <a:solidFill>
                  <a:srgbClr val="000000"/>
                </a:solidFill>
                <a:latin typeface="Calibri"/>
              </a:rPr>
              <a:t> → </a:t>
            </a:r>
            <a:r>
              <a:rPr b="1" lang="el-GR" sz="2600" spc="-1" strike="noStrike">
                <a:solidFill>
                  <a:srgbClr val="000000"/>
                </a:solidFill>
                <a:latin typeface="Comic Sans MS"/>
              </a:rPr>
              <a:t>αυτοί που θαύμαζαν τον Αγ. Γρηγόριο τον Θεολόγο για τον λεπτό του χαρακτήρα και την μεγάλη μόρφωση που είχε στη Θεολογία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600" spc="-1" strike="noStrike" u="sng">
                <a:solidFill>
                  <a:srgbClr val="000000"/>
                </a:solidFill>
                <a:uFillTx/>
                <a:latin typeface="Comic Sans MS"/>
              </a:rPr>
              <a:t>Ιωαννίτες</a:t>
            </a:r>
            <a:r>
              <a:rPr b="1" lang="el-GR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6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1" lang="el-GR" sz="2600" spc="-1" strike="noStrike">
                <a:solidFill>
                  <a:srgbClr val="000000"/>
                </a:solidFill>
                <a:latin typeface="Comic Sans MS"/>
              </a:rPr>
              <a:t>αυτοί που θαύμαζαν τον Αγ. Ιωάννη τον Χρυσόστομο για το μεγάλο του ταλέντο που είχε στη ρητορική, δηλαδή είχε το χάρισμα να μιλάει ωραία.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1249200" cy="1621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24000" y="3141720"/>
            <a:ext cx="1295280" cy="1496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50920" y="5013360"/>
            <a:ext cx="1368360" cy="1716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9" name=""/>
          <p:cNvSpPr/>
          <p:nvPr/>
        </p:nvSpPr>
        <p:spPr>
          <a:xfrm>
            <a:off x="1982880" y="1844640"/>
            <a:ext cx="4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  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124000" y="373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763640" y="5373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        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dur="indefinite" fill="hold">
                      <p:stCondLst>
                        <p:cond delay="indefinite"/>
                      </p:stCondLst>
                      <p:childTnLst>
                        <p:par>
                          <p:cTn id="2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dur="indefinite" fill="hold">
                      <p:stCondLst>
                        <p:cond delay="indefinite"/>
                      </p:stCondLst>
                      <p:childTnLst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dur="indefinite" fill="hold">
                      <p:stCondLst>
                        <p:cond delay="indefinite"/>
                      </p:stCondLst>
                      <p:childTnLst>
                        <p:par>
                          <p:cTn id="2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1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dur="indefinite" fill="hold">
                      <p:stCondLst>
                        <p:cond delay="indefinite"/>
                      </p:stCondLst>
                      <p:childTnLst>
                        <p:par>
                          <p:cTn id="2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dur="indefinite" fill="hold">
                      <p:stCondLst>
                        <p:cond delay="indefinite"/>
                      </p:stCondLst>
                      <p:childTnLst>
                        <p:par>
                          <p:cTn id="2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dur="indefinite" fill="hold">
                      <p:stCondLst>
                        <p:cond delay="indefinite"/>
                      </p:stCondLst>
                      <p:childTnLst>
                        <p:par>
                          <p:cTn id="2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9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dur="indefinite" fill="hold">
                      <p:stCondLst>
                        <p:cond delay="indefinite"/>
                      </p:stCondLst>
                      <p:childTnLst>
                        <p:par>
                          <p:cTn id="2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dur="indefinite" fill="hold">
                      <p:stCondLst>
                        <p:cond delay="indefinite"/>
                      </p:stCondLst>
                      <p:childTnLst>
                        <p:par>
                          <p:cTn id="2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dur="indefinite" fill="hold">
                      <p:stCondLst>
                        <p:cond delay="indefinite"/>
                      </p:stCondLst>
                      <p:childTnLst>
                        <p:par>
                          <p:cTn id="2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7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dur="indefinite" fill="hold">
                      <p:stCondLst>
                        <p:cond delay="indefinite"/>
                      </p:stCondLst>
                      <p:childTnLst>
                        <p:par>
                          <p:cTn id="2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916360" y="0"/>
            <a:ext cx="6227640" cy="67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Αυτές οι ομάδες χριστιανών δημιουργούσαν στην Κωνσταντινούπολη πολλά προβλήματα που χώριζαν τους Χριστιανούς μεταξύ του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Εκείνα τα χρόνια, ζούσε ένας πολύ ευλαβής επίσκοπος ο Ιωάννης ο οποίος προσευχόταν στο Θεό για να σταματήσει αυτή η κόντρα με τους ανθρώπου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Ένα βράδυ στον ύπνο του, είδε τους τρεις Ιεράρχες οι οποίοι του είπαν να πει στους χριστιανούς να σταματήσουν να μαλώνου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Ακόμη, έδωσαν εντολή στον επίσκοπο Ιωάννη να ορίσει μια ημερομηνία για να εορτάζονται και οι τρεις την ίδια μέρα ώστε να εορτάζονται ενωμένο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Έτσι λοιπόν, ο επίσκοπος έκανε ό,τι του όρισαν οι τρείς Άγιο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5440" y="1828800"/>
            <a:ext cx="2694240" cy="62676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dur="indefinite" fill="hold">
                      <p:stCondLst>
                        <p:cond delay="indefinite"/>
                      </p:stCondLst>
                      <p:childTnLst>
                        <p:par>
                          <p:cTn id="3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dur="indefinite" fill="hold">
                      <p:stCondLst>
                        <p:cond delay="indefinite"/>
                      </p:stCondLst>
                      <p:childTnLst>
                        <p:par>
                          <p:cTn id="3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dur="indefinite" fill="hold">
                      <p:stCondLst>
                        <p:cond delay="indefinite"/>
                      </p:stCondLst>
                      <p:childTnLst>
                        <p:par>
                          <p:cTn id="3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dur="indefinite" fill="hold">
                      <p:stCondLst>
                        <p:cond delay="indefinite"/>
                      </p:stCondLst>
                      <p:childTnLst>
                        <p:par>
                          <p:cTn id="3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dur="indefinite" fill="hold">
                      <p:stCondLst>
                        <p:cond delay="indefinite"/>
                      </p:stCondLst>
                      <p:childTnLst>
                        <p:par>
                          <p:cTn id="3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dur="indefinite" fill="hold">
                      <p:stCondLst>
                        <p:cond delay="indefinite"/>
                      </p:stCondLst>
                      <p:childTnLst>
                        <p:par>
                          <p:cTn id="3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79280" y="0"/>
            <a:ext cx="8856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Αμέσως οι ομάδες των αντίπαλων χριστιανών ειρήνευσαν και ο Ιωάννης πρότεινε στο εξής να εορτάζονται μαζί στις 30 Ιανουαρίου και η Εκκλησία μας το καθιέρωσ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Η εορτή των Τριών Ιεραρχών είναι επομένως ο συνεορτασμός όλων των Πατέρων της Εκκλησίας, τους οποίους ανέδειξε το Άγιο Πνεύμα από εποχή σε εποχή για να είναι οδηγοί για εμάς και στήριγμα της Εκκλησία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Ας δούμε τώρα, παιδιά, τι μας συμβουλεύει ο κάθε Άγιος ξεχωριστά. . . . . . . 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dur="indefinite" fill="hold">
                      <p:stCondLst>
                        <p:cond delay="indefinite"/>
                      </p:stCondLst>
                      <p:childTnLst>
                        <p:par>
                          <p:cTn id="3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dur="indefinite" fill="hold">
                      <p:stCondLst>
                        <p:cond delay="indefinite"/>
                      </p:stCondLst>
                      <p:childTnLst>
                        <p:par>
                          <p:cTn id="3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dur="indefinite" fill="hold">
                      <p:stCondLst>
                        <p:cond delay="indefinite"/>
                      </p:stCondLst>
                      <p:childTnLst>
                        <p:par>
                          <p:cTn id="3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dur="indefinite" fill="hold">
                      <p:stCondLst>
                        <p:cond delay="indefinite"/>
                      </p:stCondLst>
                      <p:childTnLst>
                        <p:par>
                          <p:cTn id="3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3T22:02:28Z</dcterms:created>
  <dc:creator>ArsenisElpida</dc:creator>
  <dc:description/>
  <dc:language>en-US</dc:language>
  <cp:lastModifiedBy/>
  <dcterms:modified xsi:type="dcterms:W3CDTF">2022-01-26T19:40:40Z</dcterms:modified>
  <cp:revision>45</cp:revision>
  <dc:subject/>
  <dc:title>Άγιοι Τρεις Ιεράρχες</dc:title>
</cp:coreProperties>
</file>