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51B-7552-473F-8A67-B55FE5D7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A7B-6B15-4DAE-A130-C866C6F8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468-5138-42F8-B71E-F89E65EE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017-53ED-4984-9888-F69FE705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C40-726A-49DD-A9C3-51D3E836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8F6-6A36-4BED-8D72-CC4F8774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5BF-9BDB-4A04-8BBD-EE7E48C9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EEF-8870-42DE-AAAB-881E796F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EDD-658E-4C86-802B-1D2A94B8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ABF-A293-4C94-901D-DBB62C9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234-6514-4B27-B4E3-BB5BAC59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9E4-750F-4E6B-93AB-A8ED3493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F248-C42B-427C-AAD4-32F25C14EF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11B2-BF81-4F80-B3F1-18CBFD694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ΤΑ ΖΩΑ ΤΟΥ ΑΓΡΟΚΤΗΜΑΤΟ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219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E:\ΦΩΤΟ\ΖΩΑΚΙΑ ΦΑΡΜΑΣ.jpg"/>
          <p:cNvPicPr/>
          <p:nvPr/>
        </p:nvPicPr>
        <p:blipFill>
          <a:blip r:embed="rId1"/>
          <a:stretch/>
        </p:blipFill>
        <p:spPr>
          <a:xfrm>
            <a:off x="1371600" y="1371600"/>
            <a:ext cx="6248520" cy="4495680"/>
          </a:xfrm>
          <a:prstGeom prst="rect">
            <a:avLst/>
          </a:prstGeom>
          <a:ln w="0">
            <a:noFill/>
          </a:ln>
        </p:spPr>
      </p:pic>
      <p:sp>
        <p:nvSpPr>
          <p:cNvPr id="4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F2FD-E201-444D-82CA-B7CC6B074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α ζώα του αγροκτήματος μας προσφέρουν πολύ σημαντικά πράγματα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Comic Sans MS"/>
              </a:rPr>
              <a:t>Πρώτα –πρώτα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μας δίνουν πολλές τροφέ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Ο οργανισμός μας καθημερινά για να κάνει τις φυσικές του δραστηριότητες, όπως το περπάτημα, το διάβασμα, τη γυμναστική, το τρέξιμο και άλλα, έχει ανάγκη από ενέργεια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Την  ενέργεια αυτή την παίρνει από τις τροφές που καταναλώνε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Comic Sans MS"/>
              </a:rPr>
              <a:t>Δεύτερο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μας δίνουν τρίχωμα και δέρμα για τα ρούχα μας, τις κουβέρτες μας, τα παπούτσια μας, τα χαλιά μας και άλλ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D87A-709C-4ABC-8769-D31ADABB9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42900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86600" y="1066680"/>
            <a:ext cx="167652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315200" y="4724280"/>
            <a:ext cx="1623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Πουλερικά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α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πουλερικά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μιας φάρμας είνα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οι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κότε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οι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πάπιε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χήνε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οι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γαλοπούλε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και μας δίνουν το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κρέα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τους τα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αυγά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ους και τ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πούπουλ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του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34340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α αυγά έχουν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βιταμίνε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όπως: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,B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2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3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για καλή όραση και γερά οστά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ο κρέας έχει χαμηλό ποσοστό λίπους μας δίνει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Πρωτεΐνη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για τους ιστούς του σώματ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Με τα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πούπουλα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τιάχνουμε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μαξιλάρι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παπλώματ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μπουφάν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E:\ΦΩΤΟ\κότες.jpg"/>
          <p:cNvPicPr/>
          <p:nvPr/>
        </p:nvPicPr>
        <p:blipFill>
          <a:blip r:embed="rId1"/>
          <a:stretch/>
        </p:blipFill>
        <p:spPr>
          <a:xfrm>
            <a:off x="838080" y="152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E:\ΦΩΤΟ\φρέσκα αυγά.jpg"/>
          <p:cNvPicPr/>
          <p:nvPr/>
        </p:nvPicPr>
        <p:blipFill>
          <a:blip r:embed="rId2"/>
          <a:stretch/>
        </p:blipFill>
        <p:spPr>
          <a:xfrm>
            <a:off x="2895480" y="46483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C108-1F3D-4DDE-833D-40CD6C75C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248520" y="152280"/>
            <a:ext cx="2466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Αιγοπρόβατα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447560"/>
            <a:ext cx="3809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α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πρόβατα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και οι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κατσίκε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της φάρμας μας δίνου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γάλ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&amp; τα παράγωγα 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τυρί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γιαούρτι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κρέα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μαλλί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δέρμα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190760" y="1447560"/>
            <a:ext cx="4724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ο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γάλ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περιέχει πολλά θρεπτικά συστατικά όπως βιταμίνες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,D,E,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, ανόργανα στοιχεία όπως το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ασβέστιο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που μας βοηθάει να έχουμε γερά δόντια και κόκαλ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ο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κρέα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μας δίνει Πρωτεΐνες, Σίδηρο, Βιταμίνες για την ανάπτυξη του σώματος μα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5DF8-5B6A-4082-BFB0-1A8C017C6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E:\ΦΩΤΟ\κατσίκες.jpg"/>
          <p:cNvPicPr/>
          <p:nvPr/>
        </p:nvPicPr>
        <p:blipFill>
          <a:blip r:embed="rId1"/>
          <a:stretch/>
        </p:blipFill>
        <p:spPr>
          <a:xfrm>
            <a:off x="457200" y="152280"/>
            <a:ext cx="1386000" cy="106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E:\ΦΩΤΟ\πρόβατα.jpg"/>
          <p:cNvPicPr/>
          <p:nvPr/>
        </p:nvPicPr>
        <p:blipFill>
          <a:blip r:embed="rId2"/>
          <a:stretch/>
        </p:blipFill>
        <p:spPr>
          <a:xfrm>
            <a:off x="6781680" y="152280"/>
            <a:ext cx="1243080" cy="108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E:\ΦΩΤΟ\φρέσκο γάλα.jpg"/>
          <p:cNvPicPr/>
          <p:nvPr/>
        </p:nvPicPr>
        <p:blipFill>
          <a:blip r:embed="rId3"/>
          <a:stretch/>
        </p:blipFill>
        <p:spPr>
          <a:xfrm>
            <a:off x="3048120" y="4572000"/>
            <a:ext cx="1143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Αιγοπρόβατ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ο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μαλλί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των αιγοπροβάτων χρησιμοποιείται για ενδύματα, υφάσματα, χαλιά και άλλα. π.χ. Η φυλή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rin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στην Ισπανία και την Αυστρ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ο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δέρμ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τους γίνεται μπουφάν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αλτά, φούστες, παντελόνια, παπούτσια αλλά και χαλιά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8CD3-992B-4367-B791-753C77301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E:\ΦΩΤΟ\κατσίκες.jpg"/>
          <p:cNvPicPr/>
          <p:nvPr/>
        </p:nvPicPr>
        <p:blipFill>
          <a:blip r:embed="rId1"/>
          <a:stretch/>
        </p:blipFill>
        <p:spPr>
          <a:xfrm>
            <a:off x="1066680" y="2286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ΦΩΤΟ\πρόβατα.jpg"/>
          <p:cNvPicPr/>
          <p:nvPr/>
        </p:nvPicPr>
        <p:blipFill>
          <a:blip r:embed="rId2"/>
          <a:stretch/>
        </p:blipFill>
        <p:spPr>
          <a:xfrm>
            <a:off x="6400800" y="2286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895480" y="4952880"/>
            <a:ext cx="2590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Γουρουνάκια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α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γουρουνάκι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της φάρμας μας δίνου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κρέα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 &amp; παράγωγα όπως λουκάνικα και διάφορα αλλαντικά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λίπος,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δέρμ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911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ο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κρέας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μας δίνει Πρωτεΐνες, Σίδηρο, Φώσφορο &amp; Βιταμίνες απαραίτητα για την ανάπτυξη του σώματος μα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ο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λίπο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για γλυκά και φαγητ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Δέρμ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για τις σόλες των παπουτσιών μα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6CE6-C6D1-4BC9-9D43-7899A9AB4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4952880"/>
            <a:ext cx="2514600" cy="167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2082960" cy="1551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629400" y="152280"/>
            <a:ext cx="19051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omic Sans MS"/>
              </a:rPr>
              <a:t>Αγελάδες &amp; μοσχαράκ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Οι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αγελάδε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και τα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μοσχαράκι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της φάρμας μας δίνου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γάλ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&amp; τα παράγωγα 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τυρί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και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γιαούρτ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κρέα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&amp; τα παράγωγα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αλλαντικά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δέρμ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3434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ο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γάλ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για να έχουμε γερά δόντια και γερά κόκαλ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ο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κρέας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μας για την ανάπτυξη του σώματος μα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ο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δέρμα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για τα ρούχα μας, τα παπούτσια μας, τις τσάντες, τις ζώνες μας, τα γάντια μας και άλλ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6115-EFC7-4238-AA37-F07F9F50C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E:\ΦΩΤΟ\αγελάδα.jpg"/>
          <p:cNvPicPr/>
          <p:nvPr/>
        </p:nvPicPr>
        <p:blipFill>
          <a:blip r:embed="rId1"/>
          <a:stretch/>
        </p:blipFill>
        <p:spPr>
          <a:xfrm>
            <a:off x="304920" y="228600"/>
            <a:ext cx="129528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19520" y="4495680"/>
            <a:ext cx="17524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Τα ζώα του αγροκτήματος είναι πολύ σημαντικά γιατί μας δίνουν όλα όσα χρειαζόμαστε στη ζωή μα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63244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Picture 2" descr="E:\imagesCA0HE7B5.jpg"/>
          <p:cNvPicPr/>
          <p:nvPr/>
        </p:nvPicPr>
        <p:blipFill>
          <a:blip r:embed="rId1"/>
          <a:stretch/>
        </p:blipFill>
        <p:spPr>
          <a:xfrm>
            <a:off x="1463760" y="2362320"/>
            <a:ext cx="630864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8B14-A86D-413C-9833-8E9311B49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Δήμητρα Βολτέα</dc:creator>
  <dc:description/>
  <dc:language>en-US</dc:language>
  <cp:lastModifiedBy>Student</cp:lastModifiedBy>
  <dcterms:modified xsi:type="dcterms:W3CDTF">2011-05-04T14:03:20Z</dcterms:modified>
  <cp:revision>41</cp:revision>
  <dc:subject/>
  <dc:title>ΤΑ ΖΩΑ ΤΗΣ ΦΑΡΜΑΣ  ΚΑΙ Η ΔΙΑΤΡΟΦΙΚΗ ΤΟΥΣ ΑΞΙΑ</dc:title>
</cp:coreProperties>
</file>