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3.wmf" ContentType="image/x-wmf"/>
  <Override PartName="/ppt/media/image2.wmf" ContentType="image/x-wmf"/>
  <Override PartName="/ppt/media/image1.png" ContentType="image/png"/>
  <Override PartName="/ppt/media/image24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E06D-E26A-402E-856F-7FFB877B623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4915-0228-4B3C-B4F0-B261054FAAC6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962-14EA-4F73-B8D9-F8F0804E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9F8-72BC-4E1B-BABA-BEB5EEAB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F31-682C-4E79-9399-4CFDF8E8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AE4-1A9E-4FB9-9D62-0792670A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1A3-9691-4B53-98C3-12CE11BC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776-1125-4B6F-8F19-ACF739F6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F2F-C5DD-4A88-9094-E3C0542A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2F7-7D80-4246-A4F8-27B88033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C75-D23F-435F-A3C9-6CC4A832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F3D-FA47-4BA9-8045-6D473821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B33-0562-4F1D-88F1-11787F14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E40-D8A7-4448-A568-6097903E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8daa"/>
            </a:gs>
            <a:gs pos="100000">
              <a:srgbClr val="202f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64FD-600E-40E4-BC91-4BB64541FE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8daa"/>
            </a:gs>
            <a:gs pos="100000">
              <a:srgbClr val="202f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Calibri"/>
              </a:rPr>
              <a:t>Γλώσσα Α΄δημοτικού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9" name="2 - Θέση περιεχομένου"/>
          <p:cNvGrpSpPr/>
          <p:nvPr/>
        </p:nvGrpSpPr>
        <p:grpSpPr>
          <a:xfrm>
            <a:off x="438120" y="2004840"/>
            <a:ext cx="8497800" cy="4091040"/>
            <a:chOff x="438120" y="2004840"/>
            <a:chExt cx="8497800" cy="4091040"/>
          </a:xfrm>
        </p:grpSpPr>
        <p:pic>
          <p:nvPicPr>
            <p:cNvPr id="50" name="2 - Θέση περιεχομένου" descr=""/>
            <p:cNvPicPr/>
            <p:nvPr/>
          </p:nvPicPr>
          <p:blipFill>
            <a:blip r:embed="rId1"/>
            <a:stretch/>
          </p:blipFill>
          <p:spPr>
            <a:xfrm>
              <a:off x="438120" y="2004840"/>
              <a:ext cx="8497800" cy="40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11280" y="2276640"/>
              <a:ext cx="7942320" cy="37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72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el-GR" sz="7200" spc="-1" strike="noStrike">
                  <a:solidFill>
                    <a:srgbClr val="835e01"/>
                  </a:solidFill>
                  <a:latin typeface="Calibri"/>
                </a:rPr>
                <a:t>Επανάληψη στα δίψηφα  σύμφωνα</a:t>
              </a:r>
              <a:endParaRPr b="0" lang="en-US" sz="72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7200" spc="-1" strike="noStrike">
                  <a:solidFill>
                    <a:srgbClr val="835e01"/>
                  </a:solidFill>
                  <a:latin typeface="Calibri"/>
                </a:rPr>
                <a:t>      </a:t>
              </a:r>
              <a:r>
                <a:rPr b="1" lang="el-GR" sz="7200" spc="-1" strike="noStrike">
                  <a:solidFill>
                    <a:srgbClr val="835e01"/>
                  </a:solidFill>
                  <a:latin typeface="Calibri"/>
                </a:rPr>
                <a:t>τσ   γκ   γγ     τζ</a:t>
              </a:r>
              <a:endParaRPr b="0" lang="en-US" sz="7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2" name="Picture 2" descr="C:\Users\ΜΑΤΙΝΑ\AppData\Local\Microsoft\Windows\Temporary Internet Files\Content.IE5\RMIZJAWZ\MC900237800[1].wmf"/>
          <p:cNvPicPr/>
          <p:nvPr/>
        </p:nvPicPr>
        <p:blipFill>
          <a:blip r:embed="rId2"/>
          <a:stretch/>
        </p:blipFill>
        <p:spPr>
          <a:xfrm>
            <a:off x="6948360" y="260280"/>
            <a:ext cx="20113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8daa"/>
            </a:gs>
            <a:gs pos="100000">
              <a:srgbClr val="202f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050560" y="3068280"/>
            <a:ext cx="52578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33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                                      </a:t>
            </a:r>
            <a:r>
              <a:rPr b="1" lang="en-US" sz="13300" spc="-1" strike="noStrike">
                <a:solidFill>
                  <a:srgbClr val="ffff00"/>
                </a:solidFill>
                <a:latin typeface="Calibri"/>
              </a:rPr>
              <a:t>Τέλος</a:t>
            </a:r>
            <a:endParaRPr b="0" lang="en-US" sz="1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C:\Users\ΜΑΤΙΝΑ\AppData\Local\Microsoft\Windows\Temporary Internet Files\Content.IE5\NPCVQ03Z\MC900241273[1].wmf"/>
          <p:cNvPicPr/>
          <p:nvPr/>
        </p:nvPicPr>
        <p:blipFill>
          <a:blip r:embed="rId1"/>
          <a:stretch/>
        </p:blipFill>
        <p:spPr>
          <a:xfrm>
            <a:off x="2411280" y="907920"/>
            <a:ext cx="48722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8daa"/>
            </a:gs>
            <a:gs pos="100000">
              <a:srgbClr val="202f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Διαβάζω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90792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Το φεγγάρι φέγγ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ει</a:t>
            </a: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 τη νύχτα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Το τζιτζίκι τραγουδά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ει</a:t>
            </a: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 το καλοκαίρ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Το τζάκι ανάβ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ει</a:t>
            </a: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 το χειμώνα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Το ψάρι έχ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ει</a:t>
            </a: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 αγκάθια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Μου αρέσ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ει</a:t>
            </a: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 το σχολείο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Θα πά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 με τη μαμά μου για ψώνια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Θέλ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 να  κάν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 ένα ταξίδι με το πλοίο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Δεν ξέρ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1" lang="en-US" sz="3600" spc="-1" strike="noStrike">
                <a:solidFill>
                  <a:srgbClr val="f2f2f2"/>
                </a:solidFill>
                <a:latin typeface="Calibri"/>
              </a:rPr>
              <a:t> το όνομά σου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3" descr="C:\Users\ΜΑΤΙΝΑ\AppData\Local\Microsoft\Windows\Temporary Internet Files\Content.IE5\RMIZJAWZ\MC900216752[1].wmf"/>
          <p:cNvPicPr/>
          <p:nvPr/>
        </p:nvPicPr>
        <p:blipFill>
          <a:blip r:embed="rId1"/>
          <a:stretch/>
        </p:blipFill>
        <p:spPr>
          <a:xfrm>
            <a:off x="7215120" y="1700280"/>
            <a:ext cx="19288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8daa"/>
            </a:gs>
            <a:gs pos="100000">
              <a:srgbClr val="202f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Που πάει κάθε λέξη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l-GR" sz="3200" spc="-1" strike="noStrike">
                <a:solidFill>
                  <a:srgbClr val="ffff00"/>
                </a:solidFill>
                <a:latin typeface="Calibri"/>
              </a:rPr>
              <a:t>τσάι , σταγόνα , στάδιο , τσουλήθρα, τσατσάρα, τσεκούρι, κορίτσι, κάστανα , παπούτσι, παστέλι , βότσαλο, αστέρι, τσουβάλι, αστακός, στέκομαι, στάση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στ                                           τ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5 - Έλλειψη"/>
          <p:cNvSpPr/>
          <p:nvPr/>
        </p:nvSpPr>
        <p:spPr>
          <a:xfrm>
            <a:off x="611280" y="3573360"/>
            <a:ext cx="3889440" cy="28800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6 - Έλλειψη"/>
          <p:cNvSpPr/>
          <p:nvPr/>
        </p:nvSpPr>
        <p:spPr>
          <a:xfrm>
            <a:off x="4932360" y="3573360"/>
            <a:ext cx="3887640" cy="28800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Users\ΜΑΤΙΝΑ\AppData\Local\Microsoft\Windows\Temporary Internet Files\Content.IE5\RMIZJAWZ\MM900303324[1].gif"/>
          <p:cNvPicPr/>
          <p:nvPr/>
        </p:nvPicPr>
        <p:blipFill>
          <a:blip r:embed="rId1"/>
          <a:stretch/>
        </p:blipFill>
        <p:spPr>
          <a:xfrm>
            <a:off x="7740720" y="692280"/>
            <a:ext cx="7920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8daa"/>
            </a:gs>
            <a:gs pos="100000">
              <a:srgbClr val="202f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Τις δύο λέξεις τις κάνω μία (σύνθετη), όπως το παράδειγμα:</a:t>
            </a:r>
            <a:br>
              <a:rPr sz="2900"/>
            </a:br>
            <a:r>
              <a:rPr b="1" lang="en-US" sz="29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χιόνι + νερό→       χιονόνερο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χιόνι + θύελλα→ _______________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χιόνι + πόλεμος→ _______________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χιόνι + άνθρωπος→ _______________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4 - Ορθογώνιο" descr=""/>
          <p:cNvPicPr/>
          <p:nvPr/>
        </p:nvPicPr>
        <p:blipFill>
          <a:blip r:embed="rId1"/>
          <a:stretch/>
        </p:blipFill>
        <p:spPr>
          <a:xfrm>
            <a:off x="4084560" y="2670120"/>
            <a:ext cx="3346560" cy="822240"/>
          </a:xfrm>
          <a:prstGeom prst="rect">
            <a:avLst/>
          </a:prstGeom>
          <a:ln w="0">
            <a:noFill/>
          </a:ln>
        </p:spPr>
      </p:pic>
      <p:pic>
        <p:nvPicPr>
          <p:cNvPr id="64" name="6 - Ορθογώνιο" descr=""/>
          <p:cNvPicPr/>
          <p:nvPr/>
        </p:nvPicPr>
        <p:blipFill>
          <a:blip r:embed="rId2"/>
          <a:stretch/>
        </p:blipFill>
        <p:spPr>
          <a:xfrm>
            <a:off x="4327560" y="3889440"/>
            <a:ext cx="3578040" cy="828720"/>
          </a:xfrm>
          <a:prstGeom prst="rect">
            <a:avLst/>
          </a:prstGeom>
          <a:ln w="0">
            <a:noFill/>
          </a:ln>
        </p:spPr>
      </p:pic>
      <p:pic>
        <p:nvPicPr>
          <p:cNvPr id="65" name="7 - Ορθογώνιο" descr=""/>
          <p:cNvPicPr/>
          <p:nvPr/>
        </p:nvPicPr>
        <p:blipFill>
          <a:blip r:embed="rId3"/>
          <a:stretch/>
        </p:blipFill>
        <p:spPr>
          <a:xfrm>
            <a:off x="4754520" y="5114880"/>
            <a:ext cx="3724200" cy="82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ΜΑΤΙΝΑ\AppData\Local\Microsoft\Windows\Temporary Internet Files\Content.IE5\NPCVQ03Z\MC900436382[1].png"/>
          <p:cNvPicPr/>
          <p:nvPr/>
        </p:nvPicPr>
        <p:blipFill>
          <a:blip r:embed="rId4"/>
          <a:stretch/>
        </p:blipFill>
        <p:spPr>
          <a:xfrm>
            <a:off x="7236000" y="1052640"/>
            <a:ext cx="1676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8daa"/>
            </a:gs>
            <a:gs pos="100000">
              <a:srgbClr val="202f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3 - Θέση περιεχομένου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8daa"/>
            </a:gs>
            <a:gs pos="100000">
              <a:srgbClr val="202f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3 - Θέση περιεχομένου" descr=""/>
          <p:cNvPicPr/>
          <p:nvPr/>
        </p:nvPicPr>
        <p:blipFill>
          <a:blip r:embed="rId1"/>
          <a:stretch/>
        </p:blipFill>
        <p:spPr>
          <a:xfrm>
            <a:off x="450720" y="396720"/>
            <a:ext cx="824256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8daa"/>
            </a:gs>
            <a:gs pos="100000">
              <a:srgbClr val="202f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alibri"/>
              </a:rPr>
              <a:t>γκ  ή γγ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178416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Φε_ _άρι            φέ_ _ει              α_ _άθι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α_ _ινάρα          ά_ _ελος            παρά_ _α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πι_ _ουίνος       α_ _ούρι            κά_ _ελο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Καρα_ _ιόζης     α_ _ίζω             μα_ _ούρα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C:\Users\ΜΑΤΙΝΑ\AppData\Local\Microsoft\Windows\Temporary Internet Files\Content.IE5\RMIZJAWZ\MC900432592[1].png"/>
          <p:cNvPicPr/>
          <p:nvPr/>
        </p:nvPicPr>
        <p:blipFill>
          <a:blip r:embed="rId1"/>
          <a:stretch/>
        </p:blipFill>
        <p:spPr>
          <a:xfrm>
            <a:off x="665964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8daa"/>
            </a:gs>
            <a:gs pos="100000">
              <a:srgbClr val="202f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Συμπληρώνω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764640"/>
            <a:ext cx="9145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Μου αρέσει να κάθομαι κοντά στο _ _άκ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Τα _ _ι_ _ίκια τραγουδούν το καλοκαίρ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Το _ _α_ _ίκι γίνεται με γιαούρτ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Με τη μελι_ _άνα  φτιάχνουμε νόστιμη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μελι_ _ανοσαλάτα 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Η μπάλα έπεσε με δύναμη στο _ _άμ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l-GR" sz="3600" spc="-1" strike="noStrike">
                <a:solidFill>
                  <a:srgbClr val="ffff00"/>
                </a:solidFill>
                <a:latin typeface="Calibri"/>
              </a:rPr>
              <a:t>Η Τζένη έκανε μια μου_ _ούρα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3" descr="C:\Users\ΜΑΤΙΝΑ\AppData\Local\Microsoft\Windows\Temporary Internet Files\Content.IE5\NPCVQ03Z\MC900215905[1].wmf"/>
          <p:cNvPicPr/>
          <p:nvPr/>
        </p:nvPicPr>
        <p:blipFill>
          <a:blip r:embed="rId1"/>
          <a:stretch/>
        </p:blipFill>
        <p:spPr>
          <a:xfrm>
            <a:off x="7740720" y="4724280"/>
            <a:ext cx="1179360" cy="1798920"/>
          </a:xfrm>
          <a:prstGeom prst="rect">
            <a:avLst/>
          </a:prstGeom>
          <a:ln w="0">
            <a:noFill/>
          </a:ln>
        </p:spPr>
      </p:pic>
      <p:pic>
        <p:nvPicPr>
          <p:cNvPr id="77" name="5 - Ορθογώνιο" descr=""/>
          <p:cNvPicPr/>
          <p:nvPr/>
        </p:nvPicPr>
        <p:blipFill>
          <a:blip r:embed="rId2"/>
          <a:stretch/>
        </p:blipFill>
        <p:spPr>
          <a:xfrm>
            <a:off x="6980400" y="378000"/>
            <a:ext cx="1358640" cy="1096920"/>
          </a:xfrm>
          <a:prstGeom prst="rect">
            <a:avLst/>
          </a:prstGeom>
          <a:ln w="0">
            <a:noFill/>
          </a:ln>
        </p:spPr>
      </p:pic>
      <p:pic>
        <p:nvPicPr>
          <p:cNvPr id="78" name="6 - Ορθογώνιο" descr=""/>
          <p:cNvPicPr/>
          <p:nvPr/>
        </p:nvPicPr>
        <p:blipFill>
          <a:blip r:embed="rId3"/>
          <a:stretch/>
        </p:blipFill>
        <p:spPr>
          <a:xfrm>
            <a:off x="1652760" y="1743120"/>
            <a:ext cx="1358640" cy="1103400"/>
          </a:xfrm>
          <a:prstGeom prst="rect">
            <a:avLst/>
          </a:prstGeom>
          <a:ln w="0">
            <a:noFill/>
          </a:ln>
        </p:spPr>
      </p:pic>
      <p:pic>
        <p:nvPicPr>
          <p:cNvPr id="79" name="7 - Ορθογώνιο" descr=""/>
          <p:cNvPicPr/>
          <p:nvPr/>
        </p:nvPicPr>
        <p:blipFill>
          <a:blip r:embed="rId4"/>
          <a:stretch/>
        </p:blipFill>
        <p:spPr>
          <a:xfrm>
            <a:off x="785880" y="1743120"/>
            <a:ext cx="1360440" cy="1103400"/>
          </a:xfrm>
          <a:prstGeom prst="rect">
            <a:avLst/>
          </a:prstGeom>
          <a:ln w="0">
            <a:noFill/>
          </a:ln>
        </p:spPr>
      </p:pic>
      <p:pic>
        <p:nvPicPr>
          <p:cNvPr id="80" name="8 - Ορθογώνιο" descr=""/>
          <p:cNvPicPr/>
          <p:nvPr/>
        </p:nvPicPr>
        <p:blipFill>
          <a:blip r:embed="rId5"/>
          <a:stretch/>
        </p:blipFill>
        <p:spPr>
          <a:xfrm>
            <a:off x="2444760" y="2389320"/>
            <a:ext cx="1359000" cy="1103040"/>
          </a:xfrm>
          <a:prstGeom prst="rect">
            <a:avLst/>
          </a:prstGeom>
          <a:ln w="0">
            <a:noFill/>
          </a:ln>
        </p:spPr>
      </p:pic>
      <p:pic>
        <p:nvPicPr>
          <p:cNvPr id="81" name="9 - Ορθογώνιο" descr=""/>
          <p:cNvPicPr/>
          <p:nvPr/>
        </p:nvPicPr>
        <p:blipFill>
          <a:blip r:embed="rId6"/>
          <a:stretch/>
        </p:blipFill>
        <p:spPr>
          <a:xfrm>
            <a:off x="1219320" y="3041640"/>
            <a:ext cx="1358640" cy="1103400"/>
          </a:xfrm>
          <a:prstGeom prst="rect">
            <a:avLst/>
          </a:prstGeom>
          <a:ln w="0">
            <a:noFill/>
          </a:ln>
        </p:spPr>
      </p:pic>
      <p:pic>
        <p:nvPicPr>
          <p:cNvPr id="82" name="10 - Ορθογώνιο" descr=""/>
          <p:cNvPicPr/>
          <p:nvPr/>
        </p:nvPicPr>
        <p:blipFill>
          <a:blip r:embed="rId7"/>
          <a:stretch/>
        </p:blipFill>
        <p:spPr>
          <a:xfrm>
            <a:off x="6334200" y="3687840"/>
            <a:ext cx="1359000" cy="1103400"/>
          </a:xfrm>
          <a:prstGeom prst="rect">
            <a:avLst/>
          </a:prstGeom>
          <a:ln w="0">
            <a:noFill/>
          </a:ln>
        </p:spPr>
      </p:pic>
      <p:pic>
        <p:nvPicPr>
          <p:cNvPr id="83" name="11 - Ορθογώνιο" descr=""/>
          <p:cNvPicPr/>
          <p:nvPr/>
        </p:nvPicPr>
        <p:blipFill>
          <a:blip r:embed="rId8"/>
          <a:stretch/>
        </p:blipFill>
        <p:spPr>
          <a:xfrm>
            <a:off x="4675320" y="4334040"/>
            <a:ext cx="1360440" cy="1103040"/>
          </a:xfrm>
          <a:prstGeom prst="rect">
            <a:avLst/>
          </a:prstGeom>
          <a:ln w="0">
            <a:noFill/>
          </a:ln>
        </p:spPr>
      </p:pic>
      <p:pic>
        <p:nvPicPr>
          <p:cNvPr id="84" name="12 - Ορθογώνιο" descr=""/>
          <p:cNvPicPr/>
          <p:nvPr/>
        </p:nvPicPr>
        <p:blipFill>
          <a:blip r:embed="rId9"/>
          <a:stretch/>
        </p:blipFill>
        <p:spPr>
          <a:xfrm>
            <a:off x="1584360" y="1096920"/>
            <a:ext cx="136044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13 - Ορθογώνιο" descr=""/>
          <p:cNvPicPr/>
          <p:nvPr/>
        </p:nvPicPr>
        <p:blipFill>
          <a:blip r:embed="rId10"/>
          <a:stretch/>
        </p:blipFill>
        <p:spPr>
          <a:xfrm>
            <a:off x="858960" y="1096920"/>
            <a:ext cx="1360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8daa"/>
            </a:gs>
            <a:gs pos="100000">
              <a:srgbClr val="202f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Συλλαβίζω τις λέξεις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560" y="119700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τσαντάκ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κατσίκα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αγκάθ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τζατζίκ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σύννεφ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8 - Διάγραμμα" descr=""/>
          <p:cNvPicPr/>
          <p:nvPr/>
        </p:nvPicPr>
        <p:blipFill>
          <a:blip r:embed="rId1"/>
          <a:stretch/>
        </p:blipFill>
        <p:spPr>
          <a:xfrm>
            <a:off x="2664000" y="1768320"/>
            <a:ext cx="6205320" cy="1756080"/>
          </a:xfrm>
          <a:prstGeom prst="rect">
            <a:avLst/>
          </a:prstGeom>
          <a:ln w="0">
            <a:noFill/>
          </a:ln>
        </p:spPr>
      </p:pic>
      <p:pic>
        <p:nvPicPr>
          <p:cNvPr id="89" name="9 - Διάγραμμα" descr=""/>
          <p:cNvPicPr/>
          <p:nvPr/>
        </p:nvPicPr>
        <p:blipFill>
          <a:blip r:embed="rId2"/>
          <a:stretch/>
        </p:blipFill>
        <p:spPr>
          <a:xfrm>
            <a:off x="2590920" y="2846520"/>
            <a:ext cx="6205320" cy="1755720"/>
          </a:xfrm>
          <a:prstGeom prst="rect">
            <a:avLst/>
          </a:prstGeom>
          <a:ln w="0">
            <a:noFill/>
          </a:ln>
        </p:spPr>
      </p:pic>
      <p:pic>
        <p:nvPicPr>
          <p:cNvPr id="90" name="10 - Διάγραμμα" descr=""/>
          <p:cNvPicPr/>
          <p:nvPr/>
        </p:nvPicPr>
        <p:blipFill>
          <a:blip r:embed="rId3"/>
          <a:stretch/>
        </p:blipFill>
        <p:spPr>
          <a:xfrm>
            <a:off x="2736720" y="4145040"/>
            <a:ext cx="6199200" cy="1755720"/>
          </a:xfrm>
          <a:prstGeom prst="rect">
            <a:avLst/>
          </a:prstGeom>
          <a:ln w="0">
            <a:noFill/>
          </a:ln>
        </p:spPr>
      </p:pic>
      <p:pic>
        <p:nvPicPr>
          <p:cNvPr id="91" name="11 - Διάγραμμα" descr=""/>
          <p:cNvPicPr/>
          <p:nvPr/>
        </p:nvPicPr>
        <p:blipFill>
          <a:blip r:embed="rId4"/>
          <a:stretch/>
        </p:blipFill>
        <p:spPr>
          <a:xfrm>
            <a:off x="2809800" y="5297400"/>
            <a:ext cx="6201000" cy="1755720"/>
          </a:xfrm>
          <a:prstGeom prst="rect">
            <a:avLst/>
          </a:prstGeom>
          <a:ln w="0">
            <a:noFill/>
          </a:ln>
        </p:spPr>
      </p:pic>
      <p:pic>
        <p:nvPicPr>
          <p:cNvPr id="92" name="12 - Διάγραμμα" descr=""/>
          <p:cNvPicPr/>
          <p:nvPr/>
        </p:nvPicPr>
        <p:blipFill>
          <a:blip r:embed="rId5"/>
          <a:stretch/>
        </p:blipFill>
        <p:spPr>
          <a:xfrm>
            <a:off x="2620800" y="755640"/>
            <a:ext cx="6175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5:40:05Z</dcterms:created>
  <dc:creator>ΜΑΤΙΝΑ</dc:creator>
  <dc:description/>
  <dc:language>en-US</dc:language>
  <cp:lastModifiedBy>Student</cp:lastModifiedBy>
  <dcterms:modified xsi:type="dcterms:W3CDTF">2011-03-16T15:05:49Z</dcterms:modified>
  <cp:revision>5</cp:revision>
  <dc:subject/>
  <dc:title>Γλώ</dc:title>
</cp:coreProperties>
</file>