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E66-2AF3-4852-93DC-4F1B74B7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F77-B7EA-440F-B900-EDAD407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962-9F25-4D9D-82CF-3FA2FFFB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EF4-E979-4C0F-A15E-0152C472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A6BA-1292-4338-9D70-AFEC83B6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5C6F-0513-4760-BD2E-FA4568FD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46CF-4BD3-48DD-8D93-2AE2D0F8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8AD5-66A5-4A4C-9C8B-4E394EC7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88C4-B8F4-4EA9-A4CA-CCFC2975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62C0-3CDD-46CC-82B7-58C209F5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503F-4057-405B-985B-4E30676A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0F9-EAFD-4573-AE88-C1B1C502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0293-07C0-48A9-8D89-BB70DFC9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759D-34AD-450F-912A-B211A5B4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BB2-D8B2-44F8-B0FC-36CB15A2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F62E-EA20-4F80-BB17-2D75323D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C4C0-AFBB-4145-B84D-45D10317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983-2ACD-4BD8-96E8-E0FE2020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605-ECE8-4D30-8914-7E83768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F6A-3176-4B2E-A8BF-652350CA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0D9-1B87-434B-9483-23274CE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B19-390B-435E-941C-1D4C0C8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0D1-8B11-433B-9991-96EB1A08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A10-6554-48A4-8306-6639FF2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F9B6-3AF7-4609-A466-75D1C8863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9605-DA25-481C-A41B-C5A4D4295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Παίζοντας στην Αρχαία Ελλάδα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Παιδικά παιχνίδι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5:28:59Z</dcterms:created>
  <dc:creator>Student</dc:creator>
  <dc:description/>
  <dc:language>en-US</dc:language>
  <cp:lastModifiedBy>Student</cp:lastModifiedBy>
  <dcterms:modified xsi:type="dcterms:W3CDTF">2011-02-23T15:37:26Z</dcterms:modified>
  <cp:revision>2</cp:revision>
  <dc:subject/>
  <dc:title>Διαφάνεια 1</dc:title>
</cp:coreProperties>
</file>