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1E7-9509-4DCB-8774-5F22D64E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956-6F92-4165-B047-1B7BA7E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CC0-6D73-4C58-A806-44C964A1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60D-5659-4367-B244-3C4C6CA0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1AC3-216B-47EA-A1EC-66E58875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8166-DF65-4367-AC3D-A848322C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206F-6764-438F-A681-F19741A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45DC-839E-4684-8D54-F970E8F5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94C2-11DB-408B-8FE7-62B6E18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035D-033E-4FFC-8FE0-57A1BED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0BB-5DE6-4F59-AA76-33B7920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6CF-17C7-4C2A-8B11-7EA2000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BF4D-5AB2-4795-8898-FC49A94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B0B9-940B-4842-844E-446880F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B6F6-0DFB-47CB-9472-A93FAD5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17C-BDE1-4ADA-A666-48D96F17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F94-FB8D-43CD-A747-F6C4293F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A7B-3E24-43F6-8C72-47864078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459-83BE-465A-AB9B-7261092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CA8-EE93-4849-9B0E-9D30A04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45D-2AC3-4096-B3BE-797D239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184-929C-4145-BDCA-C95350BF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5AE-7B9B-41E1-82D9-411EE29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3E7-9C6D-4319-91AE-03E50AF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05CA-C4B4-46E0-8FD0-606F08CE7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2A8-2782-4892-992F-7027E5640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Εικόνες της Ιστορίας μα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Ελληνική Επανάστα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1:16Z</dcterms:created>
  <dc:creator>Student</dc:creator>
  <dc:description/>
  <dc:language>en-US</dc:language>
  <cp:lastModifiedBy>Student</cp:lastModifiedBy>
  <dcterms:modified xsi:type="dcterms:W3CDTF">2011-02-23T15:11:00Z</dcterms:modified>
  <cp:revision>3</cp:revision>
  <dc:subject/>
  <dc:title>Διαφάνεια 1</dc:title>
</cp:coreProperties>
</file>