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Shape 7"/>
          <p:cNvSpPr/>
          <p:nvPr/>
        </p:nvSpPr>
        <p:spPr>
          <a:xfrm>
            <a:off x="457200" y="6245280"/>
            <a:ext cx="2133720" cy="476280"/>
          </a:xfrm>
          <a:prstGeom prst="rect">
            <a:avLst/>
          </a:prstGeom>
          <a:noFill/>
          <a:ln w="0">
            <a:noFill/>
          </a:ln>
        </p:spPr>
        <p:style>
          <a:lnRef idx="0"/>
          <a:fillRef idx="0"/>
          <a:effectRef idx="0"/>
          <a:fontRef idx="minor"/>
        </p:style>
        <p:txBody>
          <a:bodyPr lIns="91080" rIns="91080" tIns="91080" bIns="91080" anchor="t">
            <a:noAutofit/>
          </a:bodyPr>
          <a:p>
            <a:endParaRPr b="0" lang="en-US" sz="1400" spc="-1" strike="noStrike">
              <a:solidFill>
                <a:srgbClr val="000000"/>
              </a:solidFill>
              <a:latin typeface="Arial"/>
            </a:endParaRPr>
          </a:p>
        </p:txBody>
      </p:sp>
      <p:sp>
        <p:nvSpPr>
          <p:cNvPr id="3" name="Shape 8"/>
          <p:cNvSpPr/>
          <p:nvPr/>
        </p:nvSpPr>
        <p:spPr>
          <a:xfrm>
            <a:off x="3124080" y="6245280"/>
            <a:ext cx="2895840" cy="47628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Shape 9"/>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F28C-3AB4-4247-A8A4-647F0C378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292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όδα στην Βρετανία</a:t>
            </a:r>
            <a:endParaRPr b="0" lang="en-US" sz="4400" spc="-1" strike="noStrike">
              <a:solidFill>
                <a:srgbClr val="000000"/>
              </a:solidFill>
              <a:latin typeface="Arial"/>
            </a:endParaRPr>
          </a:p>
        </p:txBody>
      </p:sp>
      <p:sp>
        <p:nvSpPr>
          <p:cNvPr id="118" name="PlaceHolder 2"/>
          <p:cNvSpPr>
            <a:spLocks noGrp="1"/>
          </p:cNvSpPr>
          <p:nvPr>
            <p:ph type="subTitle"/>
          </p:nvPr>
        </p:nvSpPr>
        <p:spPr>
          <a:xfrm>
            <a:off x="1476360" y="458100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Κινήματα</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Δανδήδες και φλάπερς</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90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εν είναι ξεκάθαρο αν στη δεκαετία του '20 η μόδα επηρέασε τη μουσική ή αν συνέβη το αντίστροφο. Το σίγουρο είναι πως οι νέοι άρχισαν να παίρνουν μεγαλύτερα ρίσκο όσον αφορά στον τρόπο που ντύνονταν και την ίδια στιγμή η μουσική έγινε πιο έντονη ενώ οι χοροί σχεδόν ακροβατικοί. Οι γυναίκες κάπνιζαν δημόσια, έπιναν, μπορούσαν να διατηρούν σχέσεις όχι ιδιαίτερα δεσμευτικές και επιθυμούσαν να ντύνονται σύμφωνα με την μόδα. Οι δανδήδες από την άλλη είχαν εμμονή με κάθε τι εξωτικό και πιο συγκεκριμένα με τη μόδα που συνδύαζε αφρικανικά και ανατολίτικα στοιχεία, ακόμα και αναφορές στον πολιτισμό των Αζντέκων.</a:t>
            </a: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eds</a:t>
            </a:r>
            <a:br>
              <a:rPr sz="2800"/>
            </a:br>
            <a:endParaRPr b="0" lang="en-US" sz="2800" spc="-1" strike="noStrike">
              <a:solidFill>
                <a:srgbClr val="000000"/>
              </a:solidFill>
              <a:latin typeface="Arial"/>
            </a:endParaRPr>
          </a:p>
        </p:txBody>
      </p:sp>
      <p:sp>
        <p:nvSpPr>
          <p:cNvPr id="12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Οι teddy boys εμπνεύστηκαν το look τους από τους εξέχοντες καλλιτέχνες του '50 οι οποίοι έπαιζαν ένα καινούριο είδος μουσικής-το rock’n’roll. Ως υποκουλτούρα, οι teddy boys είχαν τη φήμη πως ήταν βίαιοι, προκαλούσαν φασαρίες, αντιμάχονταν τις αρχές και ξήλωναν καθίσματα σε συναυλίες. Κουμπωτά σακάκια, παντελόνια σωλήνες, λεπτές γραβάτες και χοντρόσολα παπούτσια (creepers) συνέθεταν το βασικό σύνολο. Για τα αντίστοιχα teddy girls δεν γνωρίζουμε πάρα πολλά. Είναι γνωστό πως φορούσαν πολύ τζήν, blazer και φούστες pencil.</a:t>
            </a:r>
            <a:endParaRPr b="0" lang="en-US" sz="24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Mods</a:t>
            </a: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90800">
              <a:lnSpc>
                <a:spcPct val="80000"/>
              </a:lnSpc>
              <a:spcBef>
                <a:spcPts val="476"/>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Το κίνημα του μοντερνισμού στα τέλη του '50 και τις αρχές του '60 ήταν σε μεγάλο βαθμό επηρεασμένο από την ιταλική μόδα. Η αύξηση της νεαρής εργασίας έφερε ανάλογη αύξηση στην νεαρή κατανάλωση. Οι συγκεντρώσεις των ομοϊδεατών στα καφέ και στα κλαμπ ανέδειξαν μια καινούρια, καθωσπρέπη μόδα και μια εμμονή με R&amp;B μπάντες της Αμερικής και βρετανικά συγκροτήματα επηρεασμένα από αυτές όπως οι Small Faces και οι The Who: τρίκουμπο σακάκι, μοχέρ κοστούμια, στρατιωτικά parka παλτά, μπλούζες Fred Perry, μπότες Hush Puppies και Vespa. Τα κορίτσια κάπρι παντελόνια και πολύ πολύ μακριές ψεύτικες βλεφαρίδες.</a:t>
            </a: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Skinheads</a:t>
            </a:r>
            <a:br>
              <a:rPr sz="4000"/>
            </a:b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Στα μέσα της δεκαετίας του εξήντα η μόδα ήταν έντονα επηρεασμένη από τη ska μουσική. Το κίνημα των skinhead επηρεάστηκε από το στυλ των τζαμαικανών rude boys και ενδυματολογικά περιελάμβανε: παντελόνια σωλήνες, καρό πουκάμισα, άσπρα t-shirt, τιράντες, cherry red doc martens. To look υιοθετήθηκε αργότερα από φασιστικές και ρατσιστικές ομάδες στα τέλη του '70. Σήμερα έχει επανέλθει σαν ένα είδος “στολής” για αρκετά μέλη της γκέι κοινότητας.</a:t>
            </a:r>
            <a:endParaRPr b="0" lang="en-US" sz="2800" spc="-1" strike="noStrike">
              <a:solidFill>
                <a:srgbClr val="000000"/>
              </a:solidFill>
              <a:latin typeface="Arial"/>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Hippies</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165240">
              <a:spcBef>
                <a:spcPts val="56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Το κίνημα των χίπις στα τέλη των 60s βασίστηκε στην ιδέα της απόρριψης κοινωνικά αποδεκτών τρόπων συμπεριφοράς και σε μια μορφή ευγενούς αναρχίας. Γυμνισμός, μεταχειρισμένα ρούχα σε συνδυασμό με παλιές στρατιωτικές στολές και έθνικ φορέματα. Η μουσική ήταν έντονα επηρεασμένη από τη folk και περιλάμβανε πολιτικά μηνύματα που υποστήριζαν την ειρήνη και την αγάπη.</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Βασιλική Καφτηράνη</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5-11T18:02:45Z</dcterms:modified>
  <cp:revision>1</cp:revision>
  <dc:subject/>
  <dc:title>Mόδα στην Βρετανία</dc:title>
</cp:coreProperties>
</file>