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16.png" ContentType="image/png"/>
  <Override PartName="/ppt/media/image18.png" ContentType="image/png"/>
  <Override PartName="/ppt/media/image28.jpeg" ContentType="image/jpeg"/>
  <Override PartName="/ppt/media/image20.png" ContentType="image/png"/>
  <Override PartName="/ppt/media/image36.jpeg" ContentType="image/jpeg"/>
  <Override PartName="/ppt/media/image9.png" ContentType="image/png"/>
  <Override PartName="/ppt/media/image7.jpeg" ContentType="image/jpeg"/>
  <Override PartName="/ppt/media/image38.jpeg" ContentType="image/jpeg"/>
  <Override PartName="/ppt/media/image13.jpeg" ContentType="image/jpeg"/>
  <Override PartName="/ppt/media/image30.png" ContentType="image/png"/>
  <Override PartName="/ppt/media/image29.jpeg" ContentType="image/jpeg"/>
  <Override PartName="/ppt/media/image31.png" ContentType="image/png"/>
  <Override PartName="/ppt/media/image6.png" ContentType="image/png"/>
  <Override PartName="/ppt/media/image32.jpeg" ContentType="image/jpeg"/>
  <Override PartName="/ppt/media/image5.png" ContentType="image/png"/>
  <Override PartName="/ppt/media/image35.png" ContentType="image/png"/>
  <Override PartName="/ppt/media/image8.png" ContentType="image/png"/>
  <Override PartName="/ppt/media/image34.jpeg" ContentType="image/jpeg"/>
  <Override PartName="/ppt/media/image37.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14.png" ContentType="image/png"/>
  <Override PartName="/ppt/media/image1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8E325-8C92-4BF1-823C-5D84FC31F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AF1AC-1825-4067-AACD-1BF14E29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11EB9-EFF1-40A7-9302-825999538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18CD5-1B5E-4789-B3AD-4FC7B8797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B457E-DF13-4152-A07B-96A6E88149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C6498-2738-49B3-BC3B-4C959C3DD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9B40E-C2DA-417F-8423-BC8DF7A05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85E92-D2FC-4949-B9E5-56049AA01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C9F804-5F9B-46DA-BDD5-B2392106E6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80E42D-81A8-405F-91AA-B344CD89E4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18F6AE-08A3-4884-8361-A3F1B1D86E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82219-4E0F-47FE-9257-74277BFEA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86E8B-351D-4728-9445-32135BDFB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8AD3E-F2C9-407A-AE58-45A7F433F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2F6BA-2184-413A-9370-A9F36D621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0F95B-1245-4E41-9426-28D030F8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3B3F0-47BB-42D0-8040-5F8E1D437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88955-1F15-429E-84D1-EC75064FF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61333-CBC7-4649-A250-9BEE2548B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14AFE-5E88-495F-9BC6-30DBEE96C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2B09-A2A2-4017-BB3A-E4482DD4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86575-FB65-4D7D-9052-66980EF26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5E375-FCB8-4ABC-B856-F5E34CA9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7D66F-0717-431A-9168-18331DCB0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0AA37-2BD7-4D98-AEF7-DF8AD3DD0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8F598-E964-4752-AA5F-FE9DCBC52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9FCF89-B1C9-4A77-88CF-2ED9ED8339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B85B5-E509-41AC-BB03-6241E116F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261E6-A2CC-4234-BD9C-E6D0E88E7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944B9-FDD3-4AE2-9FEF-C1326053A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681BC-AB18-4BD5-BAD7-914F82921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A620-0723-4583-9A82-4BD8C7575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E6C87-D118-4663-8D47-827C26A1D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35710-38A2-4AF7-9D08-1E1D884CD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1FE55-0840-441D-88AE-6973DB2A9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F95A5-83FB-4760-82A4-CC9D92E8F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FB733-8784-4542-8E27-D62F2606E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F0FBF-CEAE-4A49-AC24-FEE7C2869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2C8E5-B7E0-468A-8B3F-B53824971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04C81-ECBC-4AC5-BFB1-A2A77BDC8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D1BA2-1296-4B70-813A-E0091EDA1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3F8C6-B7FD-4DAD-9D46-C6D202201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30238-E25E-489F-BD19-9E5FAC4C2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D6D36-FD13-4BD1-BE03-22B64B8BC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FEC41-9691-4DAC-8EB2-388B085A3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F6119-E2BC-42A6-89D7-2F5859F40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24945-A08E-4FBE-9604-AA10D01BD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2328F-369F-4F1F-B72D-D64AED4CB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DC7D0-0EE5-44CD-80AB-C7435DE2A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72093-CF1F-4D7E-AB95-F27CFE958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173D3-FC9C-4084-9B66-BB924EA81D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E0519-2139-4C5B-93DC-DAFEC7EFE4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8E42C-2D71-45D0-9CF5-91A35C426A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4DF94-1BF6-4979-9A8E-06F28C83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D618F-9209-4F30-9372-238F28D7E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006B7-4B13-4FED-A024-ED65F008C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3DF2C-F284-4FF7-8369-84FC0BCFC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536BC-3957-440D-B279-7631F144E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C9831-7D51-4CB3-A27C-FD27A5B18D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C83A3-F4BB-46D5-AF31-9787620C9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465D5-737B-4A8A-B162-087B68900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C82E5-1C7A-422D-9A93-8E7C130BB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8135B-639A-4B3F-8EDC-FF6AFBAC47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6A728-6BD4-4342-80B1-9EA12043D4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D02B4-43F5-471E-8B12-CB6561B3C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975C1-BCDD-4A33-9C65-82B85D00CE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976A10-71C9-4CC0-9C7E-C9828E1AC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703BE-37CB-438A-AE27-822375409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C129F-B275-4EA1-BCF0-E2094D0F1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B19D1-B028-4320-8D6D-429216E20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78271A-6795-45F5-BB85-E8F81A100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0D843-40EA-477E-A117-CD7DF4B51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6A711-F0A7-4C3A-BA3F-775D77554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8345D-A772-490F-B939-CC6A6EE37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784C2-1A1C-49E8-8E04-FDEE99020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DE05E-238A-4F86-BB52-C7EABAEB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E187C-988E-4BF1-8F06-33470F2F8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618096-3CFF-4A98-898E-5C15015B5C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20CBDE-4B03-4714-AB16-8A17F276B4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82207B-24F1-457A-B508-6870DBAE8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4E1AE-5C60-4181-9499-46EB760DD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93E3B-3D9D-4DA0-9AB6-DE102D95F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4B74C-3455-4ABA-B24E-F8DABE5CB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3A1F2-154F-41A0-8865-DBF1D766B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ACC84-3419-4B68-BAB3-277ED0C24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DD906-9A91-4A20-8E8C-C93E61178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131F-78C5-4534-AAB8-B81E7B73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87904-1EFF-4650-AF11-5C8845F89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3D241-9812-45BA-8514-984CAD885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DF26BC-0194-47F7-A601-6FADD7041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CC7E59-C2E9-4F8F-9593-9531B81007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798FC7-45EA-4568-8EE6-FC5D5337EF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9784FA-0F89-4E18-8971-826A9036D3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13880-5C2C-4FEF-AAC9-ED3414A459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DECA1-BE38-4575-BB42-555C4E581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00011-809A-478B-B881-3DA95AA74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0BB71-571F-409B-9CD1-0C99B77191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60BE-4783-452E-8788-C57CD960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18253-64AA-49B2-9923-AE08B14496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52DF2-F678-4089-A941-12E7DFB5F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27279-B515-4530-BE09-209B31767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5EDF9-A1FE-4378-9275-F61A7195E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6809C-AA36-4535-A1D1-4C4C0826B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BD74F-D3A9-4767-9D60-AF2BC2CC0D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4ED7FD-4B5F-4475-A2FF-89EDEE7623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2CE908-3D97-4C88-80E7-02348BAD0F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51C15-A120-44EF-B971-545AEE85B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5BE517-4A3B-4A12-A52E-6A1DD0D26E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E064-2C91-4719-8971-E42297946A6E}"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5340240"/>
            <a:ext cx="8643960" cy="23760"/>
            <a:chOff x="506520" y="5340240"/>
            <a:chExt cx="8643960" cy="23760"/>
          </a:xfrm>
        </p:grpSpPr>
        <p:pic>
          <p:nvPicPr>
            <p:cNvPr id="51" name="6 - Ευθεία γραμμή σύνδεσης"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4C80-35D8-488E-A0AF-D4824D05FCF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 Ευθεία γραμμή σύνδεσης"/>
          <p:cNvGrpSpPr/>
          <p:nvPr/>
        </p:nvGrpSpPr>
        <p:grpSpPr>
          <a:xfrm>
            <a:off x="506520" y="1036800"/>
            <a:ext cx="8643960" cy="29880"/>
            <a:chOff x="506520" y="1036800"/>
            <a:chExt cx="8643960" cy="29880"/>
          </a:xfrm>
        </p:grpSpPr>
        <p:pic>
          <p:nvPicPr>
            <p:cNvPr id="95" name="6 - Ευθεία γραμμή σύνδεσης"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 Ευθεία γραμμή σύνδεσης"/>
          <p:cNvGrpSpPr/>
          <p:nvPr/>
        </p:nvGrpSpPr>
        <p:grpSpPr>
          <a:xfrm>
            <a:off x="506520" y="1036800"/>
            <a:ext cx="8643960" cy="29880"/>
            <a:chOff x="506520" y="1036800"/>
            <a:chExt cx="8643960" cy="29880"/>
          </a:xfrm>
        </p:grpSpPr>
        <p:pic>
          <p:nvPicPr>
            <p:cNvPr id="98" name="8 - Ευθεία γραμμή σύνδεσης"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 Ευθεία γραμμή σύνδεσης"/>
          <p:cNvGrpSpPr/>
          <p:nvPr/>
        </p:nvGrpSpPr>
        <p:grpSpPr>
          <a:xfrm>
            <a:off x="506520" y="1047600"/>
            <a:ext cx="8643960" cy="25560"/>
            <a:chOff x="506520" y="1047600"/>
            <a:chExt cx="8643960" cy="25560"/>
          </a:xfrm>
        </p:grpSpPr>
        <p:pic>
          <p:nvPicPr>
            <p:cNvPr id="101" name="11 - Ευθεία γραμμή σύνδεσης"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B1A9-14AD-4623-BD82-47A4623A7574}"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6 - Ευθεία γραμμή σύνδεσης"/>
          <p:cNvGrpSpPr/>
          <p:nvPr/>
        </p:nvGrpSpPr>
        <p:grpSpPr>
          <a:xfrm>
            <a:off x="506520" y="3432240"/>
            <a:ext cx="8643960" cy="23760"/>
            <a:chOff x="506520" y="3432240"/>
            <a:chExt cx="8643960" cy="23760"/>
          </a:xfrm>
        </p:grpSpPr>
        <p:pic>
          <p:nvPicPr>
            <p:cNvPr id="145" name="6 - Ευθεία γραμμή σύνδεσης"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CC3A-3FBC-4369-8057-52F724979709}" type="slidenum">
              <a:rPr b="0" lang="el-GR"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0 - Ευθεία γραμμή σύνδεσης"/>
          <p:cNvGrpSpPr/>
          <p:nvPr/>
        </p:nvGrpSpPr>
        <p:grpSpPr>
          <a:xfrm>
            <a:off x="506520" y="6010200"/>
            <a:ext cx="8643960" cy="25560"/>
            <a:chOff x="506520" y="6010200"/>
            <a:chExt cx="8643960" cy="25560"/>
          </a:xfrm>
        </p:grpSpPr>
        <p:pic>
          <p:nvPicPr>
            <p:cNvPr id="189" name="10 - Ευθεία γραμμή σύνδεσης"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4190-D1C2-4090-939E-1810D8E5AE4A}"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BC11-2636-4B89-984A-D428F9353681}"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7 - Ευθεία γραμμή σύνδεσης"/>
          <p:cNvGrpSpPr/>
          <p:nvPr/>
        </p:nvGrpSpPr>
        <p:grpSpPr>
          <a:xfrm>
            <a:off x="506520" y="5840280"/>
            <a:ext cx="8643960" cy="24120"/>
            <a:chOff x="506520" y="5840280"/>
            <a:chExt cx="8643960" cy="24120"/>
          </a:xfrm>
        </p:grpSpPr>
        <p:pic>
          <p:nvPicPr>
            <p:cNvPr id="274" name="7 - Ευθεία γραμμή σύνδεσης"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0646-ED66-4462-B239-458711C2C761}"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5076-72B1-4AED-89E5-9A4090F15E5F}"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E280-6557-4E3B-899B-2CE13CCB5A8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1 - Τίτλος" descr=""/>
          <p:cNvPicPr/>
          <p:nvPr/>
        </p:nvPicPr>
        <p:blipFill>
          <a:blip r:embed="rId2"/>
          <a:stretch/>
        </p:blipFill>
        <p:spPr>
          <a:xfrm>
            <a:off x="-19080" y="4406760"/>
            <a:ext cx="8809200" cy="171288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1 - Τίτλος" descr=""/>
          <p:cNvPicPr/>
          <p:nvPr/>
        </p:nvPicPr>
        <p:blipFill>
          <a:blip r:embed="rId2"/>
          <a:stretch/>
        </p:blipFill>
        <p:spPr>
          <a:xfrm>
            <a:off x="103320" y="450720"/>
            <a:ext cx="8894520" cy="1152720"/>
          </a:xfrm>
          <a:prstGeom prst="rect">
            <a:avLst/>
          </a:prstGeom>
          <a:ln w="0">
            <a:noFill/>
          </a:ln>
        </p:spPr>
      </p:pic>
      <p:pic>
        <p:nvPicPr>
          <p:cNvPr id="416" name="3 - Θέση περιεχομένου" descr="Cardiovascular system_el_1.JPG"/>
          <p:cNvPicPr/>
          <p:nvPr/>
        </p:nvPicPr>
        <p:blipFill>
          <a:blip r:embed="rId3"/>
          <a:stretch/>
        </p:blipFill>
        <p:spPr>
          <a:xfrm>
            <a:off x="1000080" y="1554120"/>
            <a:ext cx="7286760" cy="458964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1 - Τίτλος" descr=""/>
          <p:cNvPicPr/>
          <p:nvPr/>
        </p:nvPicPr>
        <p:blipFill>
          <a:blip r:embed="rId2"/>
          <a:stretch/>
        </p:blipFill>
        <p:spPr>
          <a:xfrm>
            <a:off x="103320" y="450720"/>
            <a:ext cx="8894520" cy="1152720"/>
          </a:xfrm>
          <a:prstGeom prst="rect">
            <a:avLst/>
          </a:prstGeom>
          <a:ln w="0">
            <a:noFill/>
          </a:ln>
        </p:spPr>
      </p:pic>
      <p:pic>
        <p:nvPicPr>
          <p:cNvPr id="418" name="3 - Θέση περιεχομένου" descr="anaparagofiko.jpg"/>
          <p:cNvPicPr/>
          <p:nvPr/>
        </p:nvPicPr>
        <p:blipFill>
          <a:blip r:embed="rId3"/>
          <a:stretch/>
        </p:blipFill>
        <p:spPr>
          <a:xfrm>
            <a:off x="785880" y="1714680"/>
            <a:ext cx="7429320" cy="442908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1 - Τίτλος" descr=""/>
          <p:cNvPicPr/>
          <p:nvPr/>
        </p:nvPicPr>
        <p:blipFill>
          <a:blip r:embed="rId2"/>
          <a:stretch/>
        </p:blipFill>
        <p:spPr>
          <a:xfrm>
            <a:off x="103320" y="450720"/>
            <a:ext cx="8894520" cy="1152720"/>
          </a:xfrm>
          <a:prstGeom prst="rect">
            <a:avLst/>
          </a:prstGeom>
          <a:ln w="0">
            <a:noFill/>
          </a:ln>
        </p:spPr>
      </p:pic>
      <p:pic>
        <p:nvPicPr>
          <p:cNvPr id="420" name="3 - Θέση περιεχομένου" descr="lemfiko.jpg"/>
          <p:cNvPicPr/>
          <p:nvPr/>
        </p:nvPicPr>
        <p:blipFill>
          <a:blip r:embed="rId3"/>
          <a:stretch/>
        </p:blipFill>
        <p:spPr>
          <a:xfrm>
            <a:off x="571680" y="1357200"/>
            <a:ext cx="7929360" cy="492948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1 - Τίτλος" descr=""/>
          <p:cNvPicPr/>
          <p:nvPr/>
        </p:nvPicPr>
        <p:blipFill>
          <a:blip r:embed="rId2"/>
          <a:stretch/>
        </p:blipFill>
        <p:spPr>
          <a:xfrm>
            <a:off x="103320" y="450720"/>
            <a:ext cx="8894520" cy="1152720"/>
          </a:xfrm>
          <a:prstGeom prst="rect">
            <a:avLst/>
          </a:prstGeom>
          <a:ln w="0">
            <a:noFill/>
          </a:ln>
        </p:spPr>
      </p:pic>
      <p:pic>
        <p:nvPicPr>
          <p:cNvPr id="422" name="3 - Θέση περιεχομένου" descr="anapnestik.jpg"/>
          <p:cNvPicPr/>
          <p:nvPr/>
        </p:nvPicPr>
        <p:blipFill>
          <a:blip r:embed="rId3"/>
          <a:stretch/>
        </p:blipFill>
        <p:spPr>
          <a:xfrm>
            <a:off x="714240" y="1500120"/>
            <a:ext cx="7858440" cy="478656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1 - Τίτλος" descr=""/>
          <p:cNvPicPr/>
          <p:nvPr/>
        </p:nvPicPr>
        <p:blipFill>
          <a:blip r:embed="rId2"/>
          <a:stretch/>
        </p:blipFill>
        <p:spPr>
          <a:xfrm>
            <a:off x="103320" y="450720"/>
            <a:ext cx="8894520" cy="1152720"/>
          </a:xfrm>
          <a:prstGeom prst="rect">
            <a:avLst/>
          </a:prstGeom>
          <a:ln w="0">
            <a:noFill/>
          </a:ln>
        </p:spPr>
      </p:pic>
      <p:pic>
        <p:nvPicPr>
          <p:cNvPr id="424" name="3 - Θέση περιεχομένου" descr="miiko.jpg"/>
          <p:cNvPicPr/>
          <p:nvPr/>
        </p:nvPicPr>
        <p:blipFill>
          <a:blip r:embed="rId3"/>
          <a:stretch/>
        </p:blipFill>
        <p:spPr>
          <a:xfrm>
            <a:off x="500040" y="1285920"/>
            <a:ext cx="8072640" cy="500076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1 - Τίτλος" descr=""/>
          <p:cNvPicPr/>
          <p:nvPr/>
        </p:nvPicPr>
        <p:blipFill>
          <a:blip r:embed="rId2"/>
          <a:stretch/>
        </p:blipFill>
        <p:spPr>
          <a:xfrm>
            <a:off x="225360" y="122400"/>
            <a:ext cx="8406000" cy="148716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1)Το σύστημα αισθητήριων οργάνων  (τα μάτια, τα αυτιά, η γλώσσα και η μύτη)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2) Το νευρικό σύστημα που ανιχνεύει και επεξεργάζεται τις πληροφορίες από τα αισθητήρια όργανα.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3) Το σύστημα των ενδοκρινών αδένων που παράγει ορμόνες και ρυθμίζει τη λειτουργία των ιστών.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4) Το κυκλοφορικό σύστημα ή καρδιαγγειακό σύστημα που μεταφέρει οξυγόνο και θρεπτικές ουσίες στους ιστούς και απομακρύνει τα άχρηστα μεταβολικά προϊόντα, ρυθμίζει την θερμοκρασία του σώματος.</a:t>
            </a:r>
            <a:endParaRPr b="0" lang="en-US" sz="2400" spc="-1" strike="noStrike">
              <a:solidFill>
                <a:srgbClr val="4e3b30"/>
              </a:solidFill>
              <a:latin typeface="Franklin Gothic Book"/>
            </a:endParaRPr>
          </a:p>
        </p:txBody>
      </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txBox="1"/>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5) Το αναπαραγωγικό σύστημα που παράγει σπερματοζωάρια και ωάρια</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6) Το λεμφικό σύστημα το οποίο είναι δίκτυο από αγγεία και αδένες που συνεργάζονται για την μεταφορά και το καθάρισμα του μεσοκυττάριου υγρού.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7) Τα όργανα του αναπνευστικού συστήματος που πραγματοποιούν την ανταλλαγή οξυγόνου και διοξειδίου του άνθρακα με το περιβάλλων.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8) Το μυϊκό σύστημα που εκτελεί όλες τις κινήσεις του σώματος, διατηρεί τη στάση του σώματος, και βοηθά στη διατήρηση της θερμοκρασίας του σώματος.</a:t>
            </a:r>
            <a:endParaRPr b="0" lang="en-US" sz="2400" spc="-1" strike="noStrike">
              <a:solidFill>
                <a:srgbClr val="4e3b30"/>
              </a:solidFill>
              <a:latin typeface="Franklin Gothic Book"/>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1 - Τίτλος" descr=""/>
          <p:cNvPicPr/>
          <p:nvPr/>
        </p:nvPicPr>
        <p:blipFill>
          <a:blip r:embed="rId2"/>
          <a:stretch/>
        </p:blipFill>
        <p:spPr>
          <a:xfrm>
            <a:off x="103320" y="450720"/>
            <a:ext cx="8894520" cy="1152720"/>
          </a:xfrm>
          <a:prstGeom prst="rect">
            <a:avLst/>
          </a:prstGeom>
          <a:ln w="0">
            <a:noFill/>
          </a:ln>
        </p:spPr>
      </p:pic>
      <p:pic>
        <p:nvPicPr>
          <p:cNvPr id="429" name="3 - Θέση περιεχομένου" descr="soma 1.jpg"/>
          <p:cNvPicPr/>
          <p:nvPr/>
        </p:nvPicPr>
        <p:blipFill>
          <a:blip r:embed="rId3"/>
          <a:stretch/>
        </p:blipFill>
        <p:spPr>
          <a:xfrm>
            <a:off x="285840" y="2571840"/>
            <a:ext cx="3857400" cy="2928960"/>
          </a:xfrm>
          <a:prstGeom prst="rect">
            <a:avLst/>
          </a:prstGeom>
          <a:ln w="0">
            <a:noFill/>
          </a:ln>
        </p:spPr>
      </p:pic>
      <p:pic>
        <p:nvPicPr>
          <p:cNvPr id="430" name="4 - Εικόνα" descr="soma 2.jpg"/>
          <p:cNvPicPr/>
          <p:nvPr/>
        </p:nvPicPr>
        <p:blipFill>
          <a:blip r:embed="rId4"/>
          <a:stretch/>
        </p:blipFill>
        <p:spPr>
          <a:xfrm>
            <a:off x="4572000" y="2571840"/>
            <a:ext cx="4071960" cy="300024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1 - Τίτλος" descr=""/>
          <p:cNvPicPr/>
          <p:nvPr/>
        </p:nvPicPr>
        <p:blipFill>
          <a:blip r:embed="rId2"/>
          <a:stretch/>
        </p:blipFill>
        <p:spPr>
          <a:xfrm>
            <a:off x="298440" y="450720"/>
            <a:ext cx="8699400" cy="854280"/>
          </a:xfrm>
          <a:prstGeom prst="rect">
            <a:avLst/>
          </a:prstGeom>
          <a:ln w="0">
            <a:noFill/>
          </a:ln>
        </p:spPr>
      </p:pic>
      <p:sp>
        <p:nvSpPr>
          <p:cNvPr id="432"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4e3b30"/>
                </a:solidFill>
                <a:uFillTx/>
                <a:latin typeface="Franklin Gothic Book"/>
              </a:rPr>
              <a:t>Νηπιακή ηλικία:</a:t>
            </a:r>
            <a:endParaRPr b="0" lang="en-US" sz="3200" spc="-1" strike="noStrike">
              <a:solidFill>
                <a:srgbClr val="4e3b30"/>
              </a:solidFill>
              <a:latin typeface="Franklin Gothic Book"/>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    </a:t>
            </a:r>
            <a:r>
              <a:rPr b="0" lang="el-GR" sz="3200" spc="-1" strike="noStrike">
                <a:solidFill>
                  <a:srgbClr val="4e3b30"/>
                </a:solidFill>
                <a:latin typeface="Franklin Gothic Book"/>
              </a:rPr>
              <a:t>Κατά τη βρεφική ηλικία (από το 3ο έως το 5ο ή 6ο έτος) το παιδί κατέκτησε τουλάχιστον μερικώς, την ικανότητα αυτοεξυπηρέτησης και τώρα στη διάρκεια της νηπιακής ηλικίας επεκτείνει τις προσπάθειες του στην κατάκτηση της αυτονομίας και της αυτάρκειας, απαραίτητων στοιχείων για τη μετάβασή του στο επόμενο στάδιο (σχολική περίοδος). </a:t>
            </a:r>
            <a:endParaRPr b="0" lang="en-US" sz="3200" spc="-1" strike="noStrike">
              <a:solidFill>
                <a:srgbClr val="4e3b30"/>
              </a:solidFill>
              <a:latin typeface="Franklin Gothic Book"/>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txBox="1"/>
          <p:nvPr/>
        </p:nvSpPr>
        <p:spPr>
          <a:xfrm>
            <a:off x="457200" y="476280"/>
            <a:ext cx="8229600" cy="5649840"/>
          </a:xfrm>
          <a:prstGeom prst="rect">
            <a:avLst/>
          </a:prstGeom>
          <a:noFill/>
          <a:ln w="0">
            <a:noFill/>
          </a:ln>
        </p:spPr>
        <p:txBody>
          <a:bodyPr lIns="90000" rIns="90000" tIns="46800" bIns="46800" anchor="t">
            <a:normAutofit fontScale="94000"/>
          </a:bodyPr>
          <a:p>
            <a:pPr marL="322200" indent="-322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u="sng">
                <a:solidFill>
                  <a:srgbClr val="4e3b30"/>
                </a:solidFill>
                <a:uFillTx/>
                <a:latin typeface="Franklin Gothic Book"/>
              </a:rPr>
              <a:t>Σχολική ηλικία</a:t>
            </a:r>
            <a:r>
              <a:rPr b="1" lang="en-US" sz="3000" spc="-1" strike="noStrike" u="sng">
                <a:solidFill>
                  <a:srgbClr val="4e3b30"/>
                </a:solidFill>
                <a:uFillTx/>
                <a:latin typeface="Franklin Gothic Book"/>
              </a:rPr>
              <a:t>:</a:t>
            </a:r>
            <a:endParaRPr b="0" lang="en-US" sz="3000" spc="-1" strike="noStrike">
              <a:solidFill>
                <a:srgbClr val="4e3b30"/>
              </a:solidFill>
              <a:latin typeface="Franklin Gothic Book"/>
            </a:endParaRPr>
          </a:p>
          <a:p>
            <a:pPr marL="322200" indent="-322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Franklin Gothic Book"/>
              </a:rPr>
              <a:t>    </a:t>
            </a:r>
            <a:r>
              <a:rPr b="0" lang="el-GR" sz="3000" spc="-1" strike="noStrike">
                <a:solidFill>
                  <a:srgbClr val="4e3b30"/>
                </a:solidFill>
                <a:latin typeface="Franklin Gothic Book"/>
              </a:rPr>
              <a:t>Η σχολική ηλικία ξεκινά περίπου το έκτο έτος ζωής του παιδιού και τελειώνει στην ηλικία που είναι σεξουαλικώς ώριμο (11ο έτος για τα κορίτσια, 13ο έτος για τα αγόρια). Στην ηλικία αυτή μειώνεται ο ρυθμός αύξησης σε ότι αφορά τα σωματικά μέλη και δίνεται έμφαση στην ποιοτική αλλαγή αυτών. Ενώ στις προηγούμενες ηλικίες στόχος ήταν η ανάπτυξη των μελών εκείνων που απαρτίζουν το άτομο, τώρα το ενδιαφέρον μετατοπίζεται στην τελειοποίησή τους και στη ρύθμιση των βιοσωματικών και ψυχικών λειτουργιών.</a:t>
            </a:r>
            <a:endParaRPr b="0" lang="en-US" sz="3000" spc="-1" strike="noStrike">
              <a:solidFill>
                <a:srgbClr val="4e3b30"/>
              </a:solidFill>
              <a:latin typeface="Franklin Gothic Book"/>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1 - Τίτλος" descr=""/>
          <p:cNvPicPr/>
          <p:nvPr/>
        </p:nvPicPr>
        <p:blipFill>
          <a:blip r:embed="rId2"/>
          <a:stretch/>
        </p:blipFill>
        <p:spPr>
          <a:xfrm>
            <a:off x="103320" y="450720"/>
            <a:ext cx="8894520" cy="1152720"/>
          </a:xfrm>
          <a:prstGeom prst="rect">
            <a:avLst/>
          </a:prstGeom>
          <a:ln w="0">
            <a:noFill/>
          </a:ln>
        </p:spPr>
      </p:pic>
      <p:sp>
        <p:nvSpPr>
          <p:cNvPr id="401"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    </a:t>
            </a:r>
            <a:r>
              <a:rPr b="0" lang="el-GR" sz="3200" spc="-1" strike="noStrike">
                <a:solidFill>
                  <a:srgbClr val="4e3b30"/>
                </a:solidFill>
                <a:latin typeface="Franklin Gothic Book"/>
              </a:rPr>
              <a:t>Ο σκελετός του ανθρώπου αποτελείται από περισσότερα από 200 οστά. Ωστόσο αν τον παρατηρήσεις προσεκτικά, θα διαπιστώσεις ότι εύκολα μπορείς να κατατάξεις τα οστά σε ομάδες ανάλογα με τη θέση τους. Θα συμφωνήσεις ότι μια ομάδα μπορούν να αποτελέσουν τα οστά της κεφαλής, </a:t>
            </a:r>
            <a:endParaRPr b="0" lang="en-US" sz="3200" spc="-1" strike="noStrike">
              <a:solidFill>
                <a:srgbClr val="4e3b30"/>
              </a:solidFill>
              <a:latin typeface="Franklin Gothic Book"/>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   </a:t>
            </a:r>
            <a:r>
              <a:rPr b="0" lang="el-GR" sz="3200" spc="-1" strike="noStrike">
                <a:solidFill>
                  <a:srgbClr val="4e3b30"/>
                </a:solidFill>
                <a:latin typeface="Franklin Gothic Book"/>
              </a:rPr>
              <a:t>μια άλλη ομάδα τα οστά της σπονδυλικής στήλης κι άλλες ομάδες τα οστά του </a:t>
            </a:r>
            <a:endParaRPr b="0" lang="en-US" sz="3200" spc="-1" strike="noStrike">
              <a:solidFill>
                <a:srgbClr val="4e3b30"/>
              </a:solidFill>
              <a:latin typeface="Franklin Gothic Book"/>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   </a:t>
            </a:r>
            <a:r>
              <a:rPr b="0" lang="el-GR" sz="3200" spc="-1" strike="noStrike">
                <a:solidFill>
                  <a:srgbClr val="4e3b30"/>
                </a:solidFill>
                <a:latin typeface="Franklin Gothic Book"/>
              </a:rPr>
              <a:t>θώρακα και των άκρων.</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txBox="1"/>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u="sng">
                <a:solidFill>
                  <a:srgbClr val="4e3b30"/>
                </a:solidFill>
                <a:uFillTx/>
                <a:latin typeface="Franklin Gothic Book"/>
              </a:rPr>
              <a:t>Εφηβική ηλικία</a:t>
            </a:r>
            <a:r>
              <a:rPr b="1" lang="en-US" sz="2700" spc="-1" strike="noStrike" u="sng">
                <a:solidFill>
                  <a:srgbClr val="4e3b30"/>
                </a:solidFill>
                <a:uFillTx/>
                <a:latin typeface="Franklin Gothic Book"/>
              </a:rPr>
              <a:t>:</a:t>
            </a:r>
            <a:endParaRPr b="0" lang="en-US" sz="2700" spc="-1" strike="noStrike">
              <a:solidFill>
                <a:srgbClr val="4e3b30"/>
              </a:solidFill>
              <a:latin typeface="Franklin Gothic Book"/>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Franklin Gothic Book"/>
              </a:rPr>
              <a:t>    </a:t>
            </a:r>
            <a:r>
              <a:rPr b="0" lang="el-GR" sz="2700" spc="-1" strike="noStrike">
                <a:solidFill>
                  <a:srgbClr val="4e3b30"/>
                </a:solidFill>
                <a:latin typeface="Franklin Gothic Book"/>
              </a:rPr>
              <a:t>Ως αφετηρία της εφηβικής ηλικίας θεωρούμε το χρονικό σημείο που το άτομο αρχίζει να είναι ικανό για αναπαραγωγή (περίπου 11ο έτος για τα κορίτσια, 13ο για τα αγόρια) και ως πέρας αυτής, το χρονικό σημείο που το άτομο είναι έτοιμο να αναλάβει και να υποστηρίξει το ρόλο του ενήλικου. Η εφηβική ηλικία χαρακτηρίζεται από ραγδαίες σωματικές αλλαγές συναισθηματική ένταση, στροφή στις ετερόφυλες σχέσεις αφηρημένη σκέψη, έντονο προβληματισμό κ.α.  Ο έφηβος παρατηρεί το σώμα του να αλλάζει με ταχύτατο ρυθμό και σε όλες τις παραμέτρους του (ύψος, βάρος, αναλογίες, λειτουργία οργάνων) με σημαντικότερη αλλαγή την ωρίμανση της γενετήσιας λειτουργίας.</a:t>
            </a:r>
            <a:endParaRPr b="0" lang="en-US" sz="2700" spc="-1" strike="noStrike">
              <a:solidFill>
                <a:srgbClr val="4e3b30"/>
              </a:solidFill>
              <a:latin typeface="Franklin Gothic Book"/>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1 - Τίτλος" descr=""/>
          <p:cNvPicPr/>
          <p:nvPr/>
        </p:nvPicPr>
        <p:blipFill>
          <a:blip r:embed="rId2"/>
          <a:stretch/>
        </p:blipFill>
        <p:spPr>
          <a:xfrm>
            <a:off x="103320" y="450720"/>
            <a:ext cx="8894520" cy="1152720"/>
          </a:xfrm>
          <a:prstGeom prst="rect">
            <a:avLst/>
          </a:prstGeom>
          <a:ln w="0">
            <a:noFill/>
          </a:ln>
        </p:spPr>
      </p:pic>
      <p:pic>
        <p:nvPicPr>
          <p:cNvPr id="436" name="3 - Θέση περιεχομένου" descr="somat 1.jpg"/>
          <p:cNvPicPr/>
          <p:nvPr/>
        </p:nvPicPr>
        <p:blipFill>
          <a:blip r:embed="rId3"/>
          <a:stretch/>
        </p:blipFill>
        <p:spPr>
          <a:xfrm>
            <a:off x="1571760" y="2357280"/>
            <a:ext cx="5929200" cy="392940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1 - Τίτλος" descr=""/>
          <p:cNvPicPr/>
          <p:nvPr/>
        </p:nvPicPr>
        <p:blipFill>
          <a:blip r:embed="rId2"/>
          <a:stretch/>
        </p:blipFill>
        <p:spPr>
          <a:xfrm>
            <a:off x="103320" y="450720"/>
            <a:ext cx="8894520" cy="115272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lIns="90000" rIns="90000" tIns="46800" bIns="46800" anchor="t">
            <a:normAutofit fontScale="91000"/>
          </a:bodyPr>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    </a:t>
            </a:r>
            <a:r>
              <a:rPr b="0" lang="el-GR" sz="2800" spc="-1" strike="noStrike">
                <a:solidFill>
                  <a:srgbClr val="4e3b30"/>
                </a:solidFill>
                <a:latin typeface="Franklin Gothic Book"/>
              </a:rPr>
              <a:t>1)ΕΚΤΟΜΟΡΦΙΚΟΣ ΤΥΠΟΣ: Αυτά τα άτομα είναι λεπτά και ψηλά, με αδύνατο σκελετό, λίγο λίπος, λίγη μυϊκή μάζα και δυσκολεύονται να πάρουν βάρος. </a:t>
            </a:r>
            <a:endParaRPr b="0" lang="en-US" sz="2800" spc="-1" strike="noStrike">
              <a:solidFill>
                <a:srgbClr val="4e3b30"/>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    </a:t>
            </a:r>
            <a:r>
              <a:rPr b="0" lang="el-GR" sz="2800" spc="-1" strike="noStrike">
                <a:solidFill>
                  <a:srgbClr val="4e3b30"/>
                </a:solidFill>
                <a:latin typeface="Franklin Gothic Book"/>
              </a:rPr>
              <a:t>2)ΕΝΔΟΜΟΡΦΙΚΟΣ ΤΥΠΟΣ: Ο ενδομορφικός τύπος έχει πολύ λίπος, πολλή μυϊκή μάζα και παίρνει εύκολα βάρος. </a:t>
            </a:r>
            <a:endParaRPr b="0" lang="en-US" sz="2800" spc="-1" strike="noStrike">
              <a:solidFill>
                <a:srgbClr val="4e3b30"/>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    </a:t>
            </a:r>
            <a:r>
              <a:rPr b="0" lang="el-GR" sz="2800" spc="-1" strike="noStrike">
                <a:solidFill>
                  <a:srgbClr val="4e3b30"/>
                </a:solidFill>
                <a:latin typeface="Franklin Gothic Book"/>
              </a:rPr>
              <a:t>3)ΜΕΣΟΜΟΡΦΙΚΟΣ ΤΥΠΟΣ: Είναι αθλητικοί, σφιχτοί και δυνατοί. Δεν είναι υπέρβαροι αλλά ούτε και λιποβαρείς. </a:t>
            </a:r>
            <a:endParaRPr b="0" lang="en-US" sz="2800" spc="-1" strike="noStrike">
              <a:solidFill>
                <a:srgbClr val="4e3b30"/>
              </a:solidFill>
              <a:latin typeface="Franklin Gothic Book"/>
            </a:endParaRPr>
          </a:p>
        </p:txBody>
      </p:sp>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1 - Τίτλος" descr=""/>
          <p:cNvPicPr/>
          <p:nvPr/>
        </p:nvPicPr>
        <p:blipFill>
          <a:blip r:embed="rId2"/>
          <a:stretch/>
        </p:blipFill>
        <p:spPr>
          <a:xfrm>
            <a:off x="103320" y="450720"/>
            <a:ext cx="8894520" cy="1152720"/>
          </a:xfrm>
          <a:prstGeom prst="rect">
            <a:avLst/>
          </a:prstGeom>
          <a:ln w="0">
            <a:noFill/>
          </a:ln>
        </p:spPr>
      </p:pic>
      <p:pic>
        <p:nvPicPr>
          <p:cNvPr id="440" name="3 - Θέση περιεχομένου" descr="somatotipos 1.jpg"/>
          <p:cNvPicPr/>
          <p:nvPr/>
        </p:nvPicPr>
        <p:blipFill>
          <a:blip r:embed="rId3"/>
          <a:stretch/>
        </p:blipFill>
        <p:spPr>
          <a:xfrm>
            <a:off x="1395360" y="1554120"/>
            <a:ext cx="6505560" cy="4525920"/>
          </a:xfrm>
          <a:prstGeom prst="rect">
            <a:avLst/>
          </a:prstGeom>
          <a:ln w="0">
            <a:noFill/>
          </a:ln>
        </p:spPr>
      </p:pic>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1 - Τίτλος" descr=""/>
          <p:cNvPicPr/>
          <p:nvPr/>
        </p:nvPicPr>
        <p:blipFill>
          <a:blip r:embed="rId2"/>
          <a:stretch/>
        </p:blipFill>
        <p:spPr>
          <a:xfrm>
            <a:off x="103320" y="450720"/>
            <a:ext cx="8894520" cy="115272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1)ΣΩΜΑΤΟΤΥΠΟΣ ΑΧΛΑΔΙ:</a:t>
            </a:r>
            <a:r>
              <a:rPr b="0" lang="el-GR" sz="3200" spc="-1" strike="noStrike">
                <a:solidFill>
                  <a:srgbClr val="4e3b30"/>
                </a:solidFill>
                <a:latin typeface="Franklin Gothic Book"/>
              </a:rPr>
              <a:t> </a:t>
            </a:r>
            <a:r>
              <a:rPr b="0" lang="el-GR" sz="2400" spc="-1" strike="noStrike">
                <a:solidFill>
                  <a:srgbClr val="4e3b30"/>
                </a:solidFill>
                <a:latin typeface="Franklin Gothic Book"/>
              </a:rPr>
              <a:t>Στο σωματότυπο αχλάδι, ο οποίος είναι κλασσικός των μεσογειακών γυναικών, η μέση είναι στενή, ενώ οι γοφοί είναι φαρδύτεροι από την περιοχή του στήθους. Ο λαιμός είναι κομψός και τα χέρια είναι λεπτά. Επίσης οι γάμπες είναι συνήθως λεπτές.</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2)</a:t>
            </a:r>
            <a:r>
              <a:rPr b="0" lang="el-GR" sz="2800" spc="-1" strike="noStrike">
                <a:solidFill>
                  <a:srgbClr val="4e3b30"/>
                </a:solidFill>
                <a:latin typeface="Franklin Gothic Book"/>
              </a:rPr>
              <a:t> ΣΩΜΑΤΟΤΥΠΟΣ ΚΛΕΨΥΔΡΑ: </a:t>
            </a:r>
            <a:r>
              <a:rPr b="0" lang="el-GR" sz="2400" spc="-1" strike="noStrike">
                <a:solidFill>
                  <a:srgbClr val="4e3b30"/>
                </a:solidFill>
                <a:latin typeface="Franklin Gothic Book"/>
              </a:rPr>
              <a:t>Στο σωματότυπο αυτό, οι γοφοί και η περιοχή του στήθους είναι φαρδιοί, ενώ η μέση είναι στενή δημιουργώντας έτσι το χαρακτηριστικό σχήμα της κλεψύδρας. Τα οπίσθια είναι τονισμένα και οι γάμπες φαίνονται γυμνασμένες.</a:t>
            </a:r>
            <a:endParaRPr b="0" lang="en-US" sz="2400" spc="-1" strike="noStrike">
              <a:solidFill>
                <a:srgbClr val="4e3b30"/>
              </a:solidFill>
              <a:latin typeface="Franklin Gothic Book"/>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txBox="1"/>
          <p:nvPr/>
        </p:nvSpPr>
        <p:spPr>
          <a:xfrm>
            <a:off x="304920" y="476280"/>
            <a:ext cx="8686800" cy="56037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3)ΣΩΜΑΤΟΤΥΠΟΣ ΜΠΑΝΑΝΑ</a:t>
            </a:r>
            <a:r>
              <a:rPr b="0" lang="en-US" sz="2800" spc="-1" strike="noStrike">
                <a:solidFill>
                  <a:srgbClr val="4e3b30"/>
                </a:solidFill>
                <a:latin typeface="Franklin Gothic Book"/>
              </a:rPr>
              <a:t> </a:t>
            </a:r>
            <a:r>
              <a:rPr b="0" lang="el-GR" sz="2800" spc="-1" strike="noStrike">
                <a:solidFill>
                  <a:srgbClr val="4e3b30"/>
                </a:solidFill>
                <a:latin typeface="Franklin Gothic Book"/>
              </a:rPr>
              <a:t>ή ΠΑΡΑΛΛΗΛΟΓΡΑΜΜΟ: </a:t>
            </a:r>
            <a:endParaRPr b="0" lang="en-US" sz="28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Στο σωματότυπο αυτό, τα χέρια και πόδια είναι λεπτά και μακριά, όχι όμως γυμνασμένα, ο κορμός είναι μικρός, οι ώμοι λεπτοί και η αποθήκευση λίπους χαμηλή. Τα οπίσθια είναι μικρά και επίπεδα.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Franklin Gothic Book"/>
              </a:rPr>
              <a:t>4)</a:t>
            </a:r>
            <a:r>
              <a:rPr b="0" lang="el-GR" sz="2800" spc="-1" strike="noStrike">
                <a:solidFill>
                  <a:srgbClr val="4e3b30"/>
                </a:solidFill>
                <a:latin typeface="Franklin Gothic Book"/>
              </a:rPr>
              <a:t>ΣΩΜΑΤΟΤΥΠΟΣ ΜΗΛΟ: </a:t>
            </a:r>
            <a:r>
              <a:rPr b="0" lang="el-GR" sz="2400" spc="-1" strike="noStrike">
                <a:solidFill>
                  <a:srgbClr val="4e3b30"/>
                </a:solidFill>
                <a:latin typeface="Franklin Gothic Book"/>
              </a:rPr>
              <a:t>Στο σωματότυπο αυτό, ο κορμός είναι στρογγυλεμένος, με αποτέλεσμα να μοιάζετε ογκώδεις. Τα μπράτσα είναι συνήθως πλαδαρά. Οι γλουτοί είναι μικροί και επίπεδοι και οι μηροί είναι αδύνατοι και τα πόδια λεπτά.</a:t>
            </a:r>
            <a:endParaRPr b="0" lang="en-US" sz="2400" spc="-1" strike="noStrike">
              <a:solidFill>
                <a:srgbClr val="4e3b30"/>
              </a:solidFill>
              <a:latin typeface="Franklin Gothic Book"/>
            </a:endParaRPr>
          </a:p>
        </p:txBody>
      </p:sp>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4" name="1 - Τίτλος" descr=""/>
          <p:cNvPicPr/>
          <p:nvPr/>
        </p:nvPicPr>
        <p:blipFill>
          <a:blip r:embed="rId2"/>
          <a:stretch/>
        </p:blipFill>
        <p:spPr>
          <a:xfrm>
            <a:off x="103320" y="450720"/>
            <a:ext cx="8894520" cy="1152720"/>
          </a:xfrm>
          <a:prstGeom prst="rect">
            <a:avLst/>
          </a:prstGeom>
          <a:ln w="0">
            <a:noFill/>
          </a:ln>
        </p:spPr>
      </p:pic>
      <p:sp>
        <p:nvSpPr>
          <p:cNvPr id="44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Franklin Gothic Book"/>
              </a:rPr>
              <a:t>Όλα τα αθλήματα </a:t>
            </a:r>
            <a:br>
              <a:rPr sz="3200"/>
            </a:br>
            <a:r>
              <a:rPr b="0" i="1" lang="el-GR" sz="3200" spc="-1" strike="noStrike">
                <a:solidFill>
                  <a:srgbClr val="4e3b30"/>
                </a:solidFill>
                <a:latin typeface="Franklin Gothic Book"/>
              </a:rPr>
              <a:t>γυμνάζουν το σώμα, </a:t>
            </a:r>
            <a:br>
              <a:rPr sz="3200"/>
            </a:br>
            <a:r>
              <a:rPr b="0" i="1" lang="el-GR" sz="3200" spc="-1" strike="noStrike">
                <a:solidFill>
                  <a:srgbClr val="4e3b30"/>
                </a:solidFill>
                <a:latin typeface="Franklin Gothic Book"/>
              </a:rPr>
              <a:t>όμως το καθένα </a:t>
            </a:r>
            <a:br>
              <a:rPr sz="3200"/>
            </a:br>
            <a:r>
              <a:rPr b="0" i="1" lang="el-GR" sz="3200" spc="-1" strike="noStrike">
                <a:solidFill>
                  <a:srgbClr val="4e3b30"/>
                </a:solidFill>
                <a:latin typeface="Franklin Gothic Book"/>
              </a:rPr>
              <a:t>από αυτά έχει </a:t>
            </a:r>
            <a:br>
              <a:rPr sz="3200"/>
            </a:br>
            <a:r>
              <a:rPr b="0" i="1" lang="el-GR" sz="3200" spc="-1" strike="noStrike">
                <a:solidFill>
                  <a:srgbClr val="4e3b30"/>
                </a:solidFill>
                <a:latin typeface="Franklin Gothic Book"/>
              </a:rPr>
              <a:t>διαφορετικές </a:t>
            </a:r>
            <a:br>
              <a:rPr sz="3200"/>
            </a:br>
            <a:r>
              <a:rPr b="0" i="1" lang="el-GR" sz="3200" spc="-1" strike="noStrike">
                <a:solidFill>
                  <a:srgbClr val="4e3b30"/>
                </a:solidFill>
                <a:latin typeface="Franklin Gothic Book"/>
              </a:rPr>
              <a:t>απαιτήσεις σε</a:t>
            </a:r>
            <a:br>
              <a:rPr sz="3200"/>
            </a:br>
            <a:r>
              <a:rPr b="0" i="1" lang="el-GR" sz="3200" spc="-1" strike="noStrike">
                <a:solidFill>
                  <a:srgbClr val="4e3b30"/>
                </a:solidFill>
                <a:latin typeface="Franklin Gothic Book"/>
              </a:rPr>
              <a:t>σωματότυπο, </a:t>
            </a:r>
            <a:br>
              <a:rPr sz="3200"/>
            </a:br>
            <a:r>
              <a:rPr b="0" i="1" lang="el-GR" sz="3200" spc="-1" strike="noStrike">
                <a:solidFill>
                  <a:srgbClr val="4e3b30"/>
                </a:solidFill>
                <a:latin typeface="Franklin Gothic Book"/>
              </a:rPr>
              <a:t>ο οποίος...</a:t>
            </a:r>
            <a:br>
              <a:rPr sz="3200"/>
            </a:br>
            <a:r>
              <a:rPr b="0" lang="el-GR" sz="3200" spc="-1" strike="noStrike">
                <a:solidFill>
                  <a:srgbClr val="4e3b30"/>
                </a:solidFill>
                <a:latin typeface="Franklin Gothic Book"/>
              </a:rPr>
              <a:t>διαμορφώνεται ακόμη περισσότερο από την εξειδικευμένη προπόνηση. </a:t>
            </a:r>
            <a:endParaRPr b="0" lang="en-US" sz="3200" spc="-1" strike="noStrike">
              <a:solidFill>
                <a:srgbClr val="4e3b30"/>
              </a:solidFill>
              <a:latin typeface="Franklin Gothic Book"/>
            </a:endParaRPr>
          </a:p>
        </p:txBody>
      </p:sp>
      <p:pic>
        <p:nvPicPr>
          <p:cNvPr id="446" name="3 - Εικόνα" descr="soma atliton.jpg"/>
          <p:cNvPicPr/>
          <p:nvPr/>
        </p:nvPicPr>
        <p:blipFill>
          <a:blip r:embed="rId3"/>
          <a:stretch/>
        </p:blipFill>
        <p:spPr>
          <a:xfrm>
            <a:off x="4071960" y="1714680"/>
            <a:ext cx="4929120" cy="328608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1 - Τίτλος" descr=""/>
          <p:cNvPicPr/>
          <p:nvPr/>
        </p:nvPicPr>
        <p:blipFill>
          <a:blip r:embed="rId2"/>
          <a:stretch/>
        </p:blipFill>
        <p:spPr>
          <a:xfrm>
            <a:off x="103320" y="450720"/>
            <a:ext cx="8894520" cy="1146240"/>
          </a:xfrm>
          <a:prstGeom prst="rect">
            <a:avLst/>
          </a:prstGeom>
          <a:ln w="0">
            <a:noFill/>
          </a:ln>
        </p:spPr>
      </p:pic>
      <p:pic>
        <p:nvPicPr>
          <p:cNvPr id="448" name="3 - Θέση περιεχομένου" descr="-ιαβαθμισμένο-smiley-5826004.jpg"/>
          <p:cNvPicPr/>
          <p:nvPr/>
        </p:nvPicPr>
        <p:blipFill>
          <a:blip r:embed="rId3"/>
          <a:stretch/>
        </p:blipFill>
        <p:spPr>
          <a:xfrm>
            <a:off x="571680" y="2000160"/>
            <a:ext cx="8072280" cy="435780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Picture 6" descr="σκελετος"/>
          <p:cNvPicPr/>
          <p:nvPr/>
        </p:nvPicPr>
        <p:blipFill>
          <a:blip r:embed="rId2"/>
          <a:stretch/>
        </p:blipFill>
        <p:spPr>
          <a:xfrm>
            <a:off x="755640" y="189000"/>
            <a:ext cx="7245360" cy="6480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1 - Ορθογώνιο"/>
          <p:cNvSpPr/>
          <p:nvPr/>
        </p:nvSpPr>
        <p:spPr>
          <a:xfrm>
            <a:off x="642960" y="357120"/>
            <a:ext cx="757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Franklin Gothic Book"/>
              </a:rPr>
              <a:t>                                 </a:t>
            </a:r>
            <a:r>
              <a:rPr b="1" i="1" lang="el-GR" sz="1800" spc="-1" strike="noStrike">
                <a:solidFill>
                  <a:srgbClr val="000000"/>
                </a:solidFill>
                <a:latin typeface="Franklin Gothic Book"/>
              </a:rPr>
              <a:t>Μορφή, σύσταση και δομή των οστών</a:t>
            </a:r>
            <a:endParaRPr b="0" lang="en-US" sz="1800" spc="-1" strike="noStrike">
              <a:solidFill>
                <a:srgbClr val="000000"/>
              </a:solidFill>
              <a:latin typeface="Franklin Gothic Book"/>
            </a:endParaRPr>
          </a:p>
        </p:txBody>
      </p:sp>
      <p:sp>
        <p:nvSpPr>
          <p:cNvPr id="404" name="2 - Ορθογώνιο"/>
          <p:cNvSpPr/>
          <p:nvPr/>
        </p:nvSpPr>
        <p:spPr>
          <a:xfrm>
            <a:off x="357120" y="1214280"/>
            <a:ext cx="8429760" cy="6232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Book"/>
              </a:rPr>
              <a:t>Τα οστά του ανθρώπου ανάλογα με το σχήμα τους χωρίζονται σε πλατιά, σε κοντά και σε μακρά.</a:t>
            </a:r>
            <a:endParaRPr b="0" lang="en-US" sz="24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Book"/>
              </a:rPr>
              <a:t>Τα οστά αποτελούνται από οστικά κύτταρα, από άλατα (κυρίως του ασβεστίου και του φωσφόρου) που τα κάνουν σκληρά και από μια πρωτεΐνη, το κολλαγόνο, που τους δίνει ελαστικότητα.</a:t>
            </a:r>
            <a:endParaRPr b="0" lang="en-US" sz="24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Book"/>
              </a:rPr>
              <a:t>Εξωτερικά τα οστά καλύπτονται από μία μεμβράνη, το </a:t>
            </a:r>
            <a:r>
              <a:rPr b="1" lang="el-GR" sz="2400" spc="-1" strike="noStrike">
                <a:solidFill>
                  <a:srgbClr val="000000"/>
                </a:solidFill>
                <a:latin typeface="Franklin Gothic Book"/>
              </a:rPr>
              <a:t>περιόστεο. </a:t>
            </a:r>
            <a:r>
              <a:rPr b="0" lang="el-GR" sz="2400" spc="-1" strike="noStrike">
                <a:solidFill>
                  <a:srgbClr val="000000"/>
                </a:solidFill>
                <a:latin typeface="Franklin Gothic Book"/>
              </a:rPr>
              <a:t>Τα αιμοφόρα αγγεία που διαπερνούν το περιόστεο φτάνουν στο εσωτερικό του οστού μεταφέροντας θρεπτικές ουσίες και οξυγόνο. Στην περίοδο ανάπτυξης του οργανισμού το περιόστεο βοηθά στην αύξηση των οστών κατά πάχος, ενώ σε περίπτωση που το οστό σπάσει (κάταγμα) βοηθά στην επούλωση του.</a:t>
            </a:r>
            <a:endParaRPr b="0" lang="en-US" sz="24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Book"/>
              </a:rPr>
              <a:t>Στο εσωτερικό μέρος του οστού δημιουργούνται συνήθως κοιλότητες. Μέσα σ' αυτές υπάρχει ο </a:t>
            </a:r>
            <a:r>
              <a:rPr b="1" lang="el-GR" sz="2400" spc="-1" strike="noStrike">
                <a:solidFill>
                  <a:srgbClr val="000000"/>
                </a:solidFill>
                <a:latin typeface="Franklin Gothic Book"/>
              </a:rPr>
              <a:t>ερυθρός μυελός </a:t>
            </a:r>
            <a:r>
              <a:rPr b="0" lang="el-GR" sz="2400" spc="-1" strike="noStrike">
                <a:solidFill>
                  <a:srgbClr val="000000"/>
                </a:solidFill>
                <a:latin typeface="Franklin Gothic Book"/>
              </a:rPr>
              <a:t>των οστών, που παράγει κύτταρα του αίματος, όπως τα ερυθρά αιμοσφαίρια.</a:t>
            </a:r>
            <a:endParaRPr b="0" lang="en-US" sz="24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Franklin Gothic Book"/>
              </a:rPr>
              <a:t>Στο μεσαίο τμήμα των μακριών οστών υπάρχει μια κοιλότητα, που περιέχει στους ενήλικες τον </a:t>
            </a:r>
            <a:r>
              <a:rPr b="1" lang="el-GR" sz="2400" spc="-1" strike="noStrike">
                <a:solidFill>
                  <a:srgbClr val="000000"/>
                </a:solidFill>
                <a:latin typeface="Franklin Gothic Book"/>
              </a:rPr>
              <a:t>ωχρό μυελό </a:t>
            </a:r>
            <a:r>
              <a:rPr b="0" lang="el-GR" sz="2400" spc="-1" strike="noStrike">
                <a:solidFill>
                  <a:srgbClr val="000000"/>
                </a:solidFill>
                <a:latin typeface="Franklin Gothic Book"/>
              </a:rPr>
              <a:t>των οστών</a:t>
            </a:r>
            <a:endParaRPr b="0" lang="en-US" sz="2400" spc="-1" strike="noStrike">
              <a:solidFill>
                <a:srgbClr val="000000"/>
              </a:solidFill>
              <a:latin typeface="Franklin Gothic Book"/>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Rectangle 2" descr=""/>
          <p:cNvPicPr/>
          <p:nvPr/>
        </p:nvPicPr>
        <p:blipFill>
          <a:blip r:embed="rId2"/>
          <a:stretch/>
        </p:blipFill>
        <p:spPr>
          <a:xfrm>
            <a:off x="450720" y="165240"/>
            <a:ext cx="8242560" cy="1266840"/>
          </a:xfrm>
          <a:prstGeom prst="rect">
            <a:avLst/>
          </a:prstGeom>
          <a:ln w="0">
            <a:noFill/>
          </a:ln>
        </p:spPr>
      </p:pic>
      <p:sp>
        <p:nvSpPr>
          <p:cNvPr id="406"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Franklin Gothic Book"/>
              </a:rPr>
              <a:t>     </a:t>
            </a:r>
            <a:r>
              <a:rPr b="0" lang="el-GR" sz="2800" spc="-1" strike="noStrike">
                <a:solidFill>
                  <a:srgbClr val="4e3b30"/>
                </a:solidFill>
                <a:latin typeface="Franklin Gothic Book"/>
              </a:rPr>
              <a:t>Το σκελετό σου δεν αρκεί να τον βοηθήσεις να αναπτυχθεί φυσιολογικά, πρέπει να τον προφυλάξεις και από βλάβες όπως είναι το κάταγμα, η εξάρθρωση ή το διάστρεμμα οι οποίες προκαλούνται από ατυχήματα. Κάταγμα έχουμε, όταν σπάσουν ή ραγίσουν τα οστά. Εξάρθρωση έχουμε, όταν από ατύχημα απομακρυνθούν τα οστά μιας άρθρωσης. Διάστρεμμα (στραμπούληγμα) έχουμε, όταν συμβούν κακώσεις στον αρθρικό θύλακα ή στους συνδέσμους μιας άρθρωσης χωρίς να απομακρυνθούν τα οστά από τη θέση τους.</a:t>
            </a:r>
            <a:endParaRPr b="0" lang="en-US" sz="2800" spc="-1" strike="noStrike">
              <a:solidFill>
                <a:srgbClr val="000000"/>
              </a:solidFill>
              <a:latin typeface="Franklin Gothic Book"/>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1 - Τίτλος" descr=""/>
          <p:cNvPicPr/>
          <p:nvPr/>
        </p:nvPicPr>
        <p:blipFill>
          <a:blip r:embed="rId2"/>
          <a:stretch/>
        </p:blipFill>
        <p:spPr>
          <a:xfrm>
            <a:off x="103320" y="450720"/>
            <a:ext cx="8894520" cy="11527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    </a:t>
            </a:r>
            <a:r>
              <a:rPr b="0" lang="el-GR" sz="3200" spc="-1" strike="noStrike">
                <a:solidFill>
                  <a:srgbClr val="4e3b30"/>
                </a:solidFill>
                <a:latin typeface="Franklin Gothic Book"/>
              </a:rPr>
              <a:t>Στη βιολογία, σύστημα οργάνων, που ονομάζεται επίσης βιολογικό σύστημα, είναι μια ομάδα οργάνων που συνεργάζονται για την εκτέλεση μιας συγκεκριμένης λειτουργίας. Μια ομάδα συστημάτων συνθέτει ένα οργανισμό, π.χ. το ανθρώπινο σώμα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1 - Τίτλος" descr=""/>
          <p:cNvPicPr/>
          <p:nvPr/>
        </p:nvPicPr>
        <p:blipFill>
          <a:blip r:embed="rId2"/>
          <a:stretch/>
        </p:blipFill>
        <p:spPr>
          <a:xfrm>
            <a:off x="103320" y="450720"/>
            <a:ext cx="8894520" cy="1152720"/>
          </a:xfrm>
          <a:prstGeom prst="rect">
            <a:avLst/>
          </a:prstGeom>
          <a:ln w="0">
            <a:noFill/>
          </a:ln>
        </p:spPr>
      </p:pic>
      <p:pic>
        <p:nvPicPr>
          <p:cNvPr id="410" name="3 - Θέση περιεχομένου" descr="αισθητηρια.jpg"/>
          <p:cNvPicPr/>
          <p:nvPr/>
        </p:nvPicPr>
        <p:blipFill>
          <a:blip r:embed="rId3"/>
          <a:stretch/>
        </p:blipFill>
        <p:spPr>
          <a:xfrm>
            <a:off x="357120" y="1357200"/>
            <a:ext cx="8429760" cy="514368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1 - Τίτλος" descr=""/>
          <p:cNvPicPr/>
          <p:nvPr/>
        </p:nvPicPr>
        <p:blipFill>
          <a:blip r:embed="rId2"/>
          <a:stretch/>
        </p:blipFill>
        <p:spPr>
          <a:xfrm>
            <a:off x="103320" y="450720"/>
            <a:ext cx="8894520" cy="1152720"/>
          </a:xfrm>
          <a:prstGeom prst="rect">
            <a:avLst/>
          </a:prstGeom>
          <a:ln w="0">
            <a:noFill/>
          </a:ln>
        </p:spPr>
      </p:pic>
      <p:pic>
        <p:nvPicPr>
          <p:cNvPr id="412" name="3 - Θέση περιεχομένου" descr="neyriko.jpg"/>
          <p:cNvPicPr/>
          <p:nvPr/>
        </p:nvPicPr>
        <p:blipFill>
          <a:blip r:embed="rId3"/>
          <a:stretch/>
        </p:blipFill>
        <p:spPr>
          <a:xfrm>
            <a:off x="1214280" y="1571760"/>
            <a:ext cx="7286760" cy="492912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1 - Τίτλος" descr=""/>
          <p:cNvPicPr/>
          <p:nvPr/>
        </p:nvPicPr>
        <p:blipFill>
          <a:blip r:embed="rId2"/>
          <a:stretch/>
        </p:blipFill>
        <p:spPr>
          <a:xfrm>
            <a:off x="103320" y="450720"/>
            <a:ext cx="8894520" cy="1152720"/>
          </a:xfrm>
          <a:prstGeom prst="rect">
            <a:avLst/>
          </a:prstGeom>
          <a:ln w="0">
            <a:noFill/>
          </a:ln>
        </p:spPr>
      </p:pic>
      <p:pic>
        <p:nvPicPr>
          <p:cNvPr id="414" name="3 - Θέση περιεχομένου" descr="endokriniko.jpg"/>
          <p:cNvPicPr/>
          <p:nvPr/>
        </p:nvPicPr>
        <p:blipFill>
          <a:blip r:embed="rId3"/>
          <a:stretch/>
        </p:blipFill>
        <p:spPr>
          <a:xfrm>
            <a:off x="642960" y="1716120"/>
            <a:ext cx="8072280" cy="449892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13:06:39Z</dcterms:created>
  <dc:creator>user</dc:creator>
  <dc:description/>
  <dc:language>en-US</dc:language>
  <cp:lastModifiedBy>ΜΙΧΑΛΗΣ</cp:lastModifiedBy>
  <dcterms:modified xsi:type="dcterms:W3CDTF">2015-05-12T10:56:05Z</dcterms:modified>
  <cp:revision>21</cp:revision>
  <dc:subject/>
  <dc:title>ΤΟ ΣΩΜΑ ΜΑΣ</dc:title>
</cp:coreProperties>
</file>