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B55AD-421E-447E-8964-18F3100F0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1508A-77D4-46A6-9FCC-75DC65582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2E163E2-5E76-4AE3-8842-FCE61E51EF4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4A745E7-98B2-47DF-90F1-4DDF2870FFA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6485BB5-837D-4BB9-A403-8651823855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5417F25-8891-489E-B8FA-7679DAF316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0C7D73B-B666-4C8A-A3B4-DF40B536DA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4B07EFB-F230-406C-84B5-14BE0D5A03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0B6CABC-FC21-4F02-BBD4-DDBEB9FD777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E09581C-1310-4083-80A7-C128FA75FD6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420BD21-110F-49A1-9881-ED52201D096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1AFC906-5E94-417A-B817-243BC5740C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CF882-7574-4AA5-9665-2BB57C9E8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AA28215-087F-4EA9-BA84-E98DDCC0C6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1B4382A-B261-4218-803E-36C214F733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98C901F-DEDD-4FA1-BA96-4508C61A04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FFDE0EA-A92D-4C4B-A34F-9DB087EAAB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61D5687-FFDF-419D-ABA9-C4956E337E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63A0354-D56C-41EE-AE08-726656385A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8DAC2A7-4868-40CA-A447-6BEF36AB6C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0E77B28-9E04-40B0-8D13-CA8D01EA24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8889CDC-39AA-4B79-9C8F-12D5B26193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4096CA5-237F-4D9C-9497-64133F5760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B2698-1F47-475A-AFE7-0EB61A462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3EA6118-C3BF-4B0A-AEB6-6E8E394995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857F07-616F-46A4-83B3-6F9858B738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9397E2-E1EC-47A6-B0E9-798083526A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A8F9AF-0672-4BF0-8CB8-1A291CF2AA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3453DB-C71D-44A7-8EB8-BECF15110A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2E72D7-B118-4596-BC17-65F04C2888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EEFC0F-8D8B-42B8-B3E0-945EA70C7A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1C223E-701F-4903-AE7C-C3D793C88A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6CAD82-C087-41F3-883E-B69BA7298E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76632A-DE7D-4AA0-A076-D5C78F9FD9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EF493-0174-433F-BFFB-4982A987F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23608A-1C5C-486F-BA34-77089708ED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E551C8-9D02-486A-A308-C9A9A96073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1D414D8-33D9-4203-8D16-5CB6528983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38F3505-9795-49FB-A8E5-90F9ACB489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56D2F9B-B129-422B-B0AC-F592A4E716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1435BEC-03A4-4C72-95F0-9B03EF78BD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A896919-8C71-4378-A1B1-1C084ABB7B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737B6A4-F2A6-40C6-BBB9-3C9323E8E6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F6C8B5D-C64A-43BF-A51D-9D4A53E8AE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9971D29-F115-4070-A701-6F34462378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7A781-0A33-4130-A102-A1132A87D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0F5B4C7-5413-4260-AE0D-D093807FBF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7596EF-8BA4-4508-9739-CB1AB26C36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4F44A9E-824B-468D-B92B-6DDC466075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6CD1C0D-9BF7-4BFC-BAB3-3605B925FD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D9D0CED-B7E2-4AEC-A933-B292EF1AF1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B5989-0D1D-48F0-A9A7-2899024CD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AFFD2-13E3-414D-8AD0-43A7B34EE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14BBE-7620-47CE-A891-E9069E7F6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CB9D6-8B64-4DB7-8031-5DB1AB114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57794-831B-4B0A-A84A-648EA1336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90C38-ACB4-49E1-B04C-AA8303F86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6EF6A-342A-4805-A6C0-9495ED13D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27AF8-D779-4EDE-9F29-C07949C18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63210-1530-449E-B852-C55E5BFEB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BABB9-AF2B-43E0-ADDC-2FB54504A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B9A4F-7273-4E0E-AC6B-34FB74C2D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99B8A-836C-4783-898E-73CB940692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C8449-C02F-44AA-8FC1-E80863E41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6EA48-758A-4538-869B-A9EA320BE4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72C5F-2A67-43EE-8E0E-E50FD26996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5D2B6-3ED4-44AB-8183-005C1BAC6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65BF5-1484-42EA-BE7D-2B05E5CC3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68A9AB-3ABD-4705-A544-CA9ED8F87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66040-90B1-4CB6-A2AF-2594CF801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03B7E-DAB4-476C-A5A1-CA2DEDF5A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F9C6B-CE2A-4E76-8294-C1799C9A5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49505-DAA8-4656-A8CB-C4B1D975F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C7932F-AA90-4162-AD1F-FF43C7DEF0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71B541-29F5-4D9A-ADE3-6F786B9404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5C8F510-57F4-4950-87A2-B293A1B45E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12070FC-1880-4FCC-B75D-5021BABAF6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D17D811-46C5-4838-A9EA-8C396F77EB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2FC68-A208-4C8F-ABD6-7D6D36CE6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3B17819-38DA-4852-838C-F45CE5C3F7F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0FB97C9-71F0-40E6-AF63-C7952CC347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7C9EA14-DDAE-4760-80C4-97E4E20F129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67349A-2FDE-46D6-B65A-0BEDA0F88A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8B41F61-BA61-42F7-BD5A-EC8DA42C8D0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9F431E7-5F0D-4667-B1C8-0C96CC501B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2A06B79-778E-431D-9226-AF416946B6A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9E7E5E5-FA2A-4A4C-940A-6BDF7608985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1B04FFA-B883-425E-AF4C-67112D70F32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56428D-07A8-42E3-9725-41FFB75923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BAA47-641F-4DEE-AE8C-6D09D6C79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0D7A2C-4600-443A-B042-D8E7FB0B9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FC25C4-7FF1-4FD7-88B5-44FF454FDA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CC46A-31A1-4D19-ABF5-CF843B0013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C272E-000C-421F-8E64-E5EDF4F2A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5B239-7ACB-4B41-8350-D33BDA34E4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E2022-F2BC-436F-A0F8-D5C234AC7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7A99D-2595-45E3-B204-A6EE2C6683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F1971-9FB9-418B-BFA3-6F01DCEBBD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2586D8-8B55-4A8C-A804-86F677E9A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129A8E-41B5-4958-BF32-EB15DA5189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C578A-4791-4A8F-B85A-A47C69129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7D0B4C-1D77-4E4F-A82F-5A80ECBA8E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3295CC-62DD-4402-8BE9-2C623D50E8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09379-4D0A-4406-8700-F97833B807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CA3C9A-362A-44C2-AF83-1EA998BBB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B63646-301B-4DFB-A8A0-C9B2A0ACA9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0F271-12BC-45F9-848E-227761BA2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94950D-2DF8-4264-83B1-8DA8FE44C4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56F01-2E35-4240-9492-6CB14B2EA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34DAD-DDB7-4F18-8E51-E05F06FEA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EEAA6-C5A3-47F0-933C-A97147A1F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8095-6BE4-42F3-81AF-1DF80EEB6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5BF876-9E59-4235-9BB8-466BC627E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6605B7-2F4E-41B2-8B64-A32FACD966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BFD4D9-9A13-4869-A3ED-475EE9E54C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38078B-5128-44C0-9D4D-C83DF25B5B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FA296-65AE-4608-8A25-20E71E9AA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B919A7-DA8A-4FAB-879F-02BE9656D6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81923A-083E-46CA-A878-BCBC11A9A2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AC6C61-6540-4C4C-B2CC-65EEEA5618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3CFB2E-8423-47F6-985D-B6C2D07BB1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4C991-2F2E-4FB4-9212-8DC4586DE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7B622-4130-4A5D-AFC2-68EAA5158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F79CD1-0CB7-4978-B18B-25C7EFCE8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02A0B5-8E31-4293-8D05-328986E30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6337CC-5907-48E3-982E-16F6346C37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063189-BBE1-491F-A417-696BAF1AC9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D7D6CB-CDCE-4191-A576-54B3ED3DE5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A78D50-2E4B-456F-9BD3-9B482886E0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7413F0-3DB6-480B-B9D9-0B90FE3A57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82AB99-2853-4F6A-8244-63AA7CAD9D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9C176-49CF-4CC4-954D-64CB8EFECB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9CCF6-CBC7-4984-94E0-835B0524F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1F0DA-9E6B-4550-B386-C7CE7DBCB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87513F-8887-489C-8C65-0409D304C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F54EB-CEC9-4267-BE57-7255B8627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D8C9D-26C2-44E5-BD7A-539C1EE44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B8CB9-7F2C-4D52-938E-0AD4B5E8AA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867CF-D413-4C8E-BE8E-717110358D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85F86B-6038-4A12-B040-CDB7290F8C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4C8938-81B7-46F2-9BB0-CD7A9A0491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D78AE06-5667-4348-9E1C-563FEA9B19B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782D8B3-8DE0-4E65-8F44-1854F75898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86C6225-9A7C-4475-AAFB-F16364A4668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 Ορθογώνιο"/>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 Ορθογώνιο"/>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 Ορθογώνιο"/>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362B-1C42-4FAB-BCD7-FCB91CC131A7}"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 Ορθογώνιο"/>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 Ευθεία γραμμή σύνδεσης"/>
          <p:cNvSpPr/>
          <p:nvPr/>
        </p:nvSpPr>
        <p:spPr>
          <a:xfrm>
            <a:off x="152280" y="1276200"/>
            <a:ext cx="8832960" cy="360"/>
          </a:xfrm>
          <a:custGeom>
            <a:avLst/>
            <a:gdLst/>
            <a:ahLst/>
            <a:rect l="l" t="t" r="r" b="b"/>
            <a:pathLst>
              <a:path w="8832850" h="0">
                <a:moveTo>
                  <a:pt x="0" y="0"/>
                </a:moveTo>
                <a:lnTo>
                  <a:pt x="8832850" y="1"/>
                </a:lnTo>
              </a:path>
            </a:pathLst>
          </a:custGeom>
          <a:noFill/>
          <a:ln w="936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 name="11 - Έλλειψη"/>
          <p:cNvSpPr/>
          <p:nvPr/>
        </p:nvSpPr>
        <p:spPr>
          <a:xfrm>
            <a:off x="4267080" y="95580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 name="14 - Έλλειψη"/>
          <p:cNvSpPr/>
          <p:nvPr/>
        </p:nvSpPr>
        <p:spPr>
          <a:xfrm>
            <a:off x="4362480" y="1050840"/>
            <a:ext cx="419040" cy="420840"/>
          </a:xfrm>
          <a:custGeom>
            <a:avLst/>
            <a:gdLst>
              <a:gd name="textAreaLeft" fmla="*/ 61200 w 419040"/>
              <a:gd name="textAreaRight" fmla="*/ 357840 w 419040"/>
              <a:gd name="textAreaTop" fmla="*/ 61560 h 420840"/>
              <a:gd name="textAreaBottom" fmla="*/ 359280 h 420840"/>
            </a:gdLst>
            <a:ahLst/>
            <a:rect l="textAreaLeft" t="textAreaTop" r="textAreaRight" b="textAreaBottom"/>
            <a:pathLst>
              <a:path w="419100" h="420688">
                <a:moveTo>
                  <a:pt x="0" y="210344"/>
                </a:moveTo>
                <a:lnTo>
                  <a:pt x="0" y="210344"/>
                </a:lnTo>
                <a:arcTo wR="209550" hR="210344" stAng="10800000" swAng="5400000"/>
                <a:lnTo>
                  <a:pt x="209550" y="0"/>
                </a:lnTo>
                <a:arcTo wR="209550" hR="210344" stAng="-5400000" swAng="5400000"/>
                <a:lnTo>
                  <a:pt x="419100" y="210344"/>
                </a:lnTo>
                <a:arcTo wR="209550" hR="210344" stAng="0" swAng="5400000"/>
                <a:lnTo>
                  <a:pt x="209550" y="420688"/>
                </a:lnTo>
                <a:arcTo wR="209550" hR="210344"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633A-6321-4D74-A4C1-48021233C53F}"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4 - Ευθεία γραμμή σύνδεσης"/>
          <p:cNvSpPr/>
          <p:nvPr/>
        </p:nvSpPr>
        <p:spPr>
          <a:xfrm>
            <a:off x="152280" y="533520"/>
            <a:ext cx="8832960" cy="360"/>
          </a:xfrm>
          <a:custGeom>
            <a:avLst/>
            <a:gdLst/>
            <a:ahLst/>
            <a:rect l="l" t="t" r="r" b="b"/>
            <a:pathLst>
              <a:path w="8832850" h="0">
                <a:moveTo>
                  <a:pt x="0" y="0"/>
                </a:moveTo>
                <a:lnTo>
                  <a:pt x="8832850" y="1"/>
                </a:lnTo>
              </a:path>
            </a:pathLst>
          </a:custGeom>
          <a:noFill/>
          <a:ln w="1152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55" name="16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17 - Ορθογώνιο"/>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18 - Ορθογώνιο"/>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19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0 - Ορθογώνιο"/>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1 - Ορθογώνιο"/>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2 - Ορθογώνιο"/>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12 - Έλλειψη"/>
          <p:cNvSpPr/>
          <p:nvPr/>
        </p:nvSpPr>
        <p:spPr>
          <a:xfrm>
            <a:off x="1295280" y="22860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63" name="13 - Έλλειψη"/>
          <p:cNvSpPr/>
          <p:nvPr/>
        </p:nvSpPr>
        <p:spPr>
          <a:xfrm>
            <a:off x="1390680" y="324000"/>
            <a:ext cx="419040" cy="419040"/>
          </a:xfrm>
          <a:custGeom>
            <a:avLst/>
            <a:gdLst>
              <a:gd name="textAreaLeft" fmla="*/ 61200 w 419040"/>
              <a:gd name="textAreaRight" fmla="*/ 357840 w 419040"/>
              <a:gd name="textAreaTop" fmla="*/ 61200 h 419040"/>
              <a:gd name="textAreaBottom" fmla="*/ 357840 h 419040"/>
            </a:gdLst>
            <a:ahLst/>
            <a:rect l="textAreaLeft" t="textAreaTop" r="textAreaRight" b="textAreaBottom"/>
            <a:pathLst>
              <a:path w="419100" h="419100">
                <a:moveTo>
                  <a:pt x="0" y="209550"/>
                </a:moveTo>
                <a:lnTo>
                  <a:pt x="0" y="209550"/>
                </a:lnTo>
                <a:arcTo wR="209550" hR="209550" stAng="10800000" swAng="5400000"/>
                <a:lnTo>
                  <a:pt x="209550" y="0"/>
                </a:lnTo>
                <a:arcTo wR="209550" hR="209550" stAng="-5400000" swAng="5400000"/>
                <a:lnTo>
                  <a:pt x="419100" y="209550"/>
                </a:lnTo>
                <a:arcTo wR="209550" hR="209550" stAng="0" swAng="5400000"/>
                <a:lnTo>
                  <a:pt x="209550" y="419100"/>
                </a:lnTo>
                <a:arcTo wR="209550" hR="209550"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64" name="14 - Ορθογώνιο"/>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84F0-3159-467F-960B-280E59B0BB05}"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5918-1BC9-4B9D-AC28-A307E43BAB70}"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5 - Ορθογώνιο"/>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7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8 - Ορθογώνιο"/>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8 - Ορθογώνιο"/>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 Ορθογώνιο"/>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9 - Ευθεία γραμμή σύνδεσης"/>
          <p:cNvSpPr/>
          <p:nvPr/>
        </p:nvSpPr>
        <p:spPr>
          <a:xfrm>
            <a:off x="152280" y="1276200"/>
            <a:ext cx="8832960" cy="360"/>
          </a:xfrm>
          <a:custGeom>
            <a:avLst/>
            <a:gdLst/>
            <a:ahLst/>
            <a:rect l="l" t="t" r="r" b="b"/>
            <a:pathLst>
              <a:path w="8832850" h="0">
                <a:moveTo>
                  <a:pt x="0" y="0"/>
                </a:moveTo>
                <a:lnTo>
                  <a:pt x="8832850" y="1"/>
                </a:lnTo>
              </a:path>
            </a:pathLst>
          </a:custGeom>
          <a:noFill/>
          <a:ln w="936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13" name="11 - Έλλειψη"/>
          <p:cNvSpPr/>
          <p:nvPr/>
        </p:nvSpPr>
        <p:spPr>
          <a:xfrm>
            <a:off x="4267080" y="95580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14" name="14 - Έλλειψη"/>
          <p:cNvSpPr/>
          <p:nvPr/>
        </p:nvSpPr>
        <p:spPr>
          <a:xfrm>
            <a:off x="4362480" y="1050840"/>
            <a:ext cx="419040" cy="420840"/>
          </a:xfrm>
          <a:custGeom>
            <a:avLst/>
            <a:gdLst>
              <a:gd name="textAreaLeft" fmla="*/ 61200 w 419040"/>
              <a:gd name="textAreaRight" fmla="*/ 357840 w 419040"/>
              <a:gd name="textAreaTop" fmla="*/ 61560 h 420840"/>
              <a:gd name="textAreaBottom" fmla="*/ 359280 h 420840"/>
            </a:gdLst>
            <a:ahLst/>
            <a:rect l="textAreaLeft" t="textAreaTop" r="textAreaRight" b="textAreaBottom"/>
            <a:pathLst>
              <a:path w="419100" h="420688">
                <a:moveTo>
                  <a:pt x="0" y="210344"/>
                </a:moveTo>
                <a:lnTo>
                  <a:pt x="0" y="210344"/>
                </a:lnTo>
                <a:arcTo wR="209550" hR="210344" stAng="10800000" swAng="5400000"/>
                <a:lnTo>
                  <a:pt x="209550" y="0"/>
                </a:lnTo>
                <a:arcTo wR="209550" hR="210344" stAng="-5400000" swAng="5400000"/>
                <a:lnTo>
                  <a:pt x="419100" y="210344"/>
                </a:lnTo>
                <a:arcTo wR="209550" hR="210344" stAng="0" swAng="5400000"/>
                <a:lnTo>
                  <a:pt x="209550" y="420688"/>
                </a:lnTo>
                <a:arcTo wR="209550" hR="210344"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DA5D-3CFB-4BED-9467-2937ADF5E1E1}"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EFA4-AFE3-4BFB-8BF2-8170695B1C66}"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5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16 - Ορθογώνιο"/>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17 - Ορθογώνιο"/>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18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19 - Ορθογώνιο"/>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0 - Ορθογώνιο"/>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9 - Ευθεία γραμμή σύνδεσης"/>
          <p:cNvSpPr/>
          <p:nvPr/>
        </p:nvSpPr>
        <p:spPr>
          <a:xfrm rot="5400000">
            <a:off x="4020840" y="3277800"/>
            <a:ext cx="6245280" cy="360"/>
          </a:xfrm>
          <a:custGeom>
            <a:avLst/>
            <a:gdLst/>
            <a:ahLst/>
            <a:rect l="l" t="t" r="r" b="b"/>
            <a:pathLst>
              <a:path w="6245225" h="0">
                <a:moveTo>
                  <a:pt x="0" y="0"/>
                </a:moveTo>
                <a:lnTo>
                  <a:pt x="6245225" y="1"/>
                </a:lnTo>
              </a:path>
            </a:pathLst>
          </a:custGeom>
          <a:noFill/>
          <a:ln w="936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63" name="10 - Έλλειψη"/>
          <p:cNvSpPr/>
          <p:nvPr/>
        </p:nvSpPr>
        <p:spPr>
          <a:xfrm>
            <a:off x="6838920" y="2925720"/>
            <a:ext cx="609480" cy="609480"/>
          </a:xfrm>
          <a:custGeom>
            <a:avLst/>
            <a:gdLst>
              <a:gd name="textAreaLeft" fmla="*/ 89280 w 609480"/>
              <a:gd name="textAreaRight" fmla="*/ 520200 w 60948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64" name="11 - Έλλειψη"/>
          <p:cNvSpPr/>
          <p:nvPr/>
        </p:nvSpPr>
        <p:spPr>
          <a:xfrm>
            <a:off x="6934320" y="3021120"/>
            <a:ext cx="420480" cy="419040"/>
          </a:xfrm>
          <a:custGeom>
            <a:avLst/>
            <a:gdLst>
              <a:gd name="textAreaLeft" fmla="*/ 61560 w 420480"/>
              <a:gd name="textAreaRight" fmla="*/ 358920 w 420480"/>
              <a:gd name="textAreaTop" fmla="*/ 61200 h 419040"/>
              <a:gd name="textAreaBottom" fmla="*/ 357840 h 419040"/>
            </a:gdLst>
            <a:ahLst/>
            <a:rect l="textAreaLeft" t="textAreaTop" r="textAreaRight" b="textAreaBottom"/>
            <a:pathLst>
              <a:path w="420688" h="419100">
                <a:moveTo>
                  <a:pt x="0" y="209550"/>
                </a:moveTo>
                <a:lnTo>
                  <a:pt x="0" y="209550"/>
                </a:lnTo>
                <a:arcTo wR="210344" hR="209550" stAng="10800000" swAng="5400000"/>
                <a:lnTo>
                  <a:pt x="210344" y="0"/>
                </a:lnTo>
                <a:arcTo wR="210344" hR="209550" stAng="-5400000" swAng="5400000"/>
                <a:lnTo>
                  <a:pt x="420688" y="209550"/>
                </a:lnTo>
                <a:arcTo wR="210344" hR="209550" stAng="0" swAng="5400000"/>
                <a:lnTo>
                  <a:pt x="210344" y="419100"/>
                </a:lnTo>
                <a:arcTo wR="210344" hR="209550"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42E9-F49B-4511-9429-45533F2CA1E9}"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C2F2-FC54-4474-8CCA-DB710878378B}"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5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6 - Ορθογώνιο"/>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17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8 - Ορθογώνιο"/>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9 - Ορθογώνιο"/>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10 - Ευθεία γραμμή σύνδεσης"/>
          <p:cNvSpPr/>
          <p:nvPr/>
        </p:nvSpPr>
        <p:spPr>
          <a:xfrm>
            <a:off x="155520" y="2419200"/>
            <a:ext cx="8832960" cy="360"/>
          </a:xfrm>
          <a:custGeom>
            <a:avLst/>
            <a:gdLst/>
            <a:ahLst/>
            <a:rect l="l" t="t" r="r" b="b"/>
            <a:pathLst>
              <a:path w="8832850" h="0">
                <a:moveTo>
                  <a:pt x="0" y="0"/>
                </a:moveTo>
                <a:lnTo>
                  <a:pt x="8832850" y="1"/>
                </a:lnTo>
              </a:path>
            </a:pathLst>
          </a:custGeom>
          <a:noFill/>
          <a:ln w="1152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6" name="11 - Ορθογώνιο"/>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12 - Έλλειψη"/>
          <p:cNvSpPr/>
          <p:nvPr/>
        </p:nvSpPr>
        <p:spPr>
          <a:xfrm>
            <a:off x="4267080" y="211464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8" name="13 - Έλλειψη"/>
          <p:cNvSpPr/>
          <p:nvPr/>
        </p:nvSpPr>
        <p:spPr>
          <a:xfrm>
            <a:off x="4362480" y="2209680"/>
            <a:ext cx="419040" cy="420840"/>
          </a:xfrm>
          <a:custGeom>
            <a:avLst/>
            <a:gdLst>
              <a:gd name="textAreaLeft" fmla="*/ 61200 w 419040"/>
              <a:gd name="textAreaRight" fmla="*/ 357840 w 419040"/>
              <a:gd name="textAreaTop" fmla="*/ 61560 h 420840"/>
              <a:gd name="textAreaBottom" fmla="*/ 359280 h 420840"/>
            </a:gdLst>
            <a:ahLst/>
            <a:rect l="textAreaLeft" t="textAreaTop" r="textAreaRight" b="textAreaBottom"/>
            <a:pathLst>
              <a:path w="419100" h="420688">
                <a:moveTo>
                  <a:pt x="0" y="210344"/>
                </a:moveTo>
                <a:lnTo>
                  <a:pt x="0" y="210344"/>
                </a:lnTo>
                <a:arcTo wR="209550" hR="210344" stAng="10800000" swAng="5400000"/>
                <a:lnTo>
                  <a:pt x="209550" y="0"/>
                </a:lnTo>
                <a:arcTo wR="209550" hR="210344" stAng="-5400000" swAng="5400000"/>
                <a:lnTo>
                  <a:pt x="419100" y="210344"/>
                </a:lnTo>
                <a:arcTo wR="209550" hR="210344" stAng="0" swAng="5400000"/>
                <a:lnTo>
                  <a:pt x="209550" y="420688"/>
                </a:lnTo>
                <a:arcTo wR="209550" hR="210344"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8541-7D9C-4A37-94AB-820459039BA7}"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03F1-2E34-46DE-9DB6-9F229F35DF56}"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 Ορθογώνιο"/>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 Ορθογώνιο"/>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 Ορθογώνιο"/>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 Ορθογώνιο"/>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 Ευθεία γραμμή σύνδεσης"/>
          <p:cNvSpPr/>
          <p:nvPr/>
        </p:nvSpPr>
        <p:spPr>
          <a:xfrm>
            <a:off x="152280" y="1276200"/>
            <a:ext cx="8832960" cy="360"/>
          </a:xfrm>
          <a:custGeom>
            <a:avLst/>
            <a:gdLst/>
            <a:ahLst/>
            <a:rect l="l" t="t" r="r" b="b"/>
            <a:pathLst>
              <a:path w="8832850" h="0">
                <a:moveTo>
                  <a:pt x="0" y="0"/>
                </a:moveTo>
                <a:lnTo>
                  <a:pt x="8832850" y="1"/>
                </a:lnTo>
              </a:path>
            </a:pathLst>
          </a:custGeom>
          <a:noFill/>
          <a:ln w="936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7" name="11 - Έλλειψη"/>
          <p:cNvSpPr/>
          <p:nvPr/>
        </p:nvSpPr>
        <p:spPr>
          <a:xfrm>
            <a:off x="4267080" y="95580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8" name="14 - Έλλειψη"/>
          <p:cNvSpPr/>
          <p:nvPr/>
        </p:nvSpPr>
        <p:spPr>
          <a:xfrm>
            <a:off x="4362480" y="1050840"/>
            <a:ext cx="419040" cy="420840"/>
          </a:xfrm>
          <a:custGeom>
            <a:avLst/>
            <a:gdLst>
              <a:gd name="textAreaLeft" fmla="*/ 61200 w 419040"/>
              <a:gd name="textAreaRight" fmla="*/ 357840 w 419040"/>
              <a:gd name="textAreaTop" fmla="*/ 61560 h 420840"/>
              <a:gd name="textAreaBottom" fmla="*/ 359280 h 420840"/>
            </a:gdLst>
            <a:ahLst/>
            <a:rect l="textAreaLeft" t="textAreaTop" r="textAreaRight" b="textAreaBottom"/>
            <a:pathLst>
              <a:path w="419100" h="420688">
                <a:moveTo>
                  <a:pt x="0" y="210344"/>
                </a:moveTo>
                <a:lnTo>
                  <a:pt x="0" y="210344"/>
                </a:lnTo>
                <a:arcTo wR="209550" hR="210344" stAng="10800000" swAng="5400000"/>
                <a:lnTo>
                  <a:pt x="209550" y="0"/>
                </a:lnTo>
                <a:arcTo wR="209550" hR="210344" stAng="-5400000" swAng="5400000"/>
                <a:lnTo>
                  <a:pt x="419100" y="210344"/>
                </a:lnTo>
                <a:arcTo wR="209550" hR="210344" stAng="0" swAng="5400000"/>
                <a:lnTo>
                  <a:pt x="209550" y="420688"/>
                </a:lnTo>
                <a:arcTo wR="209550" hR="210344"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DE9B-99D2-4C01-A9D9-1E44A41D99B4}"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2E49-13CC-4893-B9BC-C7D9D766C111}"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5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6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7 - Ορθογώνιο"/>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8 - Ορθογώνιο"/>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9 - Ορθογώνιο"/>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0 - Ορθογώνιο"/>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1 - Ορθογώνιο"/>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2 - Ορθογώνιο"/>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11 - Ευθεία γραμμή σύνδεσης"/>
          <p:cNvSpPr/>
          <p:nvPr/>
        </p:nvSpPr>
        <p:spPr>
          <a:xfrm>
            <a:off x="152280" y="2438280"/>
            <a:ext cx="8832960" cy="360"/>
          </a:xfrm>
          <a:custGeom>
            <a:avLst/>
            <a:gdLst/>
            <a:ahLst/>
            <a:rect l="l" t="t" r="r" b="b"/>
            <a:pathLst>
              <a:path w="8832850" h="0">
                <a:moveTo>
                  <a:pt x="0" y="0"/>
                </a:moveTo>
                <a:lnTo>
                  <a:pt x="8832850" y="1"/>
                </a:lnTo>
              </a:path>
            </a:pathLst>
          </a:custGeom>
          <a:noFill/>
          <a:ln w="1152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59" name="12 - Έλλειψη"/>
          <p:cNvSpPr/>
          <p:nvPr/>
        </p:nvSpPr>
        <p:spPr>
          <a:xfrm>
            <a:off x="4267080" y="211464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0" name="13 - Έλλειψη"/>
          <p:cNvSpPr/>
          <p:nvPr/>
        </p:nvSpPr>
        <p:spPr>
          <a:xfrm>
            <a:off x="4362480" y="2209680"/>
            <a:ext cx="419040" cy="420840"/>
          </a:xfrm>
          <a:custGeom>
            <a:avLst/>
            <a:gdLst>
              <a:gd name="textAreaLeft" fmla="*/ 61200 w 419040"/>
              <a:gd name="textAreaRight" fmla="*/ 357840 w 419040"/>
              <a:gd name="textAreaTop" fmla="*/ 61560 h 420840"/>
              <a:gd name="textAreaBottom" fmla="*/ 359280 h 420840"/>
            </a:gdLst>
            <a:ahLst/>
            <a:rect l="textAreaLeft" t="textAreaTop" r="textAreaRight" b="textAreaBottom"/>
            <a:pathLst>
              <a:path w="419100" h="420688">
                <a:moveTo>
                  <a:pt x="0" y="210344"/>
                </a:moveTo>
                <a:lnTo>
                  <a:pt x="0" y="210344"/>
                </a:lnTo>
                <a:arcTo wR="209550" hR="210344" stAng="10800000" swAng="5400000"/>
                <a:lnTo>
                  <a:pt x="209550" y="0"/>
                </a:lnTo>
                <a:arcTo wR="209550" hR="210344" stAng="-5400000" swAng="5400000"/>
                <a:lnTo>
                  <a:pt x="419100" y="210344"/>
                </a:lnTo>
                <a:arcTo wR="209550" hR="210344" stAng="0" swAng="5400000"/>
                <a:lnTo>
                  <a:pt x="209550" y="420688"/>
                </a:lnTo>
                <a:arcTo wR="209550" hR="210344"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A55D-01E2-4EB3-9431-48517FFCDCD6}"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E50E-B098-46E5-AFD8-AF1858475806}"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5 - Ορθογώνιο"/>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7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8 - Ορθογώνιο"/>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8 - Ορθογώνιο"/>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7 - Ορθογώνιο"/>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 Ευθεία γραμμή σύνδεσης"/>
          <p:cNvSpPr/>
          <p:nvPr/>
        </p:nvSpPr>
        <p:spPr>
          <a:xfrm>
            <a:off x="152280" y="1276200"/>
            <a:ext cx="8832960" cy="360"/>
          </a:xfrm>
          <a:custGeom>
            <a:avLst/>
            <a:gdLst/>
            <a:ahLst/>
            <a:rect l="l" t="t" r="r" b="b"/>
            <a:pathLst>
              <a:path w="8832850" h="0">
                <a:moveTo>
                  <a:pt x="0" y="0"/>
                </a:moveTo>
                <a:lnTo>
                  <a:pt x="8832850" y="1"/>
                </a:lnTo>
              </a:path>
            </a:pathLst>
          </a:custGeom>
          <a:noFill/>
          <a:ln w="936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09" name="11 - Έλλειψη"/>
          <p:cNvSpPr/>
          <p:nvPr/>
        </p:nvSpPr>
        <p:spPr>
          <a:xfrm>
            <a:off x="4267080" y="95580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10" name="14 - Έλλειψη"/>
          <p:cNvSpPr/>
          <p:nvPr/>
        </p:nvSpPr>
        <p:spPr>
          <a:xfrm>
            <a:off x="4362480" y="1050840"/>
            <a:ext cx="419040" cy="420840"/>
          </a:xfrm>
          <a:custGeom>
            <a:avLst/>
            <a:gdLst>
              <a:gd name="textAreaLeft" fmla="*/ 61200 w 419040"/>
              <a:gd name="textAreaRight" fmla="*/ 357840 w 419040"/>
              <a:gd name="textAreaTop" fmla="*/ 61560 h 420840"/>
              <a:gd name="textAreaBottom" fmla="*/ 359280 h 420840"/>
            </a:gdLst>
            <a:ahLst/>
            <a:rect l="textAreaLeft" t="textAreaTop" r="textAreaRight" b="textAreaBottom"/>
            <a:pathLst>
              <a:path w="419100" h="420688">
                <a:moveTo>
                  <a:pt x="0" y="210344"/>
                </a:moveTo>
                <a:lnTo>
                  <a:pt x="0" y="210344"/>
                </a:lnTo>
                <a:arcTo wR="209550" hR="210344" stAng="10800000" swAng="5400000"/>
                <a:lnTo>
                  <a:pt x="209550" y="0"/>
                </a:lnTo>
                <a:arcTo wR="209550" hR="210344" stAng="-5400000" swAng="5400000"/>
                <a:lnTo>
                  <a:pt x="419100" y="210344"/>
                </a:lnTo>
                <a:arcTo wR="209550" hR="210344" stAng="0" swAng="5400000"/>
                <a:lnTo>
                  <a:pt x="209550" y="420688"/>
                </a:lnTo>
                <a:arcTo wR="209550" hR="210344"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11" name="4 - Ευθεία γραμμή σύνδεσης"/>
          <p:cNvSpPr/>
          <p:nvPr/>
        </p:nvSpPr>
        <p:spPr>
          <a:xfrm flipV="1">
            <a:off x="4562640" y="1575720"/>
            <a:ext cx="9360" cy="4817880"/>
          </a:xfrm>
          <a:custGeom>
            <a:avLst/>
            <a:gdLst>
              <a:gd name="textAreaLeft" fmla="*/ 0 w 9360"/>
              <a:gd name="textAreaRight" fmla="*/ 9720 w 9360"/>
              <a:gd name="textAreaTop" fmla="*/ -360 h 4817880"/>
              <a:gd name="textAreaBottom" fmla="*/ 4817880 h 4817880"/>
            </a:gdLst>
            <a:ahLst/>
            <a:rect l="textAreaLeft" t="textAreaTop" r="textAreaRight" b="textAreaBottom"/>
            <a:pathLst>
              <a:path w="9525" h="4818062">
                <a:moveTo>
                  <a:pt x="0" y="0"/>
                </a:moveTo>
                <a:lnTo>
                  <a:pt x="9525" y="4818062"/>
                </a:lnTo>
              </a:path>
            </a:pathLst>
          </a:custGeom>
          <a:noFill/>
          <a:ln w="9360">
            <a:solidFill>
              <a:srgbClr val="646b8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6BD4-376A-4A9A-A71E-88B8B577A04F}"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A2FD-C4BF-482B-8639-D61CD6536A50}"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6 - Ευθεία γραμμή σύνδεσης"/>
          <p:cNvSpPr/>
          <p:nvPr/>
        </p:nvSpPr>
        <p:spPr>
          <a:xfrm flipV="1">
            <a:off x="4572000" y="2199600"/>
            <a:ext cx="360" cy="4187880"/>
          </a:xfrm>
          <a:custGeom>
            <a:avLst/>
            <a:gdLst/>
            <a:ahLst/>
            <a:rect l="l" t="t" r="r" b="b"/>
            <a:pathLst>
              <a:path w="0" h="4187825">
                <a:moveTo>
                  <a:pt x="0" y="0"/>
                </a:moveTo>
                <a:lnTo>
                  <a:pt x="1" y="4187825"/>
                </a:lnTo>
              </a:path>
            </a:pathLst>
          </a:custGeom>
          <a:noFill/>
          <a:ln w="9360">
            <a:solidFill>
              <a:srgbClr val="646b8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16 - Ορθογώνιο"/>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17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18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19 - Ορθογώνιο"/>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0 - Ορθογώνιο"/>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12 - Ορθογώνιο"/>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3 - Ευθεία γραμμή σύνδεσης"/>
          <p:cNvSpPr/>
          <p:nvPr/>
        </p:nvSpPr>
        <p:spPr>
          <a:xfrm>
            <a:off x="152280" y="1279440"/>
            <a:ext cx="8832960" cy="360"/>
          </a:xfrm>
          <a:custGeom>
            <a:avLst/>
            <a:gdLst/>
            <a:ahLst/>
            <a:rect l="l" t="t" r="r" b="b"/>
            <a:pathLst>
              <a:path w="8832850" h="0">
                <a:moveTo>
                  <a:pt x="0" y="0"/>
                </a:moveTo>
                <a:lnTo>
                  <a:pt x="8832850" y="1"/>
                </a:lnTo>
              </a:path>
            </a:pathLst>
          </a:custGeom>
          <a:noFill/>
          <a:ln w="1152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61" name="14 - Ορθογώνιο"/>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5 - Έλλειψη"/>
          <p:cNvSpPr/>
          <p:nvPr/>
        </p:nvSpPr>
        <p:spPr>
          <a:xfrm>
            <a:off x="4267080" y="95580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63" name="16 - Έλλειψη"/>
          <p:cNvSpPr/>
          <p:nvPr/>
        </p:nvSpPr>
        <p:spPr>
          <a:xfrm>
            <a:off x="4362480" y="1050840"/>
            <a:ext cx="419040" cy="420840"/>
          </a:xfrm>
          <a:custGeom>
            <a:avLst/>
            <a:gdLst>
              <a:gd name="textAreaLeft" fmla="*/ 61200 w 419040"/>
              <a:gd name="textAreaRight" fmla="*/ 357840 w 419040"/>
              <a:gd name="textAreaTop" fmla="*/ 61560 h 420840"/>
              <a:gd name="textAreaBottom" fmla="*/ 359280 h 420840"/>
            </a:gdLst>
            <a:ahLst/>
            <a:rect l="textAreaLeft" t="textAreaTop" r="textAreaRight" b="textAreaBottom"/>
            <a:pathLst>
              <a:path w="419100" h="420688">
                <a:moveTo>
                  <a:pt x="0" y="210344"/>
                </a:moveTo>
                <a:lnTo>
                  <a:pt x="0" y="210344"/>
                </a:lnTo>
                <a:arcTo wR="209550" hR="210344" stAng="10800000" swAng="5400000"/>
                <a:lnTo>
                  <a:pt x="209550" y="0"/>
                </a:lnTo>
                <a:arcTo wR="209550" hR="210344" stAng="-5400000" swAng="5400000"/>
                <a:lnTo>
                  <a:pt x="419100" y="210344"/>
                </a:lnTo>
                <a:arcTo wR="209550" hR="210344" stAng="0" swAng="5400000"/>
                <a:lnTo>
                  <a:pt x="209550" y="420688"/>
                </a:lnTo>
                <a:arcTo wR="209550" hR="210344"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5C4A-2D4C-4706-8025-2FEB152AAA15}"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A7A1-4936-400D-B133-A0E9FA91F04A}"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5 - Ορθογώνιο"/>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7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 Ορθογώνιο"/>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8 - Ορθογώνιο"/>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7 - Ορθογώνιο"/>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9 - Ευθεία γραμμή σύνδεσης"/>
          <p:cNvSpPr/>
          <p:nvPr/>
        </p:nvSpPr>
        <p:spPr>
          <a:xfrm>
            <a:off x="152280" y="1276200"/>
            <a:ext cx="8832960" cy="360"/>
          </a:xfrm>
          <a:custGeom>
            <a:avLst/>
            <a:gdLst/>
            <a:ahLst/>
            <a:rect l="l" t="t" r="r" b="b"/>
            <a:pathLst>
              <a:path w="8832850" h="0">
                <a:moveTo>
                  <a:pt x="0" y="0"/>
                </a:moveTo>
                <a:lnTo>
                  <a:pt x="8832850" y="1"/>
                </a:lnTo>
              </a:path>
            </a:pathLst>
          </a:custGeom>
          <a:noFill/>
          <a:ln w="936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2" name="11 - Έλλειψη"/>
          <p:cNvSpPr/>
          <p:nvPr/>
        </p:nvSpPr>
        <p:spPr>
          <a:xfrm>
            <a:off x="4267080" y="95580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3" name="14 - Έλλειψη"/>
          <p:cNvSpPr/>
          <p:nvPr/>
        </p:nvSpPr>
        <p:spPr>
          <a:xfrm>
            <a:off x="4362480" y="1050840"/>
            <a:ext cx="419040" cy="420840"/>
          </a:xfrm>
          <a:custGeom>
            <a:avLst/>
            <a:gdLst>
              <a:gd name="textAreaLeft" fmla="*/ 61200 w 419040"/>
              <a:gd name="textAreaRight" fmla="*/ 357840 w 419040"/>
              <a:gd name="textAreaTop" fmla="*/ 61560 h 420840"/>
              <a:gd name="textAreaBottom" fmla="*/ 359280 h 420840"/>
            </a:gdLst>
            <a:ahLst/>
            <a:rect l="textAreaLeft" t="textAreaTop" r="textAreaRight" b="textAreaBottom"/>
            <a:pathLst>
              <a:path w="419100" h="420688">
                <a:moveTo>
                  <a:pt x="0" y="210344"/>
                </a:moveTo>
                <a:lnTo>
                  <a:pt x="0" y="210344"/>
                </a:lnTo>
                <a:arcTo wR="209550" hR="210344" stAng="10800000" swAng="5400000"/>
                <a:lnTo>
                  <a:pt x="209550" y="0"/>
                </a:lnTo>
                <a:arcTo wR="209550" hR="210344" stAng="-5400000" swAng="5400000"/>
                <a:lnTo>
                  <a:pt x="419100" y="210344"/>
                </a:lnTo>
                <a:arcTo wR="209550" hR="210344" stAng="0" swAng="5400000"/>
                <a:lnTo>
                  <a:pt x="209550" y="420688"/>
                </a:lnTo>
                <a:arcTo wR="209550" hR="210344"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ECF5-2EEF-43A7-B5C3-0D93BBFDEAB0}"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60E4-C558-4A8F-87FF-C23C7D6F7A39}"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5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16 - Ορθογώνιο"/>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17 - Ορθογώνιο"/>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18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19 - Ορθογώνιο"/>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0 - Ορθογώνιο"/>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7B92-C5EA-4963-B99B-A6B03BB91D6F}"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BFFE-16D1-41F6-9350-967CB384C76D}" type="slidenum">
              <a:rPr b="0" lang="el-GR"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5 - Ορθογώνιο"/>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16 - Ορθογώνιο"/>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17 - Ορθογώνιο"/>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18 - Ορθογώνιο"/>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19 - Ορθογώνιο"/>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0 - Ορθογώνιο"/>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1 - Ορθογώνιο"/>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11 - Ευθεία γραμμή σύνδεσης"/>
          <p:cNvSpPr/>
          <p:nvPr/>
        </p:nvSpPr>
        <p:spPr>
          <a:xfrm>
            <a:off x="152280" y="533520"/>
            <a:ext cx="8832960" cy="360"/>
          </a:xfrm>
          <a:custGeom>
            <a:avLst/>
            <a:gdLst/>
            <a:ahLst/>
            <a:rect l="l" t="t" r="r" b="b"/>
            <a:pathLst>
              <a:path w="8832850" h="0">
                <a:moveTo>
                  <a:pt x="0" y="0"/>
                </a:moveTo>
                <a:lnTo>
                  <a:pt x="8832850" y="1"/>
                </a:lnTo>
              </a:path>
            </a:pathLst>
          </a:custGeom>
          <a:noFill/>
          <a:ln w="11520">
            <a:solidFill>
              <a:srgbClr val="7b9899"/>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10" name="12 - Έλλειψη"/>
          <p:cNvSpPr/>
          <p:nvPr/>
        </p:nvSpPr>
        <p:spPr>
          <a:xfrm>
            <a:off x="1295280" y="228600"/>
            <a:ext cx="609840" cy="609480"/>
          </a:xfrm>
          <a:custGeom>
            <a:avLst/>
            <a:gdLst>
              <a:gd name="textAreaLeft" fmla="*/ 89280 w 609840"/>
              <a:gd name="textAreaRight" fmla="*/ 520560 w 609840"/>
              <a:gd name="textAreaTop" fmla="*/ 89280 h 609480"/>
              <a:gd name="textAreaBottom" fmla="*/ 520200 h 609480"/>
            </a:gdLst>
            <a:ahLst/>
            <a:rect l="textAreaLeft" t="textAreaTop" r="textAreaRight" b="textAreaBottom"/>
            <a:pathLst>
              <a:path w="609600" h="609600">
                <a:moveTo>
                  <a:pt x="0" y="304800"/>
                </a:moveTo>
                <a:lnTo>
                  <a:pt x="0" y="304800"/>
                </a:lnTo>
                <a:arcTo wR="304800" hR="304800" stAng="10800000" swAng="5400000"/>
                <a:lnTo>
                  <a:pt x="304800" y="0"/>
                </a:lnTo>
                <a:arcTo wR="304800" hR="304800" stAng="-5400000" swAng="5400000"/>
                <a:lnTo>
                  <a:pt x="609600" y="304800"/>
                </a:lnTo>
                <a:arcTo wR="304800" hR="304800" stAng="0" swAng="5400000"/>
                <a:lnTo>
                  <a:pt x="304800" y="609600"/>
                </a:lnTo>
                <a:arcTo wR="304800" hR="304800" stAng="5400000" swAng="5400000"/>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11" name="13 - Έλλειψη"/>
          <p:cNvSpPr/>
          <p:nvPr/>
        </p:nvSpPr>
        <p:spPr>
          <a:xfrm>
            <a:off x="1390680" y="324000"/>
            <a:ext cx="419040" cy="419040"/>
          </a:xfrm>
          <a:custGeom>
            <a:avLst/>
            <a:gdLst>
              <a:gd name="textAreaLeft" fmla="*/ 61200 w 419040"/>
              <a:gd name="textAreaRight" fmla="*/ 357840 w 419040"/>
              <a:gd name="textAreaTop" fmla="*/ 61200 h 419040"/>
              <a:gd name="textAreaBottom" fmla="*/ 357840 h 419040"/>
            </a:gdLst>
            <a:ahLst/>
            <a:rect l="textAreaLeft" t="textAreaTop" r="textAreaRight" b="textAreaBottom"/>
            <a:pathLst>
              <a:path w="419100" h="419100">
                <a:moveTo>
                  <a:pt x="0" y="209550"/>
                </a:moveTo>
                <a:lnTo>
                  <a:pt x="0" y="209550"/>
                </a:lnTo>
                <a:arcTo wR="209550" hR="209550" stAng="10800000" swAng="5400000"/>
                <a:lnTo>
                  <a:pt x="209550" y="0"/>
                </a:lnTo>
                <a:arcTo wR="209550" hR="209550" stAng="-5400000" swAng="5400000"/>
                <a:lnTo>
                  <a:pt x="419100" y="209550"/>
                </a:lnTo>
                <a:arcTo wR="209550" hR="209550" stAng="0" swAng="5400000"/>
                <a:lnTo>
                  <a:pt x="209550" y="419100"/>
                </a:lnTo>
                <a:arcTo wR="209550" hR="209550" stAng="5400000" swAng="5400000"/>
                <a:close/>
              </a:path>
            </a:pathLst>
          </a:custGeom>
          <a:solidFill>
            <a:srgbClr val="ffffff"/>
          </a:solidFill>
          <a:ln w="50760">
            <a:solidFill>
              <a:srgbClr val="7b9899"/>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12" name="14 - Ορθογώνιο"/>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144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5480" indent="-228600">
              <a:spcBef>
                <a:spcPts val="60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AB39-4088-4A6A-94C7-6F28DE94D17E}" type="slidenum">
              <a:rPr b="0" lang="el-G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6844-22D3-413A-8919-A6EDADED2A68}" type="datetime">
              <a:rPr b="0" lang="el-GR" sz="1400" spc="-1" strike="noStrike">
                <a:solidFill>
                  <a:srgbClr val="ffffff"/>
                </a:solidFill>
                <a:latin typeface="Georgia"/>
              </a:rPr>
              <a:t>30/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900000" y="2819160"/>
            <a:ext cx="6872400" cy="2841480"/>
          </a:xfrm>
          <a:prstGeom prst="rect">
            <a:avLst/>
          </a:prstGeom>
          <a:noFill/>
          <a:ln w="0">
            <a:noFill/>
          </a:ln>
        </p:spPr>
        <p:txBody>
          <a:bodyPr anchor="t" anchorCtr="1">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46b86"/>
                </a:solidFill>
                <a:latin typeface="Georgia"/>
              </a:rPr>
              <a:t>ΤΟ ΣΧΟΛΕΙΟ ΩΣ ΠΛΑΙΣΙΟ ΨΥΧΟΚΟΙΝΩΝΙΚΗΣ ΑΝΑΠΤΥΞΗΣ ΤΟΥ ΠΑΙΔΙΟΥ ΚΑΙ ΤΟΥ ΕΦΗΒΟΥ ΚΑΙ Η ΣΥΜΒΟΛΗ ΤΗΣ ΣΧΟΛΙΚΗΣ ΚΟΙΝΩΝΙΚΗΣ ΥΠΗΡΕΣΙΑΣ</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46b86"/>
                </a:solidFill>
                <a:latin typeface="Georgia"/>
              </a:rPr>
              <a:t>ΔΡ. ΕΒΙΤΑ ΕΥΑΓΓΕΛΟΥ</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46b86"/>
                </a:solidFill>
                <a:latin typeface="Georgia"/>
              </a:rPr>
              <a:t>ΚΟΙΝΩΝΙΚΗ ΛΕΙΤΟΥΡΓΟΣ</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46b86"/>
                </a:solidFill>
                <a:latin typeface="Georgia"/>
              </a:rPr>
              <a:t>ΔΗΜΟΣ ΓΛΥΦΑΔΑΣ</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d16349"/>
                </a:solidFill>
                <a:latin typeface="Georgia"/>
              </a:rPr>
              <a:t>Σχολική Κοινωνική Υπηρεσία</a:t>
            </a:r>
            <a:endParaRPr b="0" lang="en-US" sz="4200" spc="-1" strike="noStrike">
              <a:solidFill>
                <a:srgbClr val="7b9899"/>
              </a:solidFill>
              <a:latin typeface="Georgia"/>
            </a:endParaRPr>
          </a:p>
        </p:txBody>
      </p:sp>
      <p:pic>
        <p:nvPicPr>
          <p:cNvPr id="608" name="Picture 2" descr=""/>
          <p:cNvPicPr/>
          <p:nvPr/>
        </p:nvPicPr>
        <p:blipFill>
          <a:blip r:embed="rId1"/>
          <a:stretch/>
        </p:blipFill>
        <p:spPr>
          <a:xfrm>
            <a:off x="395280" y="836640"/>
            <a:ext cx="647640" cy="904680"/>
          </a:xfrm>
          <a:prstGeom prst="rect">
            <a:avLst/>
          </a:prstGeom>
          <a:ln w="0">
            <a:noFill/>
          </a:ln>
        </p:spPr>
      </p:pic>
      <p:pic>
        <p:nvPicPr>
          <p:cNvPr id="609" name="Picture 4" descr=""/>
          <p:cNvPicPr/>
          <p:nvPr/>
        </p:nvPicPr>
        <p:blipFill>
          <a:blip r:embed="rId2"/>
          <a:stretch/>
        </p:blipFill>
        <p:spPr>
          <a:xfrm>
            <a:off x="7596360" y="404640"/>
            <a:ext cx="952200" cy="90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0" lang="el-GR" sz="2400" spc="-1" strike="noStrike">
                <a:solidFill>
                  <a:srgbClr val="7b9899"/>
                </a:solidFill>
                <a:latin typeface="Georgia"/>
              </a:rPr>
              <a:t>Η έννοια της αλληλεπίδρασης των υποσυστημάτων του σχολείου1</a:t>
            </a:r>
            <a:endParaRPr b="0" lang="en-US" sz="24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Οικογένεια σε κρίση</a:t>
            </a:r>
            <a:endParaRPr b="0" lang="en-US" sz="18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Ψυχολογική επιβάρυνση μαθητή/τριας</a:t>
            </a:r>
            <a:endParaRPr b="0" lang="en-US" sz="18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Έλλειψη κινήτρου – διάθεσης</a:t>
            </a:r>
            <a:endParaRPr b="0" lang="en-US" sz="1800" spc="-1" strike="noStrike">
              <a:solidFill>
                <a:srgbClr val="000000"/>
              </a:solidFill>
              <a:latin typeface="Georgia"/>
            </a:endParaRPr>
          </a:p>
          <a:p>
            <a:pPr marL="271440" indent="-271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Μειωμένη απόδοση στις σχολικές υποχρεώσεις</a:t>
            </a:r>
            <a:endParaRPr b="0" lang="en-US" sz="18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Αρνητική ανατροφοδότηση του/της μαθητή/ριας από καθηγητές και γονείς</a:t>
            </a:r>
            <a:endParaRPr b="0" lang="en-US" sz="18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eorgia"/>
              </a:rPr>
              <a:t>Αύξηση ενδο-οικογενειακών εντάσεων</a:t>
            </a:r>
            <a:endParaRPr b="0" lang="en-US" sz="1800" spc="-1" strike="noStrike">
              <a:solidFill>
                <a:srgbClr val="000000"/>
              </a:solidFill>
              <a:latin typeface="Georgia"/>
            </a:endParaRPr>
          </a:p>
        </p:txBody>
      </p:sp>
      <p:sp>
        <p:nvSpPr>
          <p:cNvPr id="632" name="Line 5"/>
          <p:cNvSpPr/>
          <p:nvPr/>
        </p:nvSpPr>
        <p:spPr>
          <a:xfrm>
            <a:off x="2124000" y="1628640"/>
            <a:ext cx="360" cy="457200"/>
          </a:xfrm>
          <a:custGeom>
            <a:avLst/>
            <a:gdLst/>
            <a:ahLst/>
            <a:rect l="l" t="t" r="r" b="b"/>
            <a:pathLst>
              <a:path w="0" h="457200">
                <a:moveTo>
                  <a:pt x="0" y="0"/>
                </a:moveTo>
                <a:lnTo>
                  <a:pt x="1" y="457200"/>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6"/>
          <p:cNvSpPr/>
          <p:nvPr/>
        </p:nvSpPr>
        <p:spPr>
          <a:xfrm>
            <a:off x="2411280" y="2492280"/>
            <a:ext cx="360" cy="381240"/>
          </a:xfrm>
          <a:custGeom>
            <a:avLst/>
            <a:gdLst/>
            <a:ahLst/>
            <a:rect l="l" t="t" r="r" b="b"/>
            <a:pathLst>
              <a:path w="0" h="381003">
                <a:moveTo>
                  <a:pt x="0" y="0"/>
                </a:moveTo>
                <a:lnTo>
                  <a:pt x="1" y="381003"/>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9"/>
          <p:cNvSpPr/>
          <p:nvPr/>
        </p:nvSpPr>
        <p:spPr>
          <a:xfrm>
            <a:off x="2411280" y="4221000"/>
            <a:ext cx="360" cy="381240"/>
          </a:xfrm>
          <a:custGeom>
            <a:avLst/>
            <a:gdLst/>
            <a:ahLst/>
            <a:rect l="l" t="t" r="r" b="b"/>
            <a:pathLst>
              <a:path w="0" h="381003">
                <a:moveTo>
                  <a:pt x="0" y="0"/>
                </a:moveTo>
                <a:lnTo>
                  <a:pt x="1" y="381003"/>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14"/>
          <p:cNvSpPr/>
          <p:nvPr/>
        </p:nvSpPr>
        <p:spPr>
          <a:xfrm>
            <a:off x="2411280" y="3573360"/>
            <a:ext cx="360" cy="381240"/>
          </a:xfrm>
          <a:custGeom>
            <a:avLst/>
            <a:gdLst/>
            <a:ahLst/>
            <a:rect l="l" t="t" r="r" b="b"/>
            <a:pathLst>
              <a:path w="0" h="381003">
                <a:moveTo>
                  <a:pt x="0" y="0"/>
                </a:moveTo>
                <a:lnTo>
                  <a:pt x="1" y="381003"/>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17"/>
          <p:cNvSpPr/>
          <p:nvPr/>
        </p:nvSpPr>
        <p:spPr>
          <a:xfrm>
            <a:off x="2340000" y="3068640"/>
            <a:ext cx="360" cy="304920"/>
          </a:xfrm>
          <a:custGeom>
            <a:avLst/>
            <a:gdLst/>
            <a:ahLst/>
            <a:rect l="l" t="t" r="r" b="b"/>
            <a:pathLst>
              <a:path w="0" h="304796">
                <a:moveTo>
                  <a:pt x="0" y="0"/>
                </a:moveTo>
                <a:lnTo>
                  <a:pt x="1" y="304796"/>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7" name="Picture 5" descr="MCj04344030000[1]"/>
          <p:cNvPicPr/>
          <p:nvPr/>
        </p:nvPicPr>
        <p:blipFill>
          <a:blip r:embed="rId1"/>
          <a:stretch/>
        </p:blipFill>
        <p:spPr>
          <a:xfrm>
            <a:off x="6588000" y="1628640"/>
            <a:ext cx="1501920" cy="210672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2">
                                  <p:stCondLst>
                                    <p:cond delay="0"/>
                                  </p:stCondLst>
                                  <p:iterate type="lt">
                                    <p:tmAbs val="0"/>
                                  </p:iterate>
                                  <p:childTnLst>
                                    <p:set>
                                      <p:cBhvr>
                                        <p:cTn id="6" dur="1" fill="hold">
                                          <p:stCondLst>
                                            <p:cond delay="0"/>
                                          </p:stCondLst>
                                        </p:cTn>
                                        <p:tgtEl>
                                          <p:spTgt spid="637"/>
                                        </p:tgtEl>
                                        <p:attrNameLst>
                                          <p:attrName>style.visibility</p:attrName>
                                        </p:attrNameLst>
                                      </p:cBhvr>
                                      <p:to>
                                        <p:strVal val="visible"/>
                                      </p:to>
                                    </p:set>
                                    <p:anim calcmode="lin" valueType="num">
                                      <p:cBhvr additive="repl">
                                        <p:cTn id="7" dur="3000" fill="hold"/>
                                        <p:tgtEl>
                                          <p:spTgt spid="637"/>
                                        </p:tgtEl>
                                        <p:attrNameLst>
                                          <p:attrName>ppt_x</p:attrName>
                                        </p:attrNameLst>
                                      </p:cBhvr>
                                      <p:tavLst>
                                        <p:tav tm="0">
                                          <p:val>
                                            <p:strVal val="0-#ppt_w/2"/>
                                          </p:val>
                                        </p:tav>
                                        <p:tav tm="100000">
                                          <p:val>
                                            <p:strVal val="#ppt_x"/>
                                          </p:val>
                                        </p:tav>
                                      </p:tavLst>
                                    </p:anim>
                                    <p:anim calcmode="lin" valueType="num">
                                      <p:cBhvr additive="repl">
                                        <p:cTn id="8" dur="3000" fill="hold"/>
                                        <p:tgtEl>
                                          <p:spTgt spid="6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0" lang="el-GR" sz="2400" spc="-1" strike="noStrike">
                <a:solidFill>
                  <a:srgbClr val="7b9899"/>
                </a:solidFill>
                <a:latin typeface="Georgia"/>
              </a:rPr>
              <a:t>Η έννοια της αλληλεπίδρασης των υποσυστημάτων του σχολείου2</a:t>
            </a:r>
            <a:endParaRPr b="0" lang="en-US" sz="24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1440" indent="-27144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Georgia"/>
              </a:rPr>
              <a:t>Ενασχόληση του/της εκπαιδευτικού με υψηλό κίνητρο</a:t>
            </a:r>
            <a:endParaRPr b="0" lang="en-US" sz="2000" spc="-1" strike="noStrike">
              <a:solidFill>
                <a:srgbClr val="000000"/>
              </a:solidFill>
              <a:latin typeface="Georgia"/>
            </a:endParaRPr>
          </a:p>
          <a:p>
            <a:pPr marL="271440" indent="-271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1440" indent="-27144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Georgia"/>
              </a:rPr>
              <a:t>Ανάπτυξη εκτίμησης και εμπιστοσύνης  εκπαιδευτικού-μαθητή</a:t>
            </a:r>
            <a:endParaRPr b="0" lang="en-US" sz="2000" spc="-1" strike="noStrike">
              <a:solidFill>
                <a:srgbClr val="000000"/>
              </a:solidFill>
              <a:latin typeface="Georgia"/>
            </a:endParaRPr>
          </a:p>
          <a:p>
            <a:pPr marL="271440" indent="-27144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1440" indent="-27144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Georgia"/>
              </a:rPr>
              <a:t>Αύξηση ενασχόλησης του/της μαθητή με το μάθημα</a:t>
            </a:r>
            <a:endParaRPr b="0" lang="en-US" sz="2000" spc="-1" strike="noStrike">
              <a:solidFill>
                <a:srgbClr val="000000"/>
              </a:solidFill>
              <a:latin typeface="Georgia"/>
            </a:endParaRPr>
          </a:p>
          <a:p>
            <a:pPr marL="271440" indent="-271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1440" indent="-27144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Georgia"/>
              </a:rPr>
              <a:t>Βελτίωση της σχολικής επίδοσης</a:t>
            </a:r>
            <a:endParaRPr b="0" lang="en-US" sz="2000" spc="-1" strike="noStrike">
              <a:solidFill>
                <a:srgbClr val="000000"/>
              </a:solidFill>
              <a:latin typeface="Georgia"/>
            </a:endParaRPr>
          </a:p>
          <a:p>
            <a:pPr marL="271440" indent="-271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1440" indent="-27144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Georgia"/>
              </a:rPr>
              <a:t>Αύξηση αυτο εκτίμησης και κινήτρων του μαθητή</a:t>
            </a:r>
            <a:endParaRPr b="0" lang="en-US" sz="2000" spc="-1" strike="noStrike">
              <a:solidFill>
                <a:srgbClr val="000000"/>
              </a:solidFill>
              <a:latin typeface="Georgia"/>
            </a:endParaRPr>
          </a:p>
          <a:p>
            <a:pPr marL="271440" indent="-271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Georgia"/>
              </a:rPr>
              <a:t>                                         </a:t>
            </a:r>
            <a:r>
              <a:rPr b="0" lang="el-GR" sz="2000" spc="-1" strike="noStrike">
                <a:solidFill>
                  <a:srgbClr val="000000"/>
                </a:solidFill>
                <a:latin typeface="Georgia"/>
              </a:rPr>
              <a:t>(Μαλικιώση-Λοίζου, 2009).</a:t>
            </a:r>
            <a:endParaRPr b="0" lang="en-US" sz="2000" spc="-1" strike="noStrike">
              <a:solidFill>
                <a:srgbClr val="000000"/>
              </a:solidFill>
              <a:latin typeface="Georgia"/>
            </a:endParaRPr>
          </a:p>
          <a:p>
            <a:pPr marL="271440" indent="-271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1440" indent="-271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1440" indent="-271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1440" indent="-27144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40" name="Line 10"/>
          <p:cNvSpPr/>
          <p:nvPr/>
        </p:nvSpPr>
        <p:spPr>
          <a:xfrm>
            <a:off x="3635280" y="1773360"/>
            <a:ext cx="360" cy="380880"/>
          </a:xfrm>
          <a:custGeom>
            <a:avLst/>
            <a:gdLst/>
            <a:ahLst/>
            <a:rect l="l" t="t" r="r" b="b"/>
            <a:pathLst>
              <a:path w="0" h="381003">
                <a:moveTo>
                  <a:pt x="0" y="0"/>
                </a:moveTo>
                <a:lnTo>
                  <a:pt x="1" y="381003"/>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11"/>
          <p:cNvSpPr/>
          <p:nvPr/>
        </p:nvSpPr>
        <p:spPr>
          <a:xfrm>
            <a:off x="3708360" y="2349360"/>
            <a:ext cx="360" cy="381240"/>
          </a:xfrm>
          <a:custGeom>
            <a:avLst/>
            <a:gdLst/>
            <a:ahLst/>
            <a:rect l="l" t="t" r="r" b="b"/>
            <a:pathLst>
              <a:path w="0" h="381003">
                <a:moveTo>
                  <a:pt x="0" y="0"/>
                </a:moveTo>
                <a:lnTo>
                  <a:pt x="1" y="381003"/>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12"/>
          <p:cNvSpPr/>
          <p:nvPr/>
        </p:nvSpPr>
        <p:spPr>
          <a:xfrm>
            <a:off x="3780000" y="3068640"/>
            <a:ext cx="360" cy="304920"/>
          </a:xfrm>
          <a:custGeom>
            <a:avLst/>
            <a:gdLst/>
            <a:ahLst/>
            <a:rect l="l" t="t" r="r" b="b"/>
            <a:pathLst>
              <a:path w="0" h="304796">
                <a:moveTo>
                  <a:pt x="0" y="0"/>
                </a:moveTo>
                <a:lnTo>
                  <a:pt x="1" y="304796"/>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13"/>
          <p:cNvSpPr/>
          <p:nvPr/>
        </p:nvSpPr>
        <p:spPr>
          <a:xfrm>
            <a:off x="3780000" y="3573360"/>
            <a:ext cx="360" cy="304920"/>
          </a:xfrm>
          <a:custGeom>
            <a:avLst/>
            <a:gdLst/>
            <a:ahLst/>
            <a:rect l="l" t="t" r="r" b="b"/>
            <a:pathLst>
              <a:path w="0" h="304796">
                <a:moveTo>
                  <a:pt x="0" y="0"/>
                </a:moveTo>
                <a:lnTo>
                  <a:pt x="1" y="304796"/>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4" name="Picture 2" descr="C:\Documents and Settings\USER\Τα έγγραφά μου\Οι εικόνες μου\smiley-face.jpg"/>
          <p:cNvPicPr/>
          <p:nvPr/>
        </p:nvPicPr>
        <p:blipFill>
          <a:blip r:embed="rId1"/>
          <a:stretch/>
        </p:blipFill>
        <p:spPr>
          <a:xfrm>
            <a:off x="6516720" y="2997360"/>
            <a:ext cx="2173320" cy="21729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a:t>
            </a:r>
            <a:r>
              <a:rPr b="0" lang="el-GR" sz="3300" spc="-1" strike="noStrike">
                <a:solidFill>
                  <a:srgbClr val="7b9899"/>
                </a:solidFill>
                <a:latin typeface="Georgia"/>
              </a:rPr>
              <a:t>νακεφαλαιώνοντας</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Αντιμετωπίζοντας το σχολείο σαν ένα ζωντανό ανοικτό σύστημα, παρεμβαίνουμε στα αίτια και όχι στα συμπτώματα.</a:t>
            </a:r>
            <a:endParaRPr b="0" lang="en-US" sz="27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Οι τρόποι παρέμβασης καθορίζονται</a:t>
            </a:r>
            <a:endParaRPr b="0" lang="en-US" sz="2700" spc="-1" strike="noStrike">
              <a:solidFill>
                <a:srgbClr val="000000"/>
              </a:solidFill>
              <a:latin typeface="Georgia"/>
            </a:endParaRPr>
          </a:p>
          <a:p>
            <a:pPr marL="27144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   </a:t>
            </a:r>
            <a:r>
              <a:rPr b="0" lang="el-GR" sz="2700" spc="-1" strike="noStrike">
                <a:solidFill>
                  <a:srgbClr val="000000"/>
                </a:solidFill>
                <a:latin typeface="Georgia"/>
              </a:rPr>
              <a:t>ανάλογα με τους στόχους που μπαίνουν</a:t>
            </a:r>
            <a:endParaRPr b="0" lang="en-US" sz="2700" spc="-1" strike="noStrike">
              <a:solidFill>
                <a:srgbClr val="000000"/>
              </a:solidFill>
              <a:latin typeface="Georgia"/>
            </a:endParaRPr>
          </a:p>
          <a:p>
            <a:pPr marL="27144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   </a:t>
            </a:r>
            <a:r>
              <a:rPr b="0" lang="el-GR" sz="2700" spc="-1" strike="noStrike">
                <a:solidFill>
                  <a:srgbClr val="000000"/>
                </a:solidFill>
                <a:latin typeface="Georgia"/>
              </a:rPr>
              <a:t>σε κάθε περίπτωση.</a:t>
            </a:r>
            <a:endParaRPr b="0" lang="en-US" sz="2700" spc="-1" strike="noStrike">
              <a:solidFill>
                <a:srgbClr val="000000"/>
              </a:solidFill>
              <a:latin typeface="Georgia"/>
            </a:endParaRPr>
          </a:p>
        </p:txBody>
      </p:sp>
      <p:pic>
        <p:nvPicPr>
          <p:cNvPr id="647" name="Picture 2" descr=""/>
          <p:cNvPicPr/>
          <p:nvPr/>
        </p:nvPicPr>
        <p:blipFill>
          <a:blip r:embed="rId1"/>
          <a:stretch/>
        </p:blipFill>
        <p:spPr>
          <a:xfrm>
            <a:off x="6804000" y="2708280"/>
            <a:ext cx="1914480" cy="19162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01320" y="1527120"/>
            <a:ext cx="8504280" cy="4572000"/>
          </a:xfrm>
          <a:prstGeom prst="rect">
            <a:avLst/>
          </a:prstGeom>
          <a:noFill/>
          <a:ln w="0">
            <a:noFill/>
          </a:ln>
        </p:spPr>
        <p:txBody>
          <a:bodyPr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Υποβοήθηση στελεχών του προσωπικού να κατανοήσουν τους </a:t>
            </a:r>
            <a:r>
              <a:rPr b="1" lang="el-GR" sz="2700" spc="-1" strike="noStrike">
                <a:solidFill>
                  <a:srgbClr val="000000"/>
                </a:solidFill>
                <a:latin typeface="Georgia"/>
              </a:rPr>
              <a:t>οικογενειακούς, πολιτισμικούς και ευρύτερους κοινωνικούς παράγοντες </a:t>
            </a:r>
            <a:r>
              <a:rPr b="0" lang="el-GR" sz="2700" spc="-1" strike="noStrike">
                <a:solidFill>
                  <a:srgbClr val="000000"/>
                </a:solidFill>
                <a:latin typeface="Georgia"/>
              </a:rPr>
              <a:t>που επηρεάζουν τη στάση και τη συμπεριφορά των μαθητών/τριών. </a:t>
            </a:r>
            <a:endParaRPr b="0" lang="en-US" sz="2700" spc="-1" strike="noStrike">
              <a:solidFill>
                <a:srgbClr val="000000"/>
              </a:solidFill>
              <a:latin typeface="Georgi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78920" y="-243000"/>
            <a:ext cx="8656920" cy="1511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l-GR" sz="3200" spc="-1" strike="noStrike">
                <a:solidFill>
                  <a:srgbClr val="7b9899"/>
                </a:solidFill>
                <a:latin typeface="Georgia"/>
              </a:rPr>
              <a:t>Υπηρεσίες που παρέχει η Σ.Κ.Υ. στο εκπαιδευτικό πλαίσιο.</a:t>
            </a:r>
            <a:endParaRPr b="0" lang="en-US" sz="32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Georgia"/>
              </a:rPr>
              <a:t>Αξιολόγηση των αναγκών του κάθε μαθητή </a:t>
            </a:r>
            <a:r>
              <a:rPr b="0" lang="el-GR" sz="2500" spc="-1" strike="noStrike">
                <a:solidFill>
                  <a:srgbClr val="000000"/>
                </a:solidFill>
                <a:latin typeface="Georgia"/>
              </a:rPr>
              <a:t>σε συνεργασία με τους εκπαιδευτικούς. </a:t>
            </a:r>
            <a:endParaRPr b="0" lang="en-US" sz="25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Georgia"/>
              </a:rPr>
              <a:t>Ανάπτυξη, εφαρμογή και αξιολόγηση προγραμμάτων </a:t>
            </a:r>
            <a:r>
              <a:rPr b="0" lang="el-GR" sz="2500" spc="-1" strike="noStrike">
                <a:solidFill>
                  <a:srgbClr val="000000"/>
                </a:solidFill>
                <a:latin typeface="Georgia"/>
              </a:rPr>
              <a:t>σε επίπεδο σχολικής μονάδας, ή τοπικής κοινωνίας που καλύπτουν τόσο τα εκπαιδευτικά ζητήματα όσο και τα ζητήματα συμπεριφοράς των παιδιών.</a:t>
            </a:r>
            <a:endParaRPr b="0" lang="en-US" sz="2500" spc="-1" strike="noStrike">
              <a:solidFill>
                <a:srgbClr val="000000"/>
              </a:solidFill>
              <a:latin typeface="Georgi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7b9899"/>
                </a:solidFill>
                <a:latin typeface="Georgia"/>
              </a:rPr>
              <a:t>Παρεμβάσεις σε μικρο-επίπεδο</a:t>
            </a:r>
            <a:endParaRPr b="0" lang="en-US" sz="33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u="sng">
                <a:solidFill>
                  <a:srgbClr val="000000"/>
                </a:solidFill>
                <a:uFillTx/>
                <a:latin typeface="Georgia"/>
              </a:rPr>
              <a:t>Τεχνικές παρέμβασης</a:t>
            </a:r>
            <a:endParaRPr b="0" lang="en-US" sz="27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   </a:t>
            </a:r>
            <a:r>
              <a:rPr b="1" lang="el-GR" sz="2700" spc="-1" strike="noStrike">
                <a:solidFill>
                  <a:srgbClr val="000000"/>
                </a:solidFill>
                <a:latin typeface="Georgia"/>
              </a:rPr>
              <a:t>Συμβουλευτική</a:t>
            </a:r>
            <a:r>
              <a:rPr b="0" lang="el-GR" sz="2700" spc="-1" strike="noStrike">
                <a:solidFill>
                  <a:srgbClr val="000000"/>
                </a:solidFill>
                <a:latin typeface="Georgia"/>
              </a:rPr>
              <a:t> με:</a:t>
            </a: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άτομο (μαθητής)</a:t>
            </a: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οικογένεια, </a:t>
            </a: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ομάδα (ομάδες γονέων, μαθητών/τριών, εκπαιδευτικών)</a:t>
            </a: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7b9899"/>
                </a:solidFill>
                <a:latin typeface="Georgia"/>
              </a:rPr>
              <a:t>Παρεμβάσεις σε μακρο-επίπεδο</a:t>
            </a:r>
            <a:endParaRPr b="0" lang="en-US" sz="3300" spc="-1" strike="noStrike">
              <a:solidFill>
                <a:srgbClr val="7b9899"/>
              </a:solidFill>
              <a:latin typeface="Georgia"/>
            </a:endParaRPr>
          </a:p>
        </p:txBody>
      </p:sp>
      <p:sp>
        <p:nvSpPr>
          <p:cNvPr id="654" name=""/>
          <p:cNvSpPr txBox="1"/>
          <p:nvPr/>
        </p:nvSpPr>
        <p:spPr>
          <a:xfrm>
            <a:off x="301320" y="1527120"/>
            <a:ext cx="8504280" cy="4572000"/>
          </a:xfrm>
          <a:prstGeom prst="rect">
            <a:avLst/>
          </a:prstGeom>
          <a:noFill/>
          <a:ln w="0">
            <a:noFill/>
          </a:ln>
        </p:spPr>
        <p:txBody>
          <a:bodyPr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u="sng">
                <a:solidFill>
                  <a:srgbClr val="000000"/>
                </a:solidFill>
                <a:uFillTx/>
                <a:latin typeface="Georgia"/>
              </a:rPr>
              <a:t>Δουλειά με την κοινότητα</a:t>
            </a:r>
            <a:r>
              <a:rPr b="1" lang="el-GR" sz="2700" spc="-1" strike="noStrike">
                <a:solidFill>
                  <a:srgbClr val="000000"/>
                </a:solidFill>
                <a:latin typeface="Georgia"/>
              </a:rPr>
              <a:t>:</a:t>
            </a: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Georgia"/>
              </a:rPr>
              <a:t>Δικτύωση</a:t>
            </a:r>
            <a:r>
              <a:rPr b="0" lang="el-GR" sz="2800" spc="-1" strike="noStrike">
                <a:solidFill>
                  <a:srgbClr val="000000"/>
                </a:solidFill>
                <a:latin typeface="Georgia"/>
              </a:rPr>
              <a:t> ( επικοινωνία με συλλόγους γονέων, εκπαιδευτικών κλπ)</a:t>
            </a:r>
            <a:endParaRPr b="0" lang="en-US" sz="28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Georgia"/>
              </a:rPr>
              <a:t>Επικοινωνία-παραπομπή</a:t>
            </a:r>
            <a:r>
              <a:rPr b="0" lang="el-GR" sz="2800" spc="-1" strike="noStrike">
                <a:solidFill>
                  <a:srgbClr val="000000"/>
                </a:solidFill>
                <a:latin typeface="Georgia"/>
              </a:rPr>
              <a:t> σε άλλες κοινωνικές υπηρεσίες ή υπηρεσίες ψυχικής υγείας όταν χρειαστεί.</a:t>
            </a:r>
            <a:endParaRPr b="0" lang="en-US" sz="28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7b9899"/>
                </a:solidFill>
                <a:latin typeface="Georgia"/>
              </a:rPr>
              <a:t>Πηγές</a:t>
            </a:r>
            <a:endParaRPr b="0" lang="en-US" sz="3300" spc="-1" strike="noStrike">
              <a:solidFill>
                <a:srgbClr val="7b9899"/>
              </a:solidFill>
              <a:latin typeface="Georgia"/>
            </a:endParaRPr>
          </a:p>
        </p:txBody>
      </p:sp>
      <p:sp>
        <p:nvSpPr>
          <p:cNvPr id="656" name=""/>
          <p:cNvSpPr txBox="1"/>
          <p:nvPr/>
        </p:nvSpPr>
        <p:spPr>
          <a:xfrm>
            <a:off x="301320" y="1527120"/>
            <a:ext cx="8504280" cy="4572000"/>
          </a:xfrm>
          <a:prstGeom prst="rect">
            <a:avLst/>
          </a:prstGeom>
          <a:noFill/>
          <a:ln w="0">
            <a:noFill/>
          </a:ln>
        </p:spPr>
        <p:txBody>
          <a:bodyPr anchor="t">
            <a:normAutofit/>
          </a:bodyPr>
          <a:p>
            <a:pPr marL="271440" indent="-27144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Georgia"/>
              </a:rPr>
              <a:t>Μαλικιώση-Λοίζου, Μ. ( 2009):  Η Συμβουλευτική Ψυχολογία στην Εκπαίδευση,</a:t>
            </a:r>
            <a:endParaRPr b="0" lang="en-US" sz="1600" spc="-1" strike="noStrike">
              <a:solidFill>
                <a:srgbClr val="000000"/>
              </a:solidFill>
              <a:latin typeface="Georgia"/>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Georgia"/>
              </a:rPr>
              <a:t>                                                                </a:t>
            </a:r>
            <a:r>
              <a:rPr b="0" lang="el-GR" sz="1600" spc="-1" strike="noStrike">
                <a:solidFill>
                  <a:srgbClr val="000000"/>
                </a:solidFill>
                <a:latin typeface="Georgia"/>
              </a:rPr>
              <a:t>Από τη Θεωρία στην Πράξη, Ελληνικά Γράμματα.</a:t>
            </a:r>
            <a:endParaRPr b="0" lang="en-US" sz="1600" spc="-1" strike="noStrike">
              <a:solidFill>
                <a:srgbClr val="000000"/>
              </a:solidFill>
              <a:latin typeface="Georgia"/>
            </a:endParaRPr>
          </a:p>
          <a:p>
            <a:pPr marL="271440" indent="-27144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Georgia"/>
              </a:rPr>
              <a:t>Δημοπούλου-Λαγωνίκα, Μ. , Κατσίκη, Γ. &amp; Μαρτικιάν-Γαζεριάν. Γ. ( επιμ.) ( 2009), Η ΟΙΚΟΓΕΝΕΙΑ ΚΑΙ ΤΟ ΣΧΟΛΕΙΟ, Η σημερινή τουςδυναμική και οι μελλοντικές προοπτικές ως πρόκληση για την  κοινωνική εργασία., ΣΥΜΒΟΥΛΙΟ ΕΠΙΜΟΡΦΩΣΗΣ ΣΤΗΝ ΚΟΙΝΩΝΙΚΗ ΕΡΓΑΣΙΑ Σ.Ε.Κ.Ε.</a:t>
            </a:r>
            <a:endParaRPr b="0" lang="en-US" sz="1600" spc="-1" strike="noStrike">
              <a:solidFill>
                <a:srgbClr val="000000"/>
              </a:solidFill>
              <a:latin typeface="Georgia"/>
            </a:endParaRPr>
          </a:p>
          <a:p>
            <a:pPr marL="271440" indent="-27144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Georgia"/>
              </a:rPr>
              <a:t> </a:t>
            </a:r>
            <a:r>
              <a:rPr b="0" lang="en-US" sz="1600" spc="-1" strike="noStrike">
                <a:solidFill>
                  <a:srgbClr val="000000"/>
                </a:solidFill>
                <a:latin typeface="Georgia"/>
              </a:rPr>
              <a:t>Weare</a:t>
            </a:r>
            <a:r>
              <a:rPr b="0" lang="el-GR" sz="1600" spc="-1" strike="noStrike">
                <a:solidFill>
                  <a:srgbClr val="000000"/>
                </a:solidFill>
                <a:latin typeface="Georgia"/>
              </a:rPr>
              <a:t>, </a:t>
            </a:r>
            <a:r>
              <a:rPr b="0" lang="en-US" sz="1600" spc="-1" strike="noStrike">
                <a:solidFill>
                  <a:srgbClr val="000000"/>
                </a:solidFill>
                <a:latin typeface="Georgia"/>
              </a:rPr>
              <a:t>K</a:t>
            </a:r>
            <a:r>
              <a:rPr b="0" lang="el-GR" sz="1600" spc="-1" strike="noStrike">
                <a:solidFill>
                  <a:srgbClr val="000000"/>
                </a:solidFill>
                <a:latin typeface="Georgia"/>
              </a:rPr>
              <a:t>.&amp; </a:t>
            </a:r>
            <a:r>
              <a:rPr b="0" lang="en-US" sz="1600" spc="-1" strike="noStrike">
                <a:solidFill>
                  <a:srgbClr val="000000"/>
                </a:solidFill>
                <a:latin typeface="Georgia"/>
              </a:rPr>
              <a:t>Gray</a:t>
            </a:r>
            <a:r>
              <a:rPr b="0" lang="el-GR" sz="1600" spc="-1" strike="noStrike">
                <a:solidFill>
                  <a:srgbClr val="000000"/>
                </a:solidFill>
                <a:latin typeface="Georgia"/>
              </a:rPr>
              <a:t>, </a:t>
            </a:r>
            <a:r>
              <a:rPr b="0" lang="en-US" sz="1600" spc="-1" strike="noStrike">
                <a:solidFill>
                  <a:srgbClr val="000000"/>
                </a:solidFill>
                <a:latin typeface="Georgia"/>
              </a:rPr>
              <a:t>G</a:t>
            </a:r>
            <a:r>
              <a:rPr b="0" lang="el-GR" sz="1600" spc="-1" strike="noStrike">
                <a:solidFill>
                  <a:srgbClr val="000000"/>
                </a:solidFill>
                <a:latin typeface="Georgia"/>
              </a:rPr>
              <a:t>. ( 2000), Η ΠΡΟΑΓΩΓΗ Της ΨΥΧΙΚΗΣ ΚΑΙ ΣΥΝΑΙΣΘΗΜΑΤΙΚΗΣ</a:t>
            </a:r>
            <a:endParaRPr b="0" lang="en-US" sz="1600" spc="-1" strike="noStrike">
              <a:solidFill>
                <a:srgbClr val="000000"/>
              </a:solidFill>
              <a:latin typeface="Georgia"/>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Georgia"/>
              </a:rPr>
              <a:t>                                                             </a:t>
            </a:r>
            <a:r>
              <a:rPr b="0" lang="el-GR" sz="1600" spc="-1" strike="noStrike">
                <a:solidFill>
                  <a:srgbClr val="000000"/>
                </a:solidFill>
                <a:latin typeface="Georgia"/>
              </a:rPr>
              <a:t>ΥΓΕΙΑΣ ΣΤΟ ΣΧΟΛΕΙΟ.</a:t>
            </a:r>
            <a:endParaRPr b="0" lang="en-US" sz="1600" spc="-1" strike="noStrike">
              <a:solidFill>
                <a:srgbClr val="000000"/>
              </a:solidFill>
              <a:latin typeface="Georgia"/>
            </a:endParaRPr>
          </a:p>
          <a:p>
            <a:pPr marL="271440" indent="-27144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upper, T., &amp; Dupper, D. (2002).  :SCHOOL SOCIAL WORK: Skills and interventions </a:t>
            </a:r>
            <a:endParaRPr b="0" lang="en-US" sz="1600" spc="-1" strike="noStrike">
              <a:solidFill>
                <a:srgbClr val="000000"/>
              </a:solidFill>
              <a:latin typeface="Georgia"/>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Georgia"/>
              </a:rPr>
              <a:t>                                                                      </a:t>
            </a:r>
            <a:r>
              <a:rPr b="0" lang="en-US" sz="1600" spc="-1" strike="noStrike">
                <a:solidFill>
                  <a:srgbClr val="000000"/>
                </a:solidFill>
                <a:latin typeface="Georgia"/>
              </a:rPr>
              <a:t>for effective practice. Hoboken, NJ: Wiley, John &amp; </a:t>
            </a:r>
            <a:endParaRPr b="0" lang="en-US" sz="1600" spc="-1" strike="noStrike">
              <a:solidFill>
                <a:srgbClr val="000000"/>
              </a:solidFill>
              <a:latin typeface="Georgia"/>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Georgia"/>
              </a:rPr>
              <a:t>                                                                     </a:t>
            </a:r>
            <a:r>
              <a:rPr b="0" lang="en-US" sz="1600" spc="-1" strike="noStrike">
                <a:solidFill>
                  <a:srgbClr val="000000"/>
                </a:solidFill>
                <a:latin typeface="Georgia"/>
              </a:rPr>
              <a:t>Sons, Inc.</a:t>
            </a:r>
            <a:endParaRPr b="0" lang="en-US" sz="1600" spc="-1" strike="noStrike">
              <a:solidFill>
                <a:srgbClr val="000000"/>
              </a:solidFill>
              <a:latin typeface="Georgia"/>
            </a:endParaRPr>
          </a:p>
          <a:p>
            <a:pPr marL="271440" indent="-27144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opersmith, B. ( 1976) The andencents of self-esteem,  Freeman and Co. New York.</a:t>
            </a:r>
            <a:endParaRPr b="0" lang="en-US" sz="1600" spc="-1" strike="noStrike">
              <a:solidFill>
                <a:srgbClr val="000000"/>
              </a:solidFill>
              <a:latin typeface="Georgia"/>
            </a:endParaRPr>
          </a:p>
          <a:p>
            <a:pPr marL="271440" indent="-27144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1440" indent="-27144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94920" y="1612800"/>
            <a:ext cx="8504280" cy="4572000"/>
          </a:xfrm>
          <a:prstGeom prst="rect">
            <a:avLst/>
          </a:prstGeom>
          <a:noFill/>
          <a:ln w="0">
            <a:noFill/>
          </a:ln>
        </p:spPr>
        <p:txBody>
          <a:bodyPr anchor="t">
            <a:normAutofit/>
          </a:bodyPr>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   </a:t>
            </a:r>
            <a:endParaRPr b="0" lang="en-US" sz="27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 </a:t>
            </a:r>
            <a:r>
              <a:rPr b="1" lang="el-GR" sz="2000" spc="-1" strike="noStrike">
                <a:solidFill>
                  <a:srgbClr val="000000"/>
                </a:solidFill>
                <a:latin typeface="Georgia"/>
              </a:rPr>
              <a:t>Σχολική Κοινωνική</a:t>
            </a:r>
            <a:endParaRPr b="0" lang="en-US" sz="20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Georgia"/>
              </a:rPr>
              <a:t> </a:t>
            </a:r>
            <a:r>
              <a:rPr b="1" lang="el-GR" sz="2000" spc="-1" strike="noStrike">
                <a:solidFill>
                  <a:srgbClr val="000000"/>
                </a:solidFill>
                <a:latin typeface="Georgia"/>
              </a:rPr>
              <a:t>Υπηρεσία</a:t>
            </a:r>
            <a:endParaRPr b="0" lang="en-US" sz="20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Georgia"/>
              </a:rPr>
              <a:t> </a:t>
            </a:r>
            <a:r>
              <a:rPr b="1" lang="el-GR" sz="2000" spc="-1" strike="noStrike">
                <a:solidFill>
                  <a:srgbClr val="000000"/>
                </a:solidFill>
                <a:latin typeface="Georgia"/>
              </a:rPr>
              <a:t>Δήμος Γλυφάδας</a:t>
            </a:r>
            <a:endParaRPr b="0" lang="en-US" sz="20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 </a:t>
            </a:r>
            <a:r>
              <a:rPr b="1" lang="el-GR" sz="2000" spc="-1" strike="noStrike">
                <a:solidFill>
                  <a:srgbClr val="000000"/>
                </a:solidFill>
                <a:latin typeface="Georgia"/>
              </a:rPr>
              <a:t>τηλ.210-964702</a:t>
            </a:r>
            <a:r>
              <a:rPr b="1" lang="el-GR" sz="2700" spc="-1" strike="noStrike">
                <a:solidFill>
                  <a:srgbClr val="000000"/>
                </a:solidFill>
                <a:latin typeface="Georgia"/>
              </a:rPr>
              <a:t>1</a:t>
            </a:r>
            <a:endParaRPr b="0" lang="en-US" sz="27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grafeiokp@gmail.com</a:t>
            </a:r>
            <a:endParaRPr b="0" lang="en-US" sz="18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Georgia"/>
              </a:rPr>
              <a:t>   </a:t>
            </a:r>
            <a:endParaRPr b="0" lang="en-US" sz="27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   </a:t>
            </a:r>
            <a:endParaRPr b="0" lang="en-US" sz="27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8" name="Picture 4" descr=""/>
          <p:cNvPicPr/>
          <p:nvPr/>
        </p:nvPicPr>
        <p:blipFill>
          <a:blip r:embed="rId1"/>
          <a:stretch/>
        </p:blipFill>
        <p:spPr>
          <a:xfrm>
            <a:off x="3203640" y="1380960"/>
            <a:ext cx="5764320" cy="54770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7b9899"/>
                </a:solidFill>
                <a:latin typeface="Georgia"/>
              </a:rPr>
              <a:t>Η δυναμική του σχολείου</a:t>
            </a:r>
            <a:endParaRPr b="0" lang="en-US" sz="3300" spc="-1" strike="noStrike">
              <a:solidFill>
                <a:srgbClr val="7b9899"/>
              </a:solidFill>
              <a:latin typeface="Georgia"/>
            </a:endParaRPr>
          </a:p>
        </p:txBody>
      </p:sp>
      <p:pic>
        <p:nvPicPr>
          <p:cNvPr id="611" name="Picture 2" descr=""/>
          <p:cNvPicPr/>
          <p:nvPr/>
        </p:nvPicPr>
        <p:blipFill>
          <a:blip r:embed="rId1"/>
          <a:stretch/>
        </p:blipFill>
        <p:spPr>
          <a:xfrm>
            <a:off x="2987640" y="2492280"/>
            <a:ext cx="2889360" cy="21621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7b9899"/>
                </a:solidFill>
                <a:latin typeface="Georgia"/>
              </a:rPr>
              <a:t>  </a:t>
            </a:r>
            <a:r>
              <a:rPr b="0" lang="el-GR" sz="3300" spc="-1" strike="noStrike">
                <a:solidFill>
                  <a:srgbClr val="7b9899"/>
                </a:solidFill>
                <a:latin typeface="Georgia"/>
              </a:rPr>
              <a:t>Τι είναι η συστημική οπτική</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Georgia"/>
              </a:rPr>
              <a:t>Σύμφωνα με την ολιστική / συστημική οπτική  τα άτομα, οι οικογένειες και κοινωνικές ομάδες ορίζονται σαν βιο- ψυχοκοινωνικά συστήματα, που ενώ είναι ξεχωριστά είναι αλληλένδετα</a:t>
            </a:r>
            <a:r>
              <a:rPr b="0" lang="el-GR" sz="2400" spc="-1" strike="noStrike">
                <a:solidFill>
                  <a:srgbClr val="000000"/>
                </a:solidFill>
                <a:latin typeface="Georgia"/>
              </a:rPr>
              <a:t>. </a:t>
            </a:r>
            <a:endParaRPr b="0" lang="en-US" sz="2400" spc="-1" strike="noStrike">
              <a:solidFill>
                <a:srgbClr val="000000"/>
              </a:solidFill>
              <a:latin typeface="Georgi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01320" y="1527120"/>
            <a:ext cx="8504280" cy="4572000"/>
          </a:xfrm>
          <a:prstGeom prst="rect">
            <a:avLst/>
          </a:prstGeom>
          <a:noFill/>
          <a:ln w="0">
            <a:noFill/>
          </a:ln>
        </p:spPr>
        <p:txBody>
          <a:bodyPr anchor="t">
            <a:normAutofit/>
          </a:bodyPr>
          <a:p>
            <a:pPr marL="271440" indent="-27144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1440" indent="-27144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1440" indent="-27144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Georgia"/>
              </a:rPr>
              <a:t>Έτσι, όλα τα φαινόμενα</a:t>
            </a:r>
            <a:endParaRPr b="0" lang="en-US" sz="2800" spc="-1" strike="noStrike">
              <a:solidFill>
                <a:srgbClr val="000000"/>
              </a:solidFill>
              <a:latin typeface="Georgia"/>
            </a:endParaRPr>
          </a:p>
          <a:p>
            <a:pPr marL="271440" indent="-27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Georgia"/>
              </a:rPr>
              <a:t>   </a:t>
            </a:r>
            <a:r>
              <a:rPr b="1" lang="el-GR" sz="2800" spc="-1" strike="noStrike">
                <a:solidFill>
                  <a:srgbClr val="000000"/>
                </a:solidFill>
                <a:latin typeface="Georgia"/>
              </a:rPr>
              <a:t>της υγείας και της αρρώστιας, ψυχικής και σωματικής είναι ενιαία και συλλογικά.  Ως εκ τούτου, ένα οποιοδήποτε επιμέρους φαινόμενο θα πρέπει να μελετηθεί στο πλαίσιο μία ολιστική προσέγγισης.</a:t>
            </a:r>
            <a:endParaRPr b="0" lang="en-US" sz="28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615" name="Picture 8" descr="ΕΚΠ ΜΕΤΑΡ 4"/>
          <p:cNvPicPr/>
          <p:nvPr/>
        </p:nvPicPr>
        <p:blipFill>
          <a:blip r:embed="rId1"/>
          <a:stretch/>
        </p:blipFill>
        <p:spPr>
          <a:xfrm>
            <a:off x="5580000" y="260280"/>
            <a:ext cx="3429000" cy="25146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7b9899"/>
                </a:solidFill>
                <a:latin typeface="Georgia"/>
              </a:rPr>
              <a:t>Τα κύρια υποσυστήματα του σχολείου</a:t>
            </a:r>
            <a:endParaRPr b="0" lang="en-US" sz="32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Οι εκπαιδευτικοί</a:t>
            </a:r>
            <a:endParaRPr b="0" lang="en-US" sz="27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Οι μαθητές</a:t>
            </a:r>
            <a:endParaRPr b="0" lang="en-US" sz="27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Οι γονείς</a:t>
            </a:r>
            <a:endParaRPr b="0" lang="en-US" sz="27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144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Η αλληλεπίδραση μεταξύ των</a:t>
            </a:r>
            <a:endParaRPr b="0" lang="en-US" sz="2700" spc="-1" strike="noStrike">
              <a:solidFill>
                <a:srgbClr val="000000"/>
              </a:solidFill>
              <a:latin typeface="Georgia"/>
            </a:endParaRPr>
          </a:p>
          <a:p>
            <a:pPr marL="27144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παραπάνω υποσυστημάτων του</a:t>
            </a:r>
            <a:endParaRPr b="0" lang="en-US" sz="2700" spc="-1" strike="noStrike">
              <a:solidFill>
                <a:srgbClr val="000000"/>
              </a:solidFill>
              <a:latin typeface="Georgia"/>
            </a:endParaRPr>
          </a:p>
          <a:p>
            <a:pPr marL="27144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σχολείου επιδρά και καθορίζει τους</a:t>
            </a:r>
            <a:endParaRPr b="0" lang="en-US" sz="2700" spc="-1" strike="noStrike">
              <a:solidFill>
                <a:srgbClr val="000000"/>
              </a:solidFill>
              <a:latin typeface="Georgia"/>
            </a:endParaRPr>
          </a:p>
          <a:p>
            <a:pPr marL="27144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στόχους της εκπαιδευτικής διαδικασίας.</a:t>
            </a:r>
            <a:endParaRPr b="0" lang="en-US" sz="2700" spc="-1" strike="noStrike">
              <a:solidFill>
                <a:srgbClr val="000000"/>
              </a:solidFill>
              <a:latin typeface="Georgia"/>
            </a:endParaRPr>
          </a:p>
        </p:txBody>
      </p:sp>
      <p:pic>
        <p:nvPicPr>
          <p:cNvPr id="618" name="Picture 2" descr=""/>
          <p:cNvPicPr/>
          <p:nvPr/>
        </p:nvPicPr>
        <p:blipFill>
          <a:blip r:embed="rId1"/>
          <a:stretch/>
        </p:blipFill>
        <p:spPr>
          <a:xfrm>
            <a:off x="6227640" y="2133720"/>
            <a:ext cx="2490840" cy="24908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7b9899"/>
                </a:solidFill>
                <a:latin typeface="Georgia"/>
              </a:rPr>
              <a:t>Εκπαιδευτικοί</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Λειτουργούν ως πρότυπα, ειδικότερα στις χαμηλές βαθμίδες της εκπαίδευσης.</a:t>
            </a:r>
            <a:endParaRPr b="0" lang="en-US" sz="24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Ο ρόλος τους είναι ιδιαίτερα σημαντικός σε μία κοινωνία που αλλάζει ραγδαία σε πολλά επίπεδα, διότι καλούνται να βοηθήσουν τους μαθητές τους να θεμελιώσουν γερές βάσεις για την επιβίωση και την ολοκλήρωσή τους ως ενεργών  μελών της κοινωνίας στην οποία θα ζήσουν.</a:t>
            </a:r>
            <a:endParaRPr b="0" lang="en-US" sz="24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1440" indent="-27144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1440" indent="-271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7b9899"/>
                </a:solidFill>
                <a:latin typeface="Georgia"/>
              </a:rPr>
              <a:t>Ο ρόλος του εκπαιδευτικού…</a:t>
            </a:r>
            <a:endParaRPr b="0" lang="en-US" sz="3300" spc="-1" strike="noStrike">
              <a:solidFill>
                <a:srgbClr val="7b9899"/>
              </a:solidFill>
              <a:latin typeface="Georgia"/>
            </a:endParaRPr>
          </a:p>
        </p:txBody>
      </p:sp>
      <p:pic>
        <p:nvPicPr>
          <p:cNvPr id="622" name="Picture 2" descr="C:\Documents and Settings\USER\Τα έγγραφά μου\Οι εικόνες μου\kids.jpg"/>
          <p:cNvPicPr/>
          <p:nvPr/>
        </p:nvPicPr>
        <p:blipFill>
          <a:blip r:embed="rId1"/>
          <a:stretch/>
        </p:blipFill>
        <p:spPr>
          <a:xfrm>
            <a:off x="5580000" y="3500280"/>
            <a:ext cx="3086280" cy="2314800"/>
          </a:xfrm>
          <a:prstGeom prst="rect">
            <a:avLst/>
          </a:prstGeom>
          <a:ln w="0">
            <a:noFill/>
          </a:ln>
        </p:spPr>
      </p:pic>
      <p:sp>
        <p:nvSpPr>
          <p:cNvPr id="623" name="4 - Ορθογώνιο"/>
          <p:cNvSpPr/>
          <p:nvPr/>
        </p:nvSpPr>
        <p:spPr>
          <a:xfrm>
            <a:off x="468360" y="1773360"/>
            <a:ext cx="638964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Ο εκπαιδευτικός μπορεί να παίξει το ρόλο του </a:t>
            </a:r>
            <a:r>
              <a:rPr b="1" lang="el-GR" sz="2400" spc="-1" strike="noStrike">
                <a:solidFill>
                  <a:srgbClr val="000000"/>
                </a:solidFill>
                <a:latin typeface="Georgia"/>
              </a:rPr>
              <a:t>«ενήλικα υποστηρικτή»</a:t>
            </a:r>
            <a:r>
              <a:rPr b="0" lang="el-GR" sz="2400" spc="-1" strike="noStrike">
                <a:solidFill>
                  <a:srgbClr val="000000"/>
                </a:solidFill>
                <a:latin typeface="Georgia"/>
              </a:rPr>
              <a:t> δηλαδή του σημαντικού άλλου, έξω από το στενό οικογενειακό περιβάλλον του παιδιού.</a:t>
            </a: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7b9899"/>
                </a:solidFill>
                <a:latin typeface="Georgia"/>
              </a:rPr>
              <a:t>Μαθητές</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orgia"/>
              </a:rPr>
              <a:t>Οι μαθητές δεν είναι μόνο παθητικοί δέκτες των μηνυμάτων της εκπαίδευσης αλλά και πομποί μηνυμάτων. Είναι πολύ σημαντικό να δίνεται σημασία στα μηνύματα των μαθητών, λεκτικά ή μη, τα οποία έχουν άμεση σχέση με τα στοιχεία που κουβαλούν από την οικογένεια τους, και από τον κοινωνικό τους περίγυρο.</a:t>
            </a:r>
            <a:endParaRPr b="0" lang="en-US" sz="2700" spc="-1" strike="noStrike">
              <a:solidFill>
                <a:srgbClr val="000000"/>
              </a:solidFill>
              <a:latin typeface="Georgia"/>
            </a:endParaRPr>
          </a:p>
        </p:txBody>
      </p:sp>
      <p:pic>
        <p:nvPicPr>
          <p:cNvPr id="626" name="Picture 2" descr="C:\Documents and Settings\USER\Τα έγγραφά μου\Οι εικόνες μου\on the road.jpg"/>
          <p:cNvPicPr/>
          <p:nvPr/>
        </p:nvPicPr>
        <p:blipFill>
          <a:blip r:embed="rId1"/>
          <a:stretch/>
        </p:blipFill>
        <p:spPr>
          <a:xfrm>
            <a:off x="7458120" y="3789360"/>
            <a:ext cx="1685880" cy="25401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7b9899"/>
                </a:solidFill>
                <a:latin typeface="Georgia"/>
              </a:rPr>
              <a:t>Γονείς /Οικογένεια</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Οι γονείς έχουν τις δικές τους στάσεις, αντιλήψεις και ανάγκες  οι οποίες επηρεάζουν σημαντικά τη στάση τους απέναντι στο σχολείο και την εκπαίδευση.</a:t>
            </a:r>
            <a:endParaRPr b="0" lang="en-US" sz="24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Μπορεί να προέρχονται από ένα διαφορετικό πολιτισμικό πλαίσιο, να έχουν προβλήματα ένταξης σε ένα καινούργιο κοινωνικό περιβάλλον κλπ.</a:t>
            </a:r>
            <a:endParaRPr b="0" lang="en-US" sz="2400" spc="-1" strike="noStrike">
              <a:solidFill>
                <a:srgbClr val="000000"/>
              </a:solidFill>
              <a:latin typeface="Georgia"/>
            </a:endParaRPr>
          </a:p>
          <a:p>
            <a:pPr marL="271440" indent="-271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Τα παραπάνω καθορίζουν τον</a:t>
            </a:r>
            <a:endParaRPr b="0" lang="en-US" sz="24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    </a:t>
            </a:r>
            <a:r>
              <a:rPr b="0" lang="el-GR" sz="2400" spc="-1" strike="noStrike">
                <a:solidFill>
                  <a:srgbClr val="000000"/>
                </a:solidFill>
                <a:latin typeface="Georgia"/>
              </a:rPr>
              <a:t>βαθμό που εμπλέκονται στην  </a:t>
            </a:r>
            <a:endParaRPr b="0" lang="en-US" sz="24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     </a:t>
            </a:r>
            <a:r>
              <a:rPr b="0" lang="el-GR" sz="2400" spc="-1" strike="noStrike">
                <a:solidFill>
                  <a:srgbClr val="000000"/>
                </a:solidFill>
                <a:latin typeface="Georgia"/>
              </a:rPr>
              <a:t>εκπαιδευτική διαδικασία των</a:t>
            </a:r>
            <a:endParaRPr b="0" lang="en-US" sz="2400" spc="-1" strike="noStrike">
              <a:solidFill>
                <a:srgbClr val="000000"/>
              </a:solidFill>
              <a:latin typeface="Georgia"/>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     </a:t>
            </a:r>
            <a:r>
              <a:rPr b="0" lang="el-GR" sz="2400" spc="-1" strike="noStrike">
                <a:solidFill>
                  <a:srgbClr val="000000"/>
                </a:solidFill>
                <a:latin typeface="Georgia"/>
              </a:rPr>
              <a:t>παιδιών τους.  </a:t>
            </a:r>
            <a:endParaRPr b="0" lang="en-US" sz="2400" spc="-1" strike="noStrike">
              <a:solidFill>
                <a:srgbClr val="000000"/>
              </a:solidFill>
              <a:latin typeface="Georgia"/>
            </a:endParaRPr>
          </a:p>
        </p:txBody>
      </p:sp>
      <p:pic>
        <p:nvPicPr>
          <p:cNvPr id="629" name="Picture 2" descr="C:\Documents and Settings\USER\Τα έγγραφά μου\Οι εικόνες μου\η ομάδα.jpg"/>
          <p:cNvPicPr/>
          <p:nvPr/>
        </p:nvPicPr>
        <p:blipFill>
          <a:blip r:embed="rId1"/>
          <a:stretch/>
        </p:blipFill>
        <p:spPr>
          <a:xfrm>
            <a:off x="6156360" y="4005360"/>
            <a:ext cx="2227320" cy="19731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2T12:56:59Z</dcterms:created>
  <dc:creator>user</dc:creator>
  <dc:description/>
  <dc:language>en-US</dc:language>
  <cp:lastModifiedBy>Ανδρέας</cp:lastModifiedBy>
  <dcterms:modified xsi:type="dcterms:W3CDTF">2013-03-29T21:28:20Z</dcterms:modified>
  <cp:revision>34</cp:revision>
  <dc:subject/>
  <dc:title>Σχολική Κοινωνική Υπηρεσία</dc:title>
</cp:coreProperties>
</file>