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AB7-DED4-4B9B-BAEB-62A946E0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16C4-512B-4C90-8E75-A94178BA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BA8-DDE7-40B5-A748-5A39296E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F94-8D18-43BF-8AA5-C4EF8168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7B13-FC72-4738-85EB-093EB616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13B-7F25-4FDE-A7EE-4B7DB9B7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675-D38A-4BBB-8126-4C40E71C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49AB-7B34-44EA-A1F7-B0EB15A0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2BF-0971-4834-983F-AE2197EF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106-878F-450E-9830-A7AE6257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CC0A-AF79-4A38-8DF4-7B459AA6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D1F3-CD1A-44F8-9C28-074969A3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5DAD-84BA-4E60-86D0-291DF33DC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2743200" cy="269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380880"/>
            <a:ext cx="80010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25751" dir="18900000" blurRad="0" rotWithShape="0">
                    <a:srgbClr val="00cc00"/>
                  </a:outerShdw>
                </a:effectLst>
                <a:latin typeface="Cooper Black"/>
              </a:rPr>
              <a:t>Μικροσκόπιο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25751" dir="18900000" blurRad="0" rotWithShape="0">
                  <a:srgbClr val="00cc00"/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81280" y="3429000"/>
            <a:ext cx="4800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25751" dir="18900000" blurRad="0" rotWithShape="0">
                    <a:srgbClr val="00cc00"/>
                  </a:outerShdw>
                </a:effectLst>
                <a:latin typeface="Cooper Black"/>
              </a:rPr>
              <a:t>Τα βασικά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25751" dir="18900000" blurRad="0" rotWithShape="0">
                  <a:srgbClr val="00cc00"/>
                </a:outerShdw>
              </a:effectLst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858000" cy="640728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914400" y="228600"/>
            <a:ext cx="7315200" cy="5638680"/>
            <a:chOff x="914400" y="228600"/>
            <a:chExt cx="7315200" cy="5638680"/>
          </a:xfrm>
        </p:grpSpPr>
        <p:grpSp>
          <p:nvGrpSpPr>
            <p:cNvPr id="46" name=""/>
            <p:cNvGrpSpPr/>
            <p:nvPr/>
          </p:nvGrpSpPr>
          <p:grpSpPr>
            <a:xfrm>
              <a:off x="914400" y="762120"/>
              <a:ext cx="1219320" cy="4394160"/>
              <a:chOff x="914400" y="762120"/>
              <a:chExt cx="1219320" cy="4394160"/>
            </a:xfrm>
          </p:grpSpPr>
          <p:sp>
            <p:nvSpPr>
              <p:cNvPr id="47" name=""/>
              <p:cNvSpPr/>
              <p:nvPr/>
            </p:nvSpPr>
            <p:spPr>
              <a:xfrm>
                <a:off x="1066680" y="76212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66680" y="190512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990720" y="243828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990720" y="365760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90720" y="411480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14400" y="477504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781680" y="228600"/>
              <a:ext cx="1447920" cy="5638680"/>
              <a:chOff x="6781680" y="228600"/>
              <a:chExt cx="1447920" cy="5638680"/>
            </a:xfrm>
          </p:grpSpPr>
          <p:sp>
            <p:nvSpPr>
              <p:cNvPr id="54" name=""/>
              <p:cNvSpPr/>
              <p:nvPr/>
            </p:nvSpPr>
            <p:spPr>
              <a:xfrm>
                <a:off x="7010280" y="22860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086600" y="213372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62920" y="327672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781680" y="3733920"/>
                <a:ext cx="10670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858000" y="4419720"/>
                <a:ext cx="106668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162920" y="5257800"/>
                <a:ext cx="106668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"/>
          <p:cNvSpPr/>
          <p:nvPr/>
        </p:nvSpPr>
        <p:spPr>
          <a:xfrm>
            <a:off x="609480" y="685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8288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εριστρεφόμενος δίσκ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4004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τικειμενικοί φακο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8720" y="3568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ίεστρ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3960" y="4673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ηγή φωτό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34320" y="1522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οσοφθάλμιος φακό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21337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Λαβή (Βραχίονα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ράπεζ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37339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ακρομετρικός κοχλ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4511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Μικρομετρικός κοχλ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28600" y="5372280"/>
            <a:ext cx="8432640" cy="1198800"/>
            <a:chOff x="228600" y="5372280"/>
            <a:chExt cx="8432640" cy="1198800"/>
          </a:xfrm>
        </p:grpSpPr>
        <p:sp>
          <p:nvSpPr>
            <p:cNvPr id="71" name=""/>
            <p:cNvSpPr/>
            <p:nvPr/>
          </p:nvSpPr>
          <p:spPr>
            <a:xfrm>
              <a:off x="228600" y="5867280"/>
              <a:ext cx="6019920" cy="703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</a:rPr>
                <a:t>Όταν μεταφέρουμε το μικροσκόπιο, το ένα χέρι κρατάει τη λαβή και το άλλο χέρι είναι κάτω απ’την βάσ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61040" y="53722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Βάσ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00040" y="4064040"/>
            <a:ext cx="3505320" cy="660240"/>
            <a:chOff x="500040" y="4064040"/>
            <a:chExt cx="3505320" cy="660240"/>
          </a:xfrm>
        </p:grpSpPr>
        <p:sp>
          <p:nvSpPr>
            <p:cNvPr id="74" name=""/>
            <p:cNvSpPr/>
            <p:nvPr/>
          </p:nvSpPr>
          <p:spPr>
            <a:xfrm>
              <a:off x="533520" y="406404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Διάφραγμ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0040" y="4419720"/>
              <a:ext cx="3505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304920"/>
            <a:ext cx="853452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Ποια είναι η μεγεθυντική μου ικανότητα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ια να υπολογίσουμε την τελική μεγέθυνση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πολλαπλασιάζουμ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μεγέθυνσ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προσοφθάλμιου φακο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πί τ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μεγέθυνσ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αντικειμενικού φακ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1914480" cy="2590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38080" y="2971800"/>
            <a:ext cx="533520" cy="5335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rcRect l="14787" t="16483" r="45259" b="6929"/>
          <a:stretch/>
        </p:blipFill>
        <p:spPr>
          <a:xfrm>
            <a:off x="1676520" y="2209680"/>
            <a:ext cx="2666880" cy="3829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49360" y="3733920"/>
            <a:ext cx="533520" cy="53316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70760" y="400356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2590920"/>
            <a:ext cx="380988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οια είναι η μεγεθυντική ικανότητα του κάθε αντικειμενικού φακού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304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υγκρίνοντας μεγεθυντική ικαν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70760" y="400356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14400" y="1066680"/>
            <a:ext cx="7620120" cy="1706400"/>
            <a:chOff x="914400" y="1066680"/>
            <a:chExt cx="7620120" cy="170640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914400" y="1066680"/>
              <a:ext cx="213372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048120" y="132516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Βλέπουμε περισσότερες λεπτομέρειες με υψηλή μεγέθυνση, αλλά δεν μπορούμε να δούμε την εικόνα στο σύνολό τη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19040" y="3124080"/>
            <a:ext cx="8191440" cy="3143520"/>
            <a:chOff x="419040" y="3124080"/>
            <a:chExt cx="8191440" cy="314352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3848040" y="3124080"/>
              <a:ext cx="4762440" cy="31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19040" y="3919680"/>
              <a:ext cx="32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Ποια απ’ τις εικόνες είναι στην υψηλότερη μεγέθυνση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Times New Roman"/>
              </a:rPr>
              <a:t>Ας δοκιμάσουμ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760" y="11430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Άναψ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μικροσκόπιο και γύρνα τον περιστρεφόμενο δίσκο ώστε στη θέση μικροσκόπησης να είναι ο αντικειμενικός φακός με τη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κόκκινη γραμμ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760" y="21034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ποθέτησε στην τράπεζα την αντικειμενοφόρο πλάκα και στήριξε την με το πίεστρ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ύρισε το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μακρομετρικό κοχλί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ια να δεις την εικόνα και ύστερα το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μικρομετρικό κοχλί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για να τη δεις πιο καθαρά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6545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–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Όταν τελειώσει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σβήνει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μικροσκόπιο και αφαιρείς τις αντικειμενοφόρες πλάκες που χρησιμοποίησ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66760" y="3733920"/>
            <a:ext cx="8610480" cy="1785960"/>
            <a:chOff x="266760" y="3733920"/>
            <a:chExt cx="8610480" cy="1785960"/>
          </a:xfrm>
        </p:grpSpPr>
        <p:sp>
          <p:nvSpPr>
            <p:cNvPr id="96" name=""/>
            <p:cNvSpPr/>
            <p:nvPr/>
          </p:nvSpPr>
          <p:spPr>
            <a:xfrm>
              <a:off x="266760" y="3733920"/>
              <a:ext cx="8610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–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Όταν δεις την εικόνα καθαρά, γύρνα τον δίσκο ώστε να δεις το αντικείμενο με όλους τους αντικειμενικούς φακούς (δηλαδή όχι τις μεγεθύνσεις)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90720" y="4694400"/>
              <a:ext cx="7238880" cy="825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Ποτέ δεν χρησιμοποιούμε τον αντικειμενικό φακό με την άσπρη γραμμή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14:46:29Z</dcterms:created>
  <dc:creator>admin</dc:creator>
  <dc:description/>
  <dc:language>en-US</dc:language>
  <cp:lastModifiedBy>ekfe</cp:lastModifiedBy>
  <dcterms:modified xsi:type="dcterms:W3CDTF">2011-11-16T07:47:45Z</dcterms:modified>
  <cp:revision>42</cp:revision>
  <dc:subject/>
  <dc:title>Microscope Basics</dc:title>
</cp:coreProperties>
</file>