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breeze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6CE-80D0-4AB4-89C6-D89B86EC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7BA-9F3D-42D3-93BA-7F6CF759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28D-2DB5-477F-98A2-1C82DBE5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620-B218-4287-8EC3-0F0A8446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327C-8AB1-4EE4-9B82-B4DB1DE7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B85A-5DDB-43C6-9974-0075759A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FE95-8CE1-4443-8355-1C5749F9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A39F-9EA9-4B55-8A2E-EC22FB00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CD5F-DD81-48C5-999C-49DEFF44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B435-708C-4F44-80B1-65E3C3AD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DEC8-0798-441F-973F-B2C7327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78C-ED67-480D-979A-BC845F3F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8D73-EA57-4920-9435-0CD020AA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72CA-C700-4268-B402-F0E9E4EA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33E4-514A-459C-B755-0ED39573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7934-3E8F-4D25-9283-F13646F6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9E24-EB7C-4B57-82F4-DD31F4D1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6B7-461A-4EA9-9307-16DAA427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62C-8856-420A-9847-C29B6E8B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272-AA03-4E47-9DBE-90177DB2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9EF-AE60-4E42-8751-D78C0E5D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645-4125-4459-9CB9-A3DE371E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C88-B659-4D94-BF43-6A2295E7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719-6F4B-41C1-BB80-A137B2AB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6249-DC87-4A39-9A2B-96E0AE0ABE19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4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5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5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6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</p:grpSp>
      <p:grpSp>
        <p:nvGrpSpPr>
          <p:cNvPr id="7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4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75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7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7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78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custGeom>
                  <a:avLst/>
                  <a:gdLst>
                    <a:gd name="textAreaLeft" fmla="*/ 0 w 806400"/>
                    <a:gd name="textAreaRight" fmla="*/ 806760 w 8064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1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custGeom>
                  <a:avLst/>
                  <a:gdLst>
                    <a:gd name="textAreaLeft" fmla="*/ 0 w 1210680"/>
                    <a:gd name="textAreaRight" fmla="*/ 1210680 w 12106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2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3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4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5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sp>
          <p:nvSpPr>
            <p:cNvPr id="8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D78C-BE24-46FC-B46D-216790749753}" type="slidenum">
              <a:rPr b="0" lang="el-G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1557360"/>
            <a:ext cx="6400800" cy="1265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0000"/>
                </a:solidFill>
                <a:latin typeface="Arial"/>
              </a:rPr>
              <a:t>Στη μαγεία του βιβλίο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160200" y="460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160200" y="460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5" name="il_fi" descr="max-books2"/>
          <p:cNvPicPr/>
          <p:nvPr/>
        </p:nvPicPr>
        <p:blipFill>
          <a:blip r:embed="rId1"/>
          <a:stretch/>
        </p:blipFill>
        <p:spPr>
          <a:xfrm>
            <a:off x="3348000" y="3213000"/>
            <a:ext cx="2577960" cy="2718000"/>
          </a:xfrm>
          <a:prstGeom prst="rect">
            <a:avLst/>
          </a:prstGeom>
          <a:ln w="0">
            <a:noFill/>
          </a:ln>
        </p:spPr>
      </p:pic>
      <p:pic>
        <p:nvPicPr>
          <p:cNvPr id="156" name="Συμφωνία αρ. 9 του Μπετόβεν (σκέρτσο)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- TextBox"/>
          <p:cNvSpPr/>
          <p:nvPr/>
        </p:nvSpPr>
        <p:spPr>
          <a:xfrm>
            <a:off x="755640" y="2205000"/>
            <a:ext cx="81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0000"/>
                </a:solidFill>
                <a:latin typeface="Comic Sans MS"/>
              </a:rPr>
              <a:t>Το όνομά σου είναι: 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Book Antiqua"/>
                <a:ea typeface="Arial"/>
              </a:rPr>
              <a:t>Τίτλος βιβλίο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Arial"/>
              </a:rPr>
              <a:t>………………………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69608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Συγγραφέας: </a:t>
            </a:r>
            <a:r>
              <a:rPr b="1" lang="el-G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………………………………………………………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Εικονογράφος: </a:t>
            </a:r>
            <a:r>
              <a:rPr b="1" lang="el-G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Book Antiqua"/>
                <a:ea typeface="Arial"/>
              </a:rPr>
              <a:t>Εκδόσεις: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…………………………………………………`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l_fi" descr="http://1.bp.blogspot.com/_P79r-lSUG_c/TLXw9opnCJI/AAAAAAAAAes/LqNSYK0-YFA/s1600/3_book-club-book-worm1.jpg"/>
          <p:cNvPicPr/>
          <p:nvPr/>
        </p:nvPicPr>
        <p:blipFill>
          <a:blip r:embed="rId1"/>
          <a:stretch/>
        </p:blipFill>
        <p:spPr>
          <a:xfrm>
            <a:off x="3726000" y="5030640"/>
            <a:ext cx="1854000" cy="185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Book Antiqua"/>
                <a:ea typeface="Arial"/>
              </a:rPr>
              <a:t>Γνωρίζω καλύτερα το βιβλίο μου:</a:t>
            </a: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2349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Book Antiqua"/>
                <a:ea typeface="Arial"/>
              </a:rPr>
              <a:t>           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  <a:ea typeface="Arial"/>
              </a:rPr>
              <a:t>Είδος βιβλίου: ………………………………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192640" y="23637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  <a:ea typeface="Arial"/>
              </a:rPr>
              <a:t>Είδος αφήγησης: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  <a:ea typeface="Arial"/>
              </a:rPr>
              <a:t>……………………………………………………………………………………………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870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Book Antiqua"/>
                <a:ea typeface="Arial"/>
              </a:rPr>
              <a:t>Λίγα λόγια για το βιβλί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2076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…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870600" cy="23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Book Antiqua"/>
                <a:ea typeface="Arial"/>
              </a:rPr>
              <a:t>Ποιον ήρωα του βιβλίου θα ήθελες να συναντήσεις; Τι θα συζητούσες μαζί του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9898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Book Antiqua"/>
                <a:ea typeface="Arial"/>
              </a:rPr>
              <a:t>Τι θα άλλαζες αν ήσουν εσύ ο συγγραφέας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38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Book Antiqua"/>
                <a:ea typeface="Arial"/>
              </a:rPr>
              <a:t>Ζωγράφισε ό,τι θέλεις από το βιβλί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7:48:46Z</dcterms:created>
  <dc:creator>ολυμπια</dc:creator>
  <dc:description/>
  <dc:language>en-US</dc:language>
  <cp:lastModifiedBy>γλυκερια</cp:lastModifiedBy>
  <dcterms:modified xsi:type="dcterms:W3CDTF">2013-01-20T19:28:17Z</dcterms:modified>
  <cp:revision>25</cp:revision>
  <dc:subject/>
  <dc:title>Στη μαγεία του βιβλίου</dc:title>
</cp:coreProperties>
</file>