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259A-DB53-43BB-904D-1D36FFB7C7D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CD00-27DA-4CAA-82F8-A63DD12485A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719-28FD-470E-B2CD-04C9B6CB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F76-EE33-43BA-9722-159BD18B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BD6-8F76-488F-9B18-D2C9F80B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B3B-B4F4-47BA-BBF2-26AF56D6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252-16E3-44D9-BF70-CE697412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022-B337-49F5-8BB9-3BBAC57F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D7B-6712-47EA-98AA-687AFFEA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EAB-59EB-42F1-9E81-74385197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A4B-1B98-4D8C-9F00-76992AEF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8F3-69DF-43F4-979E-A1FB6DB0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709-7101-452B-919C-4C9BC096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ADA-7C63-4943-9B02-EC37D22C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4E05-371D-4A25-AEC0-D02C118D8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- Τίτλος" descr=""/>
          <p:cNvPicPr/>
          <p:nvPr/>
        </p:nvPicPr>
        <p:blipFill>
          <a:blip r:embed="rId1"/>
          <a:stretch/>
        </p:blipFill>
        <p:spPr>
          <a:xfrm>
            <a:off x="-73080" y="-36360"/>
            <a:ext cx="9290160" cy="1560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16360" y="1412640"/>
            <a:ext cx="2376360" cy="544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Μαθητέ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Γουγουλάκη Κατερίν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Κατσέλ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Ανδρονίκ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Κατσιγιάννη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Φώτ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Μέλλιο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Θωμά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Επιβλέποντες Καθηγητέ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Καρκαλάκης Δημήτρι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Τσεκούρ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Black"/>
              </a:rPr>
              <a:t>Χριστίν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FotisMJ\Desktop\dna-double-helix[1].jpg"/>
          <p:cNvPicPr/>
          <p:nvPr/>
        </p:nvPicPr>
        <p:blipFill>
          <a:blip r:embed="rId2"/>
          <a:stretch/>
        </p:blipFill>
        <p:spPr>
          <a:xfrm>
            <a:off x="395280" y="4149720"/>
            <a:ext cx="5689440" cy="215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FotisMJ\Desktop\virus[1].jpg"/>
          <p:cNvPicPr/>
          <p:nvPr/>
        </p:nvPicPr>
        <p:blipFill>
          <a:blip r:embed="rId3"/>
          <a:stretch/>
        </p:blipFill>
        <p:spPr>
          <a:xfrm>
            <a:off x="395280" y="1700280"/>
            <a:ext cx="2952720" cy="244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FotisMJ\Desktop\Microorganisms[1].jpg"/>
          <p:cNvPicPr/>
          <p:nvPr/>
        </p:nvPicPr>
        <p:blipFill>
          <a:blip r:embed="rId4"/>
          <a:stretch/>
        </p:blipFill>
        <p:spPr>
          <a:xfrm>
            <a:off x="3276720" y="1700280"/>
            <a:ext cx="2808000" cy="244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1 - Τίτλος"/>
          <p:cNvGrpSpPr/>
          <p:nvPr/>
        </p:nvGrpSpPr>
        <p:grpSpPr>
          <a:xfrm>
            <a:off x="-73080" y="-36360"/>
            <a:ext cx="9290160" cy="1199880"/>
            <a:chOff x="-73080" y="-36360"/>
            <a:chExt cx="9290160" cy="1199880"/>
          </a:xfrm>
        </p:grpSpPr>
        <p:pic>
          <p:nvPicPr>
            <p:cNvPr id="86" name="1 - Τίτλος" descr=""/>
            <p:cNvPicPr/>
            <p:nvPr/>
          </p:nvPicPr>
          <p:blipFill>
            <a:blip r:embed="rId1"/>
            <a:stretch/>
          </p:blipFill>
          <p:spPr>
            <a:xfrm>
              <a:off x="-73080" y="-36360"/>
              <a:ext cx="92901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914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Constantia"/>
                </a:rPr>
                <a:t>Βιολογικά όπλα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-22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ΕΥΛΟΓ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ΝΕΥΜΟΝΙΚΗ ΠΑΝΩΛ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ΛΛΑΝΤΙΑ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ΤΟΥΛΑΡΑΙΜ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ΥΡΕΤΟΣ ΤΗΣ ΛΑΣΣ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ΕΜΠΟΛ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ΜΑΡΜΠΡΟΥΓ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P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DR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5 - Εικόνα" descr="C:\Users\FotisMJ\Desktop\Project-Γενετικά τροποποιημένοι μικροργανισμοί\chemweapon.thumbnail.gif"/>
          <p:cNvPicPr/>
          <p:nvPr/>
        </p:nvPicPr>
        <p:blipFill>
          <a:blip r:embed="rId2"/>
          <a:stretch/>
        </p:blipFill>
        <p:spPr>
          <a:xfrm>
            <a:off x="4788000" y="1341360"/>
            <a:ext cx="37447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1 - Τίτλος"/>
          <p:cNvGrpSpPr/>
          <p:nvPr/>
        </p:nvGrpSpPr>
        <p:grpSpPr>
          <a:xfrm>
            <a:off x="-73080" y="-36360"/>
            <a:ext cx="9290160" cy="1274760"/>
            <a:chOff x="-73080" y="-36360"/>
            <a:chExt cx="9290160" cy="1274760"/>
          </a:xfrm>
        </p:grpSpPr>
        <p:pic>
          <p:nvPicPr>
            <p:cNvPr id="91" name="1 - Τίτλος" descr=""/>
            <p:cNvPicPr/>
            <p:nvPr/>
          </p:nvPicPr>
          <p:blipFill>
            <a:blip r:embed="rId1"/>
            <a:stretch/>
          </p:blipFill>
          <p:spPr>
            <a:xfrm>
              <a:off x="-73080" y="-36360"/>
              <a:ext cx="929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0"/>
              <a:ext cx="914400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Constantia"/>
                </a:rPr>
                <a:t>Ερωτηματικά Βιοηθική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Κατά πόσο είναι επιτρεπτό ηθικά να επεμβαίνουμε στο γενετικό υλικό των οργανισμώ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πορεί ένα γενετικά τροποποιημένο βακτήριο ως πατέντα να ανήκει σε άνθρωπ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1 - Τίτλος"/>
          <p:cNvGrpSpPr/>
          <p:nvPr/>
        </p:nvGrpSpPr>
        <p:grpSpPr>
          <a:xfrm>
            <a:off x="-237960" y="-60480"/>
            <a:ext cx="9742320" cy="1365480"/>
            <a:chOff x="-237960" y="-60480"/>
            <a:chExt cx="9742320" cy="1365480"/>
          </a:xfrm>
        </p:grpSpPr>
        <p:pic>
          <p:nvPicPr>
            <p:cNvPr id="54" name="1 - Τίτλος" descr=""/>
            <p:cNvPicPr/>
            <p:nvPr/>
          </p:nvPicPr>
          <p:blipFill>
            <a:blip r:embed="rId1"/>
            <a:stretch/>
          </p:blipFill>
          <p:spPr>
            <a:xfrm>
              <a:off x="-237960" y="-60480"/>
              <a:ext cx="974232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600" spc="-1" strike="noStrike">
                  <a:solidFill>
                    <a:srgbClr val="ffffff"/>
                  </a:solidFill>
                  <a:latin typeface="Constantia"/>
                </a:rPr>
                <a:t>Το </a:t>
              </a: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DNA</a:t>
              </a:r>
              <a:r>
                <a:rPr b="0" lang="el-GR" sz="3600" spc="-1" strike="noStrike">
                  <a:solidFill>
                    <a:srgbClr val="ffffff"/>
                  </a:solidFill>
                  <a:latin typeface="Constantia"/>
                </a:rPr>
                <a:t> είναι υπεύθυνο για τα χαρακτηριστικά και τις λειτουργίες των οργανισμώ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2" descr="C:\Users\FotisMJ\Desktop\Project-Γενετικά τροποποιημένοι μικροργανισμοί\Γενικό Αρχείο\239px-DNA_Overview.png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1 - Τίτλος"/>
          <p:cNvGrpSpPr/>
          <p:nvPr/>
        </p:nvGrpSpPr>
        <p:grpSpPr>
          <a:xfrm>
            <a:off x="-73080" y="-36360"/>
            <a:ext cx="9290160" cy="1414440"/>
            <a:chOff x="-73080" y="-36360"/>
            <a:chExt cx="9290160" cy="1414440"/>
          </a:xfrm>
        </p:grpSpPr>
        <p:pic>
          <p:nvPicPr>
            <p:cNvPr id="58" name="1 - Τίτλος" descr=""/>
            <p:cNvPicPr/>
            <p:nvPr/>
          </p:nvPicPr>
          <p:blipFill>
            <a:blip r:embed="rId1"/>
            <a:stretch/>
          </p:blipFill>
          <p:spPr>
            <a:xfrm>
              <a:off x="-73080" y="-36360"/>
              <a:ext cx="92901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914400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600" spc="-1" strike="noStrike">
                  <a:solidFill>
                    <a:srgbClr val="ffffff"/>
                  </a:solidFill>
                  <a:latin typeface="Constantia"/>
                </a:rPr>
                <a:t>Το ανασυνδυασμένο DNA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 txBox="1"/>
          <p:nvPr/>
        </p:nvSpPr>
        <p:spPr>
          <a:xfrm>
            <a:off x="42876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να τεχνητό μόριο DNA, που περιέχει γονίδια από δύο ή και περισσότερους οργανισμούς. Το DNA αυτό μπορεί να μπει σε ένα βακτήριο ή σε ένα ευκαρυωτικό κύτταρ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γενετικά τροποποιημένα βακτήρια ή ευκαρυωτικά κύτταρα είναι ικανά να ζουν και να αναπαράγονται μεταφέροντας στους απογόνους τους τις καινούριες ιδιότητε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 άνθρωπος τα τελευταία χρόνια τροποποιεί γενετικά ιούς και βακτήρια τα οποία έχουν διάφορες εφαρμογές σε τομείς όπως η υγεία και η προστασία του περιβάλλοντο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1 - Τίτλος"/>
          <p:cNvGrpSpPr/>
          <p:nvPr/>
        </p:nvGrpSpPr>
        <p:grpSpPr>
          <a:xfrm>
            <a:off x="-73080" y="-36360"/>
            <a:ext cx="9290160" cy="907920"/>
            <a:chOff x="-73080" y="-36360"/>
            <a:chExt cx="9290160" cy="907920"/>
          </a:xfrm>
        </p:grpSpPr>
        <p:pic>
          <p:nvPicPr>
            <p:cNvPr id="62" name="1 - Τίτλος" descr=""/>
            <p:cNvPicPr/>
            <p:nvPr/>
          </p:nvPicPr>
          <p:blipFill>
            <a:blip r:embed="rId1"/>
            <a:stretch/>
          </p:blipFill>
          <p:spPr>
            <a:xfrm>
              <a:off x="-73080" y="-36360"/>
              <a:ext cx="92901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600" spc="-1" strike="noStrike">
                  <a:solidFill>
                    <a:srgbClr val="ffffff"/>
                  </a:solidFill>
                  <a:latin typeface="Constantia"/>
                </a:rPr>
                <a:t>Κατασκευή γονιδιωματικής βιβλιοθήκη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3 - Θέση περιεχομένου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7344000" cy="583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1 - Τίτλος"/>
          <p:cNvGrpSpPr/>
          <p:nvPr/>
        </p:nvGrpSpPr>
        <p:grpSpPr>
          <a:xfrm>
            <a:off x="-73080" y="-60480"/>
            <a:ext cx="9290160" cy="1365480"/>
            <a:chOff x="-73080" y="-60480"/>
            <a:chExt cx="9290160" cy="1365480"/>
          </a:xfrm>
        </p:grpSpPr>
        <p:pic>
          <p:nvPicPr>
            <p:cNvPr id="66" name="1 - Τίτλος" descr=""/>
            <p:cNvPicPr/>
            <p:nvPr/>
          </p:nvPicPr>
          <p:blipFill>
            <a:blip r:embed="rId1"/>
            <a:stretch/>
          </p:blipFill>
          <p:spPr>
            <a:xfrm>
              <a:off x="-73080" y="-60480"/>
              <a:ext cx="929016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0" y="0"/>
              <a:ext cx="91440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Παραγωγή φαρμακευτικών πρωτεϊνών από γενετικά τροποποιημένα βακτήρι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3 - Θέση περιεχομένου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1 - Τίτλος"/>
          <p:cNvGrpSpPr/>
          <p:nvPr/>
        </p:nvGrpSpPr>
        <p:grpSpPr>
          <a:xfrm>
            <a:off x="-73080" y="-60480"/>
            <a:ext cx="9290160" cy="1365480"/>
            <a:chOff x="-73080" y="-60480"/>
            <a:chExt cx="9290160" cy="1365480"/>
          </a:xfrm>
        </p:grpSpPr>
        <p:pic>
          <p:nvPicPr>
            <p:cNvPr id="70" name="1 - Τίτλος" descr=""/>
            <p:cNvPicPr/>
            <p:nvPr/>
          </p:nvPicPr>
          <p:blipFill>
            <a:blip r:embed="rId1"/>
            <a:stretch/>
          </p:blipFill>
          <p:spPr>
            <a:xfrm>
              <a:off x="-73080" y="-60480"/>
              <a:ext cx="929016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0"/>
              <a:ext cx="91440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Παραγωγή εμβολίων από γενετικά τροποποιημένους ιού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3 - Θέση περιεχομένου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1 - Τίτλος"/>
          <p:cNvGrpSpPr/>
          <p:nvPr/>
        </p:nvGrpSpPr>
        <p:grpSpPr>
          <a:xfrm>
            <a:off x="-73080" y="-60480"/>
            <a:ext cx="9290160" cy="1365480"/>
            <a:chOff x="-73080" y="-60480"/>
            <a:chExt cx="9290160" cy="1365480"/>
          </a:xfrm>
        </p:grpSpPr>
        <p:pic>
          <p:nvPicPr>
            <p:cNvPr id="74" name="1 - Τίτλος" descr=""/>
            <p:cNvPicPr/>
            <p:nvPr/>
          </p:nvPicPr>
          <p:blipFill>
            <a:blip r:embed="rId1"/>
            <a:stretch/>
          </p:blipFill>
          <p:spPr>
            <a:xfrm>
              <a:off x="-73080" y="-60480"/>
              <a:ext cx="929016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0" y="0"/>
              <a:ext cx="91440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Γενετικά τροποποιημένοι ιοί ως φορείς στη γονιδιακή θεραπεία ασθενειώ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3 - Θέση περιεχομένου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55308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1 - Τίτλος"/>
          <p:cNvGrpSpPr/>
          <p:nvPr/>
        </p:nvGrpSpPr>
        <p:grpSpPr>
          <a:xfrm>
            <a:off x="-73080" y="-109440"/>
            <a:ext cx="9309240" cy="1919160"/>
            <a:chOff x="-73080" y="-109440"/>
            <a:chExt cx="9309240" cy="1919160"/>
          </a:xfrm>
        </p:grpSpPr>
        <p:pic>
          <p:nvPicPr>
            <p:cNvPr id="78" name="1 - Τίτλος" descr=""/>
            <p:cNvPicPr/>
            <p:nvPr/>
          </p:nvPicPr>
          <p:blipFill>
            <a:blip r:embed="rId1"/>
            <a:stretch/>
          </p:blipFill>
          <p:spPr>
            <a:xfrm>
              <a:off x="-73080" y="-109440"/>
              <a:ext cx="930924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0"/>
              <a:ext cx="914400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Γενετικά τροποποιημένα βακτήρια για την διάσπαση του πετρελαίου και στο βιολογικό καθαρισμό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3 - Θέση περιεχομένου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6696000" cy="489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1 - Τίτλος"/>
          <p:cNvGrpSpPr/>
          <p:nvPr/>
        </p:nvGrpSpPr>
        <p:grpSpPr>
          <a:xfrm>
            <a:off x="-73080" y="-36360"/>
            <a:ext cx="9290160" cy="1274760"/>
            <a:chOff x="-73080" y="-36360"/>
            <a:chExt cx="9290160" cy="1274760"/>
          </a:xfrm>
        </p:grpSpPr>
        <p:pic>
          <p:nvPicPr>
            <p:cNvPr id="82" name="1 - Τίτλος" descr=""/>
            <p:cNvPicPr/>
            <p:nvPr/>
          </p:nvPicPr>
          <p:blipFill>
            <a:blip r:embed="rId1"/>
            <a:stretch/>
          </p:blipFill>
          <p:spPr>
            <a:xfrm>
              <a:off x="-73080" y="-36360"/>
              <a:ext cx="929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Constantia"/>
                </a:rPr>
                <a:t>Κίνδυνοι Γ.Τ.Μ.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457200" y="141300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15280" indent="-21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Για την υγε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Παρότι δεν έχουν καταγραφεί πολλά αρνητικά παραδείγματα, η αλήθεια είναι πως, πάντα υποβόσκει η πιθανότητα ενός λάθος χειρισμού με τραγικές δυστυχώς συνέπειες. Μεταλλαγμένα βακτήρια μπορούν να παρουσιάσουν αυξημένες ιδιότητες ανθεκτικότητας απέναντι σε αντιβιοτικά, στοιχείο που θα τα καθιστούσε πρακτικά άτρωτα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Για το περιβάλλο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Απελευθέρωση γενετικά τροποποιημένων βακτηρίων ή ιών που προκαλούν ασθένειες σε οργανισμούς και μπορούν να οδηγήσουν ακόμη και σε θάνατ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9:33:17Z</dcterms:created>
  <dc:creator>user_grafeio3</dc:creator>
  <dc:description/>
  <dc:language>en-US</dc:language>
  <cp:lastModifiedBy>user_grafeio3</cp:lastModifiedBy>
  <dcterms:modified xsi:type="dcterms:W3CDTF">2012-02-22T09:33:35Z</dcterms:modified>
  <cp:revision>1</cp:revision>
  <dc:subject/>
  <dc:title>Διαφάνεια 1</dc:title>
</cp:coreProperties>
</file>