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E3F-8CBE-438F-A624-6ADC4054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4E3-F22A-4A10-9FCA-EF44ED05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767-60CE-4B28-AE37-5F4CFDF4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1DF-3017-44E7-8258-2CE87AFB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8B3-A03D-4234-993A-336BBD26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64F-51C8-4C7B-B1B5-F666EAB6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42D-C79C-4617-A1AC-FB3CBEFF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699-804A-4CBF-B8FA-CFFA8D20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833-1ACE-4A64-9071-D76FB5EC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2B5-14BB-49C3-9D05-8C8E42E4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1C0-91A4-4E42-BAFA-2AA7DF1E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83E-5215-40EE-BA80-EAD97376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CA53-A435-4477-9CC8-2EB97C33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xKJyeCRVek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ΚΒΑΝΤΙΚΗ ΤΗΛΕΜΕΤΑΦΟ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πρώτη φορά οι επιστήμονες έχουν τηλεμεταφέρει πληροφορίες μεταξύ φωτός και  ατόμων, επιταχύνοντας την πολυαναμενόμενη εμφάνιση των κβαντικών υπολογιστών και των συστημάτων κρυπτογράφησης τα οποία δεν επιδέχονται υποκλοπ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 Η κβαντική τηλεμεταφορά είναι η διαδικασία κατά την οποία η φυσική κατάσταση  ενός υποατομικού σωματιδίου εξαφανίζεται από το ένα μέρος και εμφανίζεται σε ένα άλλο, σαν τον τηλεμεταφορέα του Κάπτεν Κερ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527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114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φαινόμενο που καθιστά δυνατή την κβαντική    τηλεμεταφορά  είναι ένα περίεργο φαινόμενο γνωστό ως διαπλοκή-συσχέτιση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anglement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, στην οποία ένα ζεύγος σωματιδίων έχει συμπληρωματικά χαρακτηριστικά, όπως η περιστροφή δύο ηλεκτρονίων σε αντίθετες κατευθύνσει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αρχή της αβεβαιότητας της κβαντικής μηχανικής καθιστά αδύνατο να προβλέψουμε την ακριβή κατάσταση ενός δεδομένου ηλεκτρονίου, αλλά επειδή τα δύο σωματίδια είναι σε συσχέτιση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angled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, την εκτίμηση της κατάστασης του ενός αυτόματα καθορίζει η κατάσταση του άλλου, ανεξάρτητα από το πόσο μακριά είνα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1054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619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Για να τηλεμεταφερθεί  μια κατάσταση μεταξύ του φωτός και των ατόμων, ο Eugene Polzik και οι συνεργάτες του στο Ινστιτούτο Niels Bohr στην Κοπεγχάγη, σε συνεργασία με Ignacio Cirac του Ινστιτούτου Max Planck στη Γερμανία, δημιούργησαν μια διαπλεκόμενη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tangled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) δέσμη φωτός με τη βοήθεια ενός μαγνητισμένου αέριου ατόμων καισίου. Οι ερευνητές στη συνέχεια κωδικοποίησαν την κατάσταση Α που θέλησαν να τηλεμεταφέρουν, σε ακτίνα φωτός με παλμούς λέιζερ. Με την αποκωδικοποίηση των διαπλεκόμενων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tangled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) κβαντικών πληροφοριών από την ακτίνα φωτός και την αποκάλυψη του μηνύματος λέιζερ, η ομάδα ήταν σε θέση να τηλεμεταφέρει τη κατάσταση Α στα άτομα τα οποία βρίσκονταν σε απόσταση μισού μιλίου. Για πρώτη φορά, η κβαντική τηλεμεταφορά έχει επιτευχθεί ανάμεσα στο φως-μεταφορέα των πληροφοριών και των ατόμων. Ήταν επίσης η πρώτη φορά που επιτεύχθηκε με ένα μακροσκοπικό ατομικό αντικείμενο. Οι επιστήμονες έχουν επίσης τηλεμεταφέρει καταστάσεις μεταξύ ζευγών φωτονίων ή ζευγών ατόμων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48360" y="620640"/>
            <a:ext cx="3527280" cy="327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4578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ια πρακτική εφαρμογή της κβαντικής τηλεμεταφοράς είναι ο κβαντικός υπολογιστής, όπου απαιτείται η μεταφορά των πληροφοριών με λέιζερ μεταξύ μιας αρχικής κβαντικής κατάστασης, και μιας αποθηκευμένης κβαντικής κατάστασης, όπως τα άτομα σε ένα σκληρό δίσκ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181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"/>
          </p:cNvPr>
          <p:cNvSpPr/>
          <p:nvPr/>
        </p:nvSpPr>
        <p:spPr>
          <a:xfrm>
            <a:off x="3419640" y="314172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301"/>
                </a:moveTo>
                <a:lnTo>
                  <a:pt x="7113" y="7301"/>
                </a:lnTo>
                <a:lnTo>
                  <a:pt x="7496" y="7667"/>
                </a:lnTo>
                <a:lnTo>
                  <a:pt x="16705" y="7667"/>
                </a:lnTo>
                <a:lnTo>
                  <a:pt x="17262" y="8224"/>
                </a:lnTo>
                <a:lnTo>
                  <a:pt x="17262" y="8772"/>
                </a:lnTo>
                <a:lnTo>
                  <a:pt x="19107" y="8772"/>
                </a:lnTo>
                <a:lnTo>
                  <a:pt x="19473" y="8224"/>
                </a:lnTo>
                <a:lnTo>
                  <a:pt x="20212" y="8224"/>
                </a:lnTo>
                <a:lnTo>
                  <a:pt x="20212" y="13376"/>
                </a:lnTo>
                <a:lnTo>
                  <a:pt x="19473" y="13376"/>
                </a:lnTo>
                <a:lnTo>
                  <a:pt x="19107" y="12828"/>
                </a:lnTo>
                <a:lnTo>
                  <a:pt x="17262" y="12828"/>
                </a:lnTo>
                <a:lnTo>
                  <a:pt x="17262" y="14107"/>
                </a:lnTo>
                <a:lnTo>
                  <a:pt x="7679" y="14107"/>
                </a:lnTo>
                <a:lnTo>
                  <a:pt x="7679" y="9877"/>
                </a:lnTo>
                <a:lnTo>
                  <a:pt x="7496" y="9877"/>
                </a:lnTo>
                <a:lnTo>
                  <a:pt x="7113" y="10243"/>
                </a:lnTo>
                <a:lnTo>
                  <a:pt x="620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8:27:27Z</dcterms:created>
  <dc:creator>teachers</dc:creator>
  <dc:description/>
  <dc:language>en-US</dc:language>
  <cp:lastModifiedBy>Teachers</cp:lastModifiedBy>
  <dcterms:modified xsi:type="dcterms:W3CDTF">2012-05-09T08:34:57Z</dcterms:modified>
  <cp:revision>4</cp:revision>
  <dc:subject/>
  <dc:title>ΚΒΑΝΤΙΚΗ ΤΗΛΕΜΕΤΑΦΟΡΑ</dc:title>
</cp:coreProperties>
</file>