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C318D-AA08-4168-BA88-4EF76BB19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FA083-4A1A-4B5D-AE56-31546EE2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0427C-06E5-4E1B-ADAA-36C3A17B0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27312-9B8E-485A-BDFC-33AB51783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D914-FC80-4B92-A968-580029CF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737E-D03A-410E-B369-69B0589A5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E111-50D9-4FE4-B9B5-B1F0FDBB9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FDAB-D4B3-45FC-8115-76BA2B82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4871-9AA9-486A-99D1-11F61CB2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D62F-23C5-43AE-968A-B8CDB494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3167-3484-451A-97B4-39053724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22C6-54B1-438B-A19F-68004CFB5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1613-525E-4EEF-8487-4AAE4AA81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87280" y="836280"/>
            <a:ext cx="6585120" cy="5545080"/>
          </a:xfrm>
          <a:prstGeom prst="rect">
            <a:avLst/>
          </a:prstGeom>
          <a:noFill/>
          <a:ln w="0">
            <a:noFill/>
          </a:ln>
        </p:spPr>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Η ανακύκλωση, από τα αρχαία χρόνια μέχρι και σήμερα κατείχε σπουδαία θέση στην οικοδομική δραστηριότητα του ανθρώπου. Επιπλέον η επαναχρησιμοποίηση των υλικών στην τέχνη οδήγησε σε θαυμαστά αποτελέσματα, στην πορεία των αιώνων. Όπως αποδεικνύεται κανένα υλικό δεν είναι «άχρηστο» αλλά αντίθετα μπορεί να χρησιμεύσει στην σύνθεση κάτι νέου και συχνά ιδιαιτέρα εντυπωσιακού!</a:t>
            </a:r>
            <a:endParaRPr b="0" lang="en-US" sz="1800" spc="-1" strike="noStrike">
              <a:solidFill>
                <a:srgbClr val="000000"/>
              </a:solidFill>
              <a:latin typeface="Arial"/>
            </a:endParaRPr>
          </a:p>
        </p:txBody>
      </p:sp>
      <p:pic>
        <p:nvPicPr>
          <p:cNvPr id="42" name="" descr=""/>
          <p:cNvPicPr/>
          <p:nvPr/>
        </p:nvPicPr>
        <p:blipFill>
          <a:blip r:embed="rId1"/>
          <a:stretch/>
        </p:blipFill>
        <p:spPr>
          <a:xfrm>
            <a:off x="2843280" y="3141720"/>
            <a:ext cx="3422520" cy="24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η δεκαετία του ‘70</a:t>
            </a:r>
            <a:r>
              <a:rPr b="0" lang="el-GR" sz="1800" spc="-1" strike="noStrike">
                <a:solidFill>
                  <a:srgbClr val="000000"/>
                </a:solidFill>
                <a:latin typeface="Arial"/>
              </a:rPr>
              <a:t> η εντατικοποίηση της βιομηχανικής παραγωγής ωθούσε την κοινή γνώμη κατά των καταναλωτικών προτύπων του αναπτυσσόμενου παγκόσμιου καπιταλισμού. Το κίνημα των hippies ήταν σε έξαρση και πολλές μεθοδευμένες προσπάθειες γίνονταν από αρχιτέκτονες και βιομηχανίες προς την ανακάλυψη τρόπων αξιοποίησης των καταναλωτικών προϊόντων του σύγχρονου κόσμου που πλεόναζαν.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εφημερίδες της εποχής παρότρυναν </a:t>
            </a:r>
            <a:r>
              <a:rPr b="1" lang="el-GR" sz="1800" spc="-1" strike="noStrike">
                <a:solidFill>
                  <a:srgbClr val="000000"/>
                </a:solidFill>
                <a:latin typeface="Arial"/>
              </a:rPr>
              <a:t>«προς ένα παγκόσμιο σύστημα κατοίκησης βασιζόμενο στην καταναλωτική</a:t>
            </a:r>
            <a:r>
              <a:rPr b="0" lang="el-GR" sz="1800" spc="-1" strike="noStrike">
                <a:solidFill>
                  <a:srgbClr val="000000"/>
                </a:solidFill>
                <a:latin typeface="Arial"/>
              </a:rPr>
              <a:t> </a:t>
            </a:r>
            <a:r>
              <a:rPr b="1" lang="el-GR" sz="1800" spc="-1" strike="noStrike">
                <a:solidFill>
                  <a:srgbClr val="000000"/>
                </a:solidFill>
                <a:latin typeface="Arial"/>
              </a:rPr>
              <a:t>βιομηχανία.»</a:t>
            </a:r>
            <a:r>
              <a:rPr b="0" lang="el-GR" sz="1800" spc="-1" strike="noStrike">
                <a:solidFill>
                  <a:srgbClr val="000000"/>
                </a:solidFill>
                <a:latin typeface="Arial"/>
              </a:rPr>
              <a:t> (Martin Pawley, 1976)</a:t>
            </a:r>
            <a:r>
              <a:rPr b="0" lang="en-US" sz="1800" spc="-1" strike="noStrike">
                <a:solidFill>
                  <a:srgbClr val="000000"/>
                </a:solidFill>
                <a:latin typeface="Arial"/>
              </a:rPr>
              <a:t> </a:t>
            </a:r>
            <a:r>
              <a:rPr b="0" lang="el-GR" sz="1800" spc="-1" strike="noStrike">
                <a:solidFill>
                  <a:srgbClr val="000000"/>
                </a:solidFill>
                <a:latin typeface="Arial"/>
              </a:rPr>
              <a:t>και παρέθεταν οικονομικές και στατιστικές αναλύσεις που εξηγούσαν για το πώς αυτό θα μπορούσε να επιτευχθεί. (Fuhrmann Ernst 1979, Fut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ότι σε πειραματικό επίπεδο έγιναν πολλές προσπάθειες με σκοπό να καταδείξουν μία νέα κατεύθυνση προς την ενοποίηση, ουσιαστικά, της καταναλωτικής και της οικοδομικής βιομηχανίας, λίγες είχαν τη δυναμική της άμεσης υλοποίηση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πιο σημαντική από αυτές ήταν σίγουρα το </a:t>
            </a:r>
            <a:r>
              <a:rPr b="1" lang="el-GR" sz="1800" spc="-1" strike="noStrike">
                <a:solidFill>
                  <a:srgbClr val="000000"/>
                </a:solidFill>
                <a:latin typeface="Arial"/>
              </a:rPr>
              <a:t>πρόγραμμα</a:t>
            </a:r>
            <a:r>
              <a:rPr b="0" lang="el-GR" sz="1800" spc="-1" strike="noStrike">
                <a:solidFill>
                  <a:srgbClr val="000000"/>
                </a:solidFill>
                <a:latin typeface="Arial"/>
              </a:rPr>
              <a:t> </a:t>
            </a:r>
            <a:r>
              <a:rPr b="1" lang="el-GR" sz="1800" spc="-1" strike="noStrike">
                <a:solidFill>
                  <a:srgbClr val="000000"/>
                </a:solidFill>
                <a:latin typeface="Arial"/>
              </a:rPr>
              <a:t>Fourgonet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πουδαιότητα του προγράμματος έγκειται στο ότι το είδος της μεταποίησης που είχε προταθεί παλιότερα με καταναλωτικά αγαθά όπως τα κονσερβοκούτια ή τα γυάλινα μπουκάλια μπύρας (πχ. WOBO-Project) μπορούσε να πραγματοποιηθεί χρησιμοποιώντας μεγαλύτερα ή πιο εξελιγμένα καταναλωτικά προϊόντα. Επιπλέον αποτέλεσε μία προσπάθεια συμφιλίωσης της βιομηχανικής παραγωγής με το κοινωνικό αίτημα για στέγαση.</a:t>
            </a:r>
            <a:endParaRPr b="0" lang="en-US" sz="1800" spc="-1" strike="noStrike">
              <a:solidFill>
                <a:srgbClr val="000000"/>
              </a:solidFill>
              <a:latin typeface="Arial"/>
            </a:endParaRPr>
          </a:p>
        </p:txBody>
      </p:sp>
      <p:pic>
        <p:nvPicPr>
          <p:cNvPr id="57" name="" descr=""/>
          <p:cNvPicPr/>
          <p:nvPr/>
        </p:nvPicPr>
        <p:blipFill>
          <a:blip r:embed="rId1"/>
          <a:stretch/>
        </p:blipFill>
        <p:spPr>
          <a:xfrm rot="5400000">
            <a:off x="3118680" y="2505600"/>
            <a:ext cx="2906640" cy="51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979640" y="1125360"/>
            <a:ext cx="4824360" cy="554364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ΑΠΟΙΚΟΔΟΜΗΣΗ ΥΛΙΚ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16000" y="1413000"/>
            <a:ext cx="6912000" cy="48956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ΕΤΗ ΑΠΟΙΚΟΔΟΜΗΣΗΣ ΥΛΙΚΩΝ</a:t>
            </a:r>
            <a:br>
              <a:rPr sz="3200"/>
            </a:br>
            <a:r>
              <a:rPr b="0" lang="en-US" sz="3200" spc="-1" strike="noStrike">
                <a:solidFill>
                  <a:srgbClr val="d60093"/>
                </a:solidFill>
                <a:latin typeface="Arial"/>
              </a:rPr>
              <a:t>ΜΕΓΙΣΤΟ</a:t>
            </a:r>
            <a:r>
              <a:rPr b="0" lang="en-US" sz="3200" spc="-1" strike="noStrike">
                <a:solidFill>
                  <a:srgbClr val="ff0066"/>
                </a:solidFill>
                <a:latin typeface="Arial"/>
              </a:rPr>
              <a:t> - </a:t>
            </a:r>
            <a:r>
              <a:rPr b="0" lang="en-US" sz="3200" spc="-1" strike="noStrike">
                <a:solidFill>
                  <a:srgbClr val="00ff00"/>
                </a:solidFill>
                <a:latin typeface="Arial"/>
              </a:rPr>
              <a:t>ΕΛΑΧΙΣΤ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741320" y="1465200"/>
            <a:ext cx="5659560" cy="1879560"/>
          </a:xfrm>
          <a:prstGeom prst="rect">
            <a:avLst/>
          </a:prstGeom>
          <a:ln w="0">
            <a:noFill/>
          </a:ln>
        </p:spPr>
      </p:pic>
      <p:pic>
        <p:nvPicPr>
          <p:cNvPr id="63" name="" descr=""/>
          <p:cNvPicPr/>
          <p:nvPr/>
        </p:nvPicPr>
        <p:blipFill>
          <a:blip r:embed="rId2"/>
          <a:stretch/>
        </p:blipFill>
        <p:spPr>
          <a:xfrm>
            <a:off x="1427040" y="4243320"/>
            <a:ext cx="6288120" cy="2036880"/>
          </a:xfrm>
          <a:prstGeom prst="rect">
            <a:avLst/>
          </a:prstGeom>
          <a:ln w="0">
            <a:noFill/>
          </a:ln>
        </p:spPr>
      </p:pic>
      <p:pic>
        <p:nvPicPr>
          <p:cNvPr id="64" name="" descr=""/>
          <p:cNvPicPr/>
          <p:nvPr/>
        </p:nvPicPr>
        <p:blipFill>
          <a:blip r:embed="rId3"/>
          <a:stretch/>
        </p:blipFill>
        <p:spPr>
          <a:xfrm>
            <a:off x="3419640" y="3573360"/>
            <a:ext cx="2304720" cy="50328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ΜΕΘΟΔΟΙ ΔΙΑΧΕΙΡΗΣΗΣ ΑΠΟΡΡΙΜΜΑΤΩ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16000" y="260280"/>
            <a:ext cx="6840720" cy="586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68360" y="1557360"/>
            <a:ext cx="8136000" cy="431964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ΠΟΣΟΣΤΑ ΑΝΑΚΥΚΛΩΣΙΜΩΝ ΥΛΙΚ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ΨΑΧΝΟΝΤΑΣ ΤΑ ΣΚΟΥΠΙΔΙΑ ΜΑΣ</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Υλικά                        ΑΓΓΛΙΑ                 ΓΑΛΛΙΑ                 Η.Π.Α.                 ΕΛΛΑΔΑ</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Χαρτί                              </a:t>
            </a:r>
            <a:r>
              <a:rPr b="0" lang="el-GR" sz="1800" spc="-1" strike="noStrike">
                <a:solidFill>
                  <a:srgbClr val="000000"/>
                </a:solidFill>
                <a:latin typeface="Arial"/>
              </a:rPr>
              <a:t>33%                       30%                     35%                        29 %</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ργανικά-τρόφιμα        </a:t>
            </a:r>
            <a:r>
              <a:rPr b="0" lang="el-GR" sz="1800" spc="-1" strike="noStrike">
                <a:solidFill>
                  <a:srgbClr val="000000"/>
                </a:solidFill>
                <a:latin typeface="Arial"/>
              </a:rPr>
              <a:t>20%                       25%                     30%                        30%</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υαλί                               </a:t>
            </a:r>
            <a:r>
              <a:rPr b="0" lang="el-GR" sz="1800" spc="-1" strike="noStrike">
                <a:solidFill>
                  <a:srgbClr val="000000"/>
                </a:solidFill>
                <a:latin typeface="Arial"/>
              </a:rPr>
              <a:t>10%                      12%                     12%                          4%</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Μέταλλα                            </a:t>
            </a:r>
            <a:r>
              <a:rPr b="0" lang="el-GR" sz="1800" spc="-1" strike="noStrike">
                <a:solidFill>
                  <a:srgbClr val="000000"/>
                </a:solidFill>
                <a:latin typeface="Arial"/>
              </a:rPr>
              <a:t>8%                       6%                      10%                          5%</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λαστικά                           </a:t>
            </a:r>
            <a:r>
              <a:rPr b="0" lang="el-GR" sz="1800" spc="-1" strike="noStrike">
                <a:solidFill>
                  <a:srgbClr val="000000"/>
                </a:solidFill>
                <a:latin typeface="Arial"/>
              </a:rPr>
              <a:t>7%                     10%                       8%                         18%</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Υφάσματα                         </a:t>
            </a:r>
            <a:r>
              <a:rPr b="0" lang="el-GR" sz="1800" spc="-1" strike="noStrike">
                <a:solidFill>
                  <a:srgbClr val="000000"/>
                </a:solidFill>
                <a:latin typeface="Arial"/>
              </a:rPr>
              <a:t>4%                       2%                       2%                           3%</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τάχτη και σκόνη           </a:t>
            </a:r>
            <a:r>
              <a:rPr b="0" lang="el-GR" sz="1800" spc="-1" strike="noStrike">
                <a:solidFill>
                  <a:srgbClr val="000000"/>
                </a:solidFill>
                <a:latin typeface="Arial"/>
              </a:rPr>
              <a:t>10%                        -                           -                               -</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Άλλα                                  </a:t>
            </a:r>
            <a:r>
              <a:rPr b="0" lang="el-GR" sz="1800" spc="-1" strike="noStrike">
                <a:solidFill>
                  <a:srgbClr val="000000"/>
                </a:solidFill>
                <a:latin typeface="Arial"/>
              </a:rPr>
              <a:t>8%                      15%                       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68360" y="1484280"/>
            <a:ext cx="8207280" cy="44658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66"/>
                </a:solidFill>
                <a:latin typeface="Arial"/>
              </a:rPr>
              <a:t>ΜΕΣΗ ΗΜΕΡΗΣΙΑ ΠΟΣΟΤΗΤΑ ΣΚΟΥΠΙΔΙΩΝ ΑΝΑ ΚΑΤΟΙΚΟ ΣΕ </a:t>
            </a:r>
            <a:r>
              <a:rPr b="0" lang="en-US" sz="3200" spc="-1" strike="noStrike">
                <a:solidFill>
                  <a:srgbClr val="ff0066"/>
                </a:solidFill>
                <a:latin typeface="Arial"/>
              </a:rPr>
              <a:t>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ΑΝΑΚΥΚΛΩΣΗ ΣΤΗΝ ΕΛΛΑΔΑ</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0.000 τόνοι οικιακών απορριμμάτων παράγονται ετησίως στην Ελλάδα. </a:t>
            </a: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τη χώρα μας λειτουργούν 5000 χωματερές, το 70% των οποίων είναι παράνομες και για τις οποίες θα κληθούμε να πληρώνουμε πρόστιμο 30.000 ευρώ για κάθε ημέρα λειτουργίας της κάθε μιας από αυτέ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66"/>
                </a:solidFill>
                <a:latin typeface="Arial"/>
              </a:rPr>
              <a:t>ΙΣΤΟΡΙΚΗ ΑΝΑΔΡΟΜΗ</a:t>
            </a:r>
            <a:endParaRPr b="0" lang="en-US" sz="4400" spc="-1" strike="noStrike">
              <a:solidFill>
                <a:srgbClr val="000000"/>
              </a:solidFill>
              <a:latin typeface="Arial"/>
            </a:endParaRPr>
          </a:p>
        </p:txBody>
      </p:sp>
      <p:sp>
        <p:nvSpPr>
          <p:cNvPr id="4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διαδικασία της ανακύκλωσης των υλικών υπήρχε από την </a:t>
            </a:r>
            <a:r>
              <a:rPr b="1" lang="el-GR" sz="1800" spc="-1" strike="noStrike">
                <a:solidFill>
                  <a:srgbClr val="000000"/>
                </a:solidFill>
                <a:latin typeface="Arial"/>
              </a:rPr>
              <a:t>αρχαιότητα</a:t>
            </a:r>
            <a:r>
              <a:rPr b="0" lang="el-GR" sz="1800" spc="-1" strike="noStrike">
                <a:solidFill>
                  <a:srgbClr val="000000"/>
                </a:solidFill>
                <a:latin typeface="Arial"/>
              </a:rPr>
              <a:t> και έπαιζε σημαντικό ρόλο στην οικοδομική δραστηριότητα του ανθρώπου. Οι νεότεροι</a:t>
            </a:r>
            <a:r>
              <a:rPr b="0" lang="en-US" sz="1800" spc="-1" strike="noStrike">
                <a:solidFill>
                  <a:srgbClr val="000000"/>
                </a:solidFill>
                <a:latin typeface="Arial"/>
              </a:rPr>
              <a:t> </a:t>
            </a:r>
            <a:r>
              <a:rPr b="0" lang="el-GR" sz="1800" spc="-1" strike="noStrike">
                <a:solidFill>
                  <a:srgbClr val="000000"/>
                </a:solidFill>
                <a:latin typeface="Arial"/>
              </a:rPr>
              <a:t>οικισμοί χτίζονταν στη θέση προγενέστερων, οι οποίοι είχαν εγκαταλειφθεί ή καταστραφεί, αξιοποιώντας και ενσωματώνοντας τα ερείπια των παλαιότερων. Έτσι</a:t>
            </a:r>
            <a:r>
              <a:rPr b="0" lang="en-US" sz="1800" spc="-1" strike="noStrike">
                <a:solidFill>
                  <a:srgbClr val="000000"/>
                </a:solidFill>
                <a:latin typeface="Arial"/>
              </a:rPr>
              <a:t> </a:t>
            </a:r>
            <a:r>
              <a:rPr b="0" lang="el-GR" sz="1800" spc="-1" strike="noStrike">
                <a:solidFill>
                  <a:srgbClr val="000000"/>
                </a:solidFill>
                <a:latin typeface="Arial"/>
              </a:rPr>
              <a:t>εξοικονομούσαν πρώτες ύλες και χρόνο. Όσο αφορά στη λεκάνη της Μεσογείου μπορεί να λεχθεί, ότι μετά την κατάρρευση του αρχαίου κόσμου η δόμηση βασίζεται</a:t>
            </a:r>
            <a:r>
              <a:rPr b="0" lang="en-US" sz="1800" spc="-1" strike="noStrike">
                <a:solidFill>
                  <a:srgbClr val="000000"/>
                </a:solidFill>
                <a:latin typeface="Arial"/>
              </a:rPr>
              <a:t> </a:t>
            </a:r>
            <a:r>
              <a:rPr b="0" lang="el-GR" sz="1800" spc="-1" strike="noStrike">
                <a:solidFill>
                  <a:srgbClr val="000000"/>
                </a:solidFill>
                <a:latin typeface="Arial"/>
              </a:rPr>
              <a:t>στην επανάχρηση οικοδομικών μελών. </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Στην αψίδα του Κωνσταντίνου στη Ρώμη χρησιμοποιούνται spolia από </a:t>
            </a:r>
            <a:r>
              <a:rPr b="0" lang="en-US" sz="1800" spc="-1" strike="noStrike">
                <a:solidFill>
                  <a:srgbClr val="000000"/>
                </a:solidFill>
                <a:latin typeface="Arial"/>
              </a:rPr>
              <a:t> 4 </a:t>
            </a:r>
            <a:r>
              <a:rPr b="0" lang="el-GR" sz="1800" spc="-1" strike="noStrike">
                <a:solidFill>
                  <a:srgbClr val="000000"/>
                </a:solidFill>
                <a:latin typeface="Arial"/>
              </a:rPr>
              <a:t>διαφορετικές χρονικές περιόδους, όπως φαίνεται στην εικόνα με τον διαφορετικό χρωματισμό.</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ά τους </a:t>
            </a:r>
            <a:r>
              <a:rPr b="1" lang="el-GR" sz="1800" spc="-1" strike="noStrike">
                <a:solidFill>
                  <a:srgbClr val="000000"/>
                </a:solidFill>
                <a:latin typeface="Arial"/>
              </a:rPr>
              <a:t>βυζαντινούς χρόνους</a:t>
            </a:r>
            <a:r>
              <a:rPr b="0" lang="el-GR" sz="1800" spc="-1" strike="noStrike">
                <a:solidFill>
                  <a:srgbClr val="000000"/>
                </a:solidFill>
                <a:latin typeface="Arial"/>
              </a:rPr>
              <a:t> η πρακτική της επαναχρησιμοποίησης δομικού υλικού συνεχίζεται, αλλά εξυπηρετεί κ αι αισθητικούς σκοπούς, με αποτέλεσμα την παραγωγή γραφικών συνθέσεων. Στην Παναγία Γοργοεπήκοο στην Αθήνα (εκκλησία του τέλους του 12.ου αιώνα) οι εξωτερικές επιφάνειες είναι κατασκευασμένες εξ ολοκλήρου από μαρμάρινα spolia, αρχαία,</a:t>
            </a:r>
            <a:r>
              <a:rPr b="0" lang="en-US" sz="1800" spc="-1" strike="noStrike">
                <a:solidFill>
                  <a:srgbClr val="000000"/>
                </a:solidFill>
                <a:latin typeface="Arial"/>
              </a:rPr>
              <a:t> </a:t>
            </a:r>
            <a:r>
              <a:rPr b="0" lang="el-GR" sz="1800" spc="-1" strike="noStrike">
                <a:solidFill>
                  <a:srgbClr val="000000"/>
                </a:solidFill>
                <a:latin typeface="Arial"/>
              </a:rPr>
              <a:t>ελληνικά ρωμαϊκά, παλαιοχριστιανικά και βυζαντινά με ένα εξαιρετικά γραφικό αποτέλεσμα ενώ στην Παναγία του Όσιου Λουκά (1011-1012) έχει χρησιμοποιηθεί αρχαίο οικοδομικό υλικό: ογκώδεις λιθόπλινθοι χαμηλά, μικρότεροι λίθοι ψηλότερα,</a:t>
            </a:r>
            <a:r>
              <a:rPr b="0" lang="en-US" sz="1800" spc="-1" strike="noStrike">
                <a:solidFill>
                  <a:srgbClr val="000000"/>
                </a:solidFill>
                <a:latin typeface="Arial"/>
              </a:rPr>
              <a:t> </a:t>
            </a:r>
            <a:r>
              <a:rPr b="0" lang="el-GR" sz="1800" spc="-1" strike="noStrike">
                <a:solidFill>
                  <a:srgbClr val="000000"/>
                </a:solidFill>
                <a:latin typeface="Arial"/>
              </a:rPr>
              <a:t>πλινθοπερίκλειστο και απλά τούβλα στα πάνω μέρη των όψεων (Χ.Μπούρας2001,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476360" y="1628640"/>
            <a:ext cx="5975280" cy="407844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ΑΝΑΚΥΚΛΩΣΗ ΣΤΗΝ ΕΛΛΑΔ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58920" y="1989000"/>
            <a:ext cx="7058160" cy="3816360"/>
          </a:xfrm>
          <a:prstGeom prst="rect">
            <a:avLst/>
          </a:prstGeom>
          <a:ln w="0">
            <a:noFill/>
          </a:ln>
        </p:spPr>
      </p:pic>
      <p:pic>
        <p:nvPicPr>
          <p:cNvPr id="78" name="" descr=""/>
          <p:cNvPicPr/>
          <p:nvPr/>
        </p:nvPicPr>
        <p:blipFill>
          <a:blip r:embed="rId2"/>
          <a:stretch/>
        </p:blipFill>
        <p:spPr>
          <a:xfrm>
            <a:off x="2627280" y="700200"/>
            <a:ext cx="367344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042920" y="1773360"/>
            <a:ext cx="7345440" cy="410364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ΕΞΟΙΚΟΝΟΜΗΣΗ ΕΝΕΡΓΕΙ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3300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0066"/>
                </a:solidFill>
                <a:uFillTx/>
                <a:latin typeface="Arial"/>
              </a:rPr>
              <a:t>ΕΠΙΛΟΓΟΣ</a:t>
            </a:r>
            <a:br>
              <a:rPr sz="3200"/>
            </a:br>
            <a:endParaRPr b="0" lang="en-US" sz="3200" spc="-1" strike="noStrike">
              <a:solidFill>
                <a:srgbClr val="000000"/>
              </a:solidFill>
              <a:latin typeface="Arial"/>
            </a:endParaRPr>
          </a:p>
        </p:txBody>
      </p:sp>
      <p:sp>
        <p:nvSpPr>
          <p:cNvPr id="8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l-GR" sz="1600" spc="-1" strike="noStrike">
                <a:solidFill>
                  <a:srgbClr val="000000"/>
                </a:solidFill>
                <a:latin typeface="Arial"/>
              </a:rPr>
              <a:t>Δυστυχώς όμως σήμερα, ακόμη και σε κοινωνίες που τα αγαθά παράγονται σε ποσότητες που καθιστούν την αποκομιδή τους προβληματική, ένα μεγάλο μέρος του πληθυσμού καταφεύγει σε αυτά ακριβώς τα απορρίμματα για να καλύψει τις ανάγκες του. Συγκεκριμένα, για τον τομέα της στέγασης, η ιδέα της κατασκευής κατοικιών ή μεγαλύτερων κτιρίων με βασικά δομικά υλικά τα απορρίμματα δεν είναι πρωτότυπη ιδέα. Στην προσπάθεια επιβίωσης, άνθρωποι σε χώρες του τρίτου κόσμου, πρόσφυγες ή τσιγγάνοι αναγκάζονται να κατασκευάσουν μόνοι τους πρόχειρα αυτοσχέδια καταλύματα (αρκετές φορές παράνομα ή αυθαίρετα) από προϊόντα που ο υπόλοιπος κόσμος θεωρεί άχρηστα, όπως από υπολείμματα και ρετάλια ξύλων, μεταλλικών αυλακωτών φύλλων (όπως αλουμινίου) και φύλλων πλαστικού.</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n-US" sz="2800" spc="-1" strike="noStrike">
                <a:solidFill>
                  <a:srgbClr val="000000"/>
                </a:solidFill>
                <a:latin typeface="Arial"/>
              </a:rPr>
              <a:t> </a:t>
            </a:r>
            <a:r>
              <a:rPr b="0" lang="el-GR" sz="2800" spc="-1" strike="noStrike">
                <a:solidFill>
                  <a:srgbClr val="000000"/>
                </a:solidFill>
                <a:latin typeface="Arial"/>
              </a:rPr>
              <a:t>  </a:t>
            </a:r>
            <a:r>
              <a:rPr b="1" lang="el-GR" sz="1600" spc="-1" strike="noStrike">
                <a:solidFill>
                  <a:srgbClr val="000000"/>
                </a:solidFill>
                <a:latin typeface="Arial"/>
              </a:rPr>
              <a:t>Συμπερασματικά, το «παλιό» αντί να καταστραφεί μπορεί να αναδημιουργηθεί και να μεταμορφωθεί σε κάτι καινούριο και σπουδαίο. Η έμπνευση των ανθρώπων σε όλες τις χρονικές περιόδους που αναφέραμε, έθεσε την ανακύκλωση των υλικών σε υψηλή θέση. Τα απορρίμματα σαν υλικό, χρησιμοποιήθηκαν για τη δημιουργία τόσων πολλών πραγμάτων. Η λειτουργικότητα των σκουπιδιών, ήταν ιδιαίτερα μεγάλη.</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lum contrast="6000"/>
          </a:blip>
          <a:stretch/>
        </p:blipFill>
        <p:spPr>
          <a:xfrm rot="5400000">
            <a:off x="2050920" y="43920"/>
            <a:ext cx="5042160" cy="676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υτό βέβαια ήταν δυνατό να γίνει χάρη στην ισχνή σύσταση ή την απουσία ακόμα συνθετικού κονιάματος</a:t>
            </a:r>
            <a:r>
              <a:rPr b="0" lang="en-US" sz="1800" spc="-1" strike="noStrike">
                <a:solidFill>
                  <a:srgbClr val="000000"/>
                </a:solidFill>
                <a:latin typeface="Arial"/>
              </a:rPr>
              <a:t> </a:t>
            </a:r>
            <a:r>
              <a:rPr b="0" lang="el-GR" sz="1800" spc="-1" strike="noStrike">
                <a:solidFill>
                  <a:srgbClr val="000000"/>
                </a:solidFill>
                <a:latin typeface="Arial"/>
              </a:rPr>
              <a:t>των λιθοδομών, που επέτρεπε την εύκολη αφαίρεση και επαναχρησιμοποιήση των λίθων.(</a:t>
            </a:r>
            <a:r>
              <a:rPr b="0" lang="en-US" sz="1800" spc="-1" strike="noStrike">
                <a:solidFill>
                  <a:srgbClr val="000000"/>
                </a:solidFill>
                <a:latin typeface="Arial"/>
              </a:rPr>
              <a:t> </a:t>
            </a:r>
            <a:r>
              <a:rPr b="0" lang="el-GR" sz="1800" spc="-1" strike="noStrike">
                <a:solidFill>
                  <a:srgbClr val="000000"/>
                </a:solidFill>
                <a:latin typeface="Arial"/>
              </a:rPr>
              <a:t>Ευαγγελινός</a:t>
            </a:r>
            <a:r>
              <a:rPr b="0" lang="en-US" sz="1800" spc="-1" strike="noStrike">
                <a:solidFill>
                  <a:srgbClr val="000000"/>
                </a:solidFill>
                <a:latin typeface="Arial"/>
              </a:rPr>
              <a:t>)</a:t>
            </a:r>
            <a:r>
              <a:rPr b="0" lang="el-G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ην </a:t>
            </a:r>
            <a:r>
              <a:rPr b="1" lang="el-GR" sz="1800" spc="-1" strike="noStrike">
                <a:solidFill>
                  <a:srgbClr val="000000"/>
                </a:solidFill>
                <a:latin typeface="Arial"/>
              </a:rPr>
              <a:t>Αναγέννηση </a:t>
            </a:r>
            <a:r>
              <a:rPr b="0" lang="el-GR" sz="1800" spc="-1" strike="noStrike">
                <a:solidFill>
                  <a:srgbClr val="000000"/>
                </a:solidFill>
                <a:latin typeface="Arial"/>
              </a:rPr>
              <a:t>(14ος-16ος αιώνας) επίσης το παλιό διατηρείται και πάνω του προστίθεται το νέο. Το παράδειγμα της Santa Maria degli Angelie dei Martiri είναι χαρακτηριστικό. Σε αυτή τη βασιλική εκκλησία της Ρώμης η πρόσοψη είναι εναπομένον τμήμα των λουτρών του Διοκλητιανού, το οποίο ο Michelangelo Buonarroti στα μέσα του 16ου αιώνα ενσωμάτωσε στη σύνθεση της εκκλησία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βιομηχανική επανάσταση</a:t>
            </a:r>
            <a:r>
              <a:rPr b="0" lang="el-GR" sz="1800" spc="-1" strike="noStrike">
                <a:solidFill>
                  <a:srgbClr val="000000"/>
                </a:solidFill>
                <a:latin typeface="Arial"/>
              </a:rPr>
              <a:t> που θα ακολουθήσει, θα αποτελέσει τομή για</a:t>
            </a:r>
            <a:r>
              <a:rPr b="0" lang="en-US" sz="1800" spc="-1" strike="noStrike">
                <a:solidFill>
                  <a:srgbClr val="000000"/>
                </a:solidFill>
                <a:latin typeface="Arial"/>
              </a:rPr>
              <a:t> </a:t>
            </a:r>
            <a:r>
              <a:rPr b="0" lang="el-GR" sz="1800" spc="-1" strike="noStrike">
                <a:solidFill>
                  <a:srgbClr val="000000"/>
                </a:solidFill>
                <a:latin typeface="Arial"/>
              </a:rPr>
              <a:t>τον κατασκευαστικό τομέα. Νέα υλικά θα δοκιμαστούν στις κατασκευές</a:t>
            </a:r>
            <a:r>
              <a:rPr b="0" lang="en-US" sz="1800" spc="-1" strike="noStrike">
                <a:solidFill>
                  <a:srgbClr val="000000"/>
                </a:solidFill>
                <a:latin typeface="Arial"/>
              </a:rPr>
              <a:t> </a:t>
            </a:r>
            <a:r>
              <a:rPr b="0" lang="el-GR" sz="1800" spc="-1" strike="noStrike">
                <a:solidFill>
                  <a:srgbClr val="000000"/>
                </a:solidFill>
                <a:latin typeface="Arial"/>
              </a:rPr>
              <a:t>(χάλυβας,</a:t>
            </a:r>
            <a:r>
              <a:rPr b="0" lang="en-US" sz="1800" spc="-1" strike="noStrike">
                <a:solidFill>
                  <a:srgbClr val="000000"/>
                </a:solidFill>
                <a:latin typeface="Arial"/>
              </a:rPr>
              <a:t> </a:t>
            </a:r>
            <a:r>
              <a:rPr b="0" lang="el-GR" sz="1800" spc="-1" strike="noStrike">
                <a:solidFill>
                  <a:srgbClr val="000000"/>
                </a:solidFill>
                <a:latin typeface="Arial"/>
              </a:rPr>
              <a:t>γυαλί) και θα δημιουργηθούν νέες κατασκευαστικές δυνατότητες στον τομέα της</a:t>
            </a:r>
            <a:r>
              <a:rPr b="0" lang="en-US" sz="1800" spc="-1" strike="noStrike">
                <a:solidFill>
                  <a:srgbClr val="000000"/>
                </a:solidFill>
                <a:latin typeface="Arial"/>
              </a:rPr>
              <a:t> </a:t>
            </a:r>
            <a:r>
              <a:rPr b="0" lang="el-GR" sz="1800" spc="-1" strike="noStrike">
                <a:solidFill>
                  <a:srgbClr val="000000"/>
                </a:solidFill>
                <a:latin typeface="Arial"/>
              </a:rPr>
              <a:t>δομικής μηχανικής. Παράλληλα η αλματώδης βιομηχανική ανάπτυξη θα οδηγήσει</a:t>
            </a:r>
            <a:r>
              <a:rPr b="0" lang="en-US" sz="1800" spc="-1" strike="noStrike">
                <a:solidFill>
                  <a:srgbClr val="000000"/>
                </a:solidFill>
                <a:latin typeface="Arial"/>
              </a:rPr>
              <a:t> </a:t>
            </a:r>
            <a:r>
              <a:rPr b="0" lang="el-GR" sz="1800" spc="-1" strike="noStrike">
                <a:solidFill>
                  <a:srgbClr val="000000"/>
                </a:solidFill>
                <a:latin typeface="Arial"/>
              </a:rPr>
              <a:t>στην αύξηση της παραγωγής. Οι κοινωνίες θα απομακρυνθούν από την πρακτική της</a:t>
            </a:r>
            <a:r>
              <a:rPr b="0" lang="en-US" sz="1800" spc="-1" strike="noStrike">
                <a:solidFill>
                  <a:srgbClr val="000000"/>
                </a:solidFill>
                <a:latin typeface="Arial"/>
              </a:rPr>
              <a:t> </a:t>
            </a:r>
            <a:r>
              <a:rPr b="0" lang="el-GR" sz="1800" spc="-1" strike="noStrike">
                <a:solidFill>
                  <a:srgbClr val="000000"/>
                </a:solidFill>
                <a:latin typeface="Arial"/>
              </a:rPr>
              <a:t>οικιακής οικονομίας και θα ακολουθήσουν ένα καταναλωτικό μοντέλ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1851 θα κατασκευαστεί στο Hyde Park στο Λονδίνο το Crystal Palace, με σχέδια του Joseph Paxton, ένα κτήριο φτιαγμένο από σίδηρο κ αι γυαλί προορισμένο</a:t>
            </a:r>
            <a:r>
              <a:rPr b="0" lang="en-US" sz="1800" spc="-1" strike="noStrike">
                <a:solidFill>
                  <a:srgbClr val="000000"/>
                </a:solidFill>
                <a:latin typeface="Arial"/>
              </a:rPr>
              <a:t> </a:t>
            </a:r>
            <a:r>
              <a:rPr b="0" lang="el-GR" sz="1800" spc="-1" strike="noStrike">
                <a:solidFill>
                  <a:srgbClr val="000000"/>
                </a:solidFill>
                <a:latin typeface="Arial"/>
              </a:rPr>
              <a:t>για να στεγάσει τη μεγάλη έκθεση του 1851 και να αποσυναρμολογηθεί μετά τη λήξη της. Το μεγάλο αυτό εκθεσιακό κτήριο (564 μ μήκος, με ένα εσωτερικό ύψος 124μ) ξανασυναρμολογήθηκε στο Sydenham Hill, και παρέμεινε εκεί με κάποιες τροποποιήσεις από 1854 έως το 1936, όταν καταστράφηκε από πυρκαγιά. Θα ακολουθήσουν οι παγκόσμιοι πόλεμοι, που θα αφήσουν μία τεράστια κληρονομιά απορριμμάτων, τα οποία οφείλονται κυρίως στις κατεδαφίσεις κ αι τις καταστροφές και εντοπίζονται γύρω από τις μεγάλες πόλεις. Οι κοινωνίες όμως έχοντας να αντιμετωπίσουν πληθώρα ζωτικών προβλημάτων, αδιαφορούν γενικά για την τύχη των απορριμμάτων τους, τα οποία χωρίς ιδιαίτερη μέριμνα απλώς συσσωρεύονται ή καίγονται.</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rot="5400000">
            <a:off x="3787200" y="1789560"/>
            <a:ext cx="3395520" cy="3216240"/>
          </a:xfrm>
          <a:prstGeom prst="rect">
            <a:avLst/>
          </a:prstGeom>
          <a:ln w="0">
            <a:noFill/>
          </a:ln>
        </p:spPr>
      </p:pic>
      <p:pic>
        <p:nvPicPr>
          <p:cNvPr id="49" name="" descr=""/>
          <p:cNvPicPr/>
          <p:nvPr/>
        </p:nvPicPr>
        <p:blipFill>
          <a:blip r:embed="rId2"/>
          <a:stretch/>
        </p:blipFill>
        <p:spPr>
          <a:xfrm rot="5400000">
            <a:off x="698400" y="1901520"/>
            <a:ext cx="3354480" cy="29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α νεότερα χρόνια η επαναχρησιμοποίηση υλικών στην κατασκευή ξαναέρχεται στο προσκήνιο όχι πλέον για λόγους τόσο οικονομικούς όσο περιβαλλοντολογικούς. Η εκβιομηχάνιση της παραγωγής οικοδομικών υλικών έχει καταστήσει τα οικοδομικά υλικά πιο προσιτά σε τιμές και η οικοδομική δραστηριότητα όπως και οι υπόλοιπες παραγωγικές διαδικασίες εντατικοποιείται.</a:t>
            </a:r>
            <a:r>
              <a:rPr b="0" lang="en-US" sz="1800" spc="-1" strike="noStrike">
                <a:solidFill>
                  <a:srgbClr val="000000"/>
                </a:solidFill>
                <a:latin typeface="Arial"/>
              </a:rPr>
              <a:t> </a:t>
            </a:r>
            <a:r>
              <a:rPr b="0" lang="el-GR" sz="1800" spc="-1" strike="noStrike">
                <a:solidFill>
                  <a:srgbClr val="000000"/>
                </a:solidFill>
                <a:latin typeface="Arial"/>
              </a:rPr>
              <a:t>Όμως η συνεχής επιβάρυνση του περιβάλλοντος και η κατασπατάληση των πρώτων υλών δημιουργούν την ανάγκη για μία πιο συνετή διαχείριση των πόρων</a:t>
            </a:r>
            <a:r>
              <a:rPr b="0" lang="en-US" sz="1800" spc="-1" strike="noStrike">
                <a:solidFill>
                  <a:srgbClr val="000000"/>
                </a:solidFill>
                <a:latin typeface="Arial"/>
              </a:rPr>
              <a:t> </a:t>
            </a:r>
            <a:r>
              <a:rPr b="0" lang="el-GR" sz="1800" spc="-1" strike="noStrike">
                <a:solidFill>
                  <a:srgbClr val="000000"/>
                </a:solidFill>
                <a:latin typeface="Arial"/>
              </a:rPr>
              <a:t>και την επαναχρησιμοποίηση προϊόντων όπου αυτό είναι δυνατό.</a:t>
            </a:r>
            <a:r>
              <a:rPr b="0" lang="en-US" sz="1800" spc="-1" strike="noStrike">
                <a:solidFill>
                  <a:srgbClr val="000000"/>
                </a:solidFill>
                <a:latin typeface="Arial"/>
              </a:rPr>
              <a:t> </a:t>
            </a:r>
            <a:r>
              <a:rPr b="0" lang="el-GR" sz="1800" spc="-1" strike="noStrike">
                <a:solidFill>
                  <a:srgbClr val="000000"/>
                </a:solidFill>
                <a:latin typeface="Arial"/>
              </a:rPr>
              <a:t>Στο πεδίο της τέχνης κ αι της λογοτεχνίας του εικοστού αιώνα είναι εύκολο να αναπαράγουμε ένα γενεαλογικό δέντρο καλλιτεχνών και διανοητών που ενδιαφέρθηκαν για τα φθαρμένα και τα απορριφθέντα στοιχεία.</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Ντανταϊστές πρώτοι υπενθυμίζουν τα ευρήματα της δουλείας του Duchamp για χρήση αντικειμένων με απρόσμενο τρόπο.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1967 δημιουργείται το κίνημα της Arte Povera («φτωχή τέχνη») στην Ιταλία, στα πλαίσια του οποίου θα δημιουργήσουν οι ο Giovanni Anselmo, Alighiero</a:t>
            </a:r>
            <a:r>
              <a:rPr b="0" lang="en-GB" sz="1800" spc="-1" strike="noStrike">
                <a:solidFill>
                  <a:srgbClr val="000000"/>
                </a:solidFill>
                <a:latin typeface="Arial"/>
              </a:rPr>
              <a:t> Boetti</a:t>
            </a:r>
            <a:r>
              <a:rPr b="0" lang="el-GR" sz="1800" spc="-1" strike="noStrike">
                <a:solidFill>
                  <a:srgbClr val="000000"/>
                </a:solidFill>
                <a:latin typeface="Arial"/>
              </a:rPr>
              <a:t>, </a:t>
            </a:r>
            <a:r>
              <a:rPr b="0" lang="en-GB" sz="1800" spc="-1" strike="noStrike">
                <a:solidFill>
                  <a:srgbClr val="000000"/>
                </a:solidFill>
                <a:latin typeface="Arial"/>
              </a:rPr>
              <a:t>Paolo Calzolari</a:t>
            </a:r>
            <a:r>
              <a:rPr b="0" lang="el-GR" sz="1800" spc="-1" strike="noStrike">
                <a:solidFill>
                  <a:srgbClr val="000000"/>
                </a:solidFill>
                <a:latin typeface="Arial"/>
              </a:rPr>
              <a:t>, </a:t>
            </a:r>
            <a:r>
              <a:rPr b="0" lang="en-GB" sz="1800" spc="-1" strike="noStrike">
                <a:solidFill>
                  <a:srgbClr val="000000"/>
                </a:solidFill>
                <a:latin typeface="Arial"/>
              </a:rPr>
              <a:t>Luciano Fabro</a:t>
            </a:r>
            <a:r>
              <a:rPr b="0" lang="el-GR" sz="1800" spc="-1" strike="noStrike">
                <a:solidFill>
                  <a:srgbClr val="000000"/>
                </a:solidFill>
                <a:latin typeface="Arial"/>
              </a:rPr>
              <a:t>, </a:t>
            </a:r>
            <a:r>
              <a:rPr b="0" lang="en-GB" sz="1800" spc="-1" strike="noStrike">
                <a:solidFill>
                  <a:srgbClr val="000000"/>
                </a:solidFill>
                <a:latin typeface="Arial"/>
              </a:rPr>
              <a:t>Piero Gilardi</a:t>
            </a:r>
            <a:r>
              <a:rPr b="0" lang="el-GR" sz="1800" spc="-1" strike="noStrike">
                <a:solidFill>
                  <a:srgbClr val="000000"/>
                </a:solidFill>
                <a:latin typeface="Arial"/>
              </a:rPr>
              <a:t>, </a:t>
            </a:r>
            <a:r>
              <a:rPr b="0" lang="en-GB" sz="1800" spc="-1" strike="noStrike">
                <a:solidFill>
                  <a:srgbClr val="000000"/>
                </a:solidFill>
                <a:latin typeface="Arial"/>
              </a:rPr>
              <a:t>Jannis Kounellis</a:t>
            </a:r>
            <a:r>
              <a:rPr b="0" lang="el-GR" sz="1800" spc="-1" strike="noStrike">
                <a:solidFill>
                  <a:srgbClr val="000000"/>
                </a:solidFill>
                <a:latin typeface="Arial"/>
              </a:rPr>
              <a:t>, </a:t>
            </a:r>
            <a:r>
              <a:rPr b="0" lang="en-GB" sz="1800" spc="-1" strike="noStrike">
                <a:solidFill>
                  <a:srgbClr val="000000"/>
                </a:solidFill>
                <a:latin typeface="Arial"/>
              </a:rPr>
              <a:t>Giuseppe</a:t>
            </a:r>
            <a:r>
              <a:rPr b="0" lang="el-GR" sz="1800" spc="-1" strike="noStrike">
                <a:solidFill>
                  <a:srgbClr val="000000"/>
                </a:solidFill>
                <a:latin typeface="Arial"/>
              </a:rPr>
              <a:t> Penone, έργα αποκλειστικά από απορρίμματα, φτωχά υλικά (www.tate.org.uk/coll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μπερασματικά μετά το δεύτερο παγκόσμιο πόλεμο τα σκουπίδια μπαίνουν στους</a:t>
            </a:r>
            <a:r>
              <a:rPr b="0" lang="en-US" sz="1800" spc="-1" strike="noStrike">
                <a:solidFill>
                  <a:srgbClr val="000000"/>
                </a:solidFill>
                <a:latin typeface="Arial"/>
              </a:rPr>
              <a:t> </a:t>
            </a:r>
            <a:r>
              <a:rPr b="0" lang="el-GR" sz="1800" spc="-1" strike="noStrike">
                <a:solidFill>
                  <a:srgbClr val="000000"/>
                </a:solidFill>
                <a:latin typeface="Arial"/>
              </a:rPr>
              <a:t>εκθεσιακούς χώρους κ αι στα μουσεία. Οι καλλιτέχνες σχολιάζουν έτσι την σύγχρονη πραγματικότητα και διαμαρτύρονται για την αποξένωση του ανθρώπου από τη φύσ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άλληλα γίνονται και οι πρώτες </a:t>
            </a:r>
            <a:r>
              <a:rPr b="1" lang="el-GR" sz="1800" spc="-1" strike="noStrike">
                <a:solidFill>
                  <a:srgbClr val="000000"/>
                </a:solidFill>
                <a:latin typeface="Arial"/>
              </a:rPr>
              <a:t>απόπειρες ενσωμάτωση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χρησιμοποιημένων υλικών στην αρχιτεκτονική</a:t>
            </a:r>
            <a:r>
              <a:rPr b="0" lang="el-GR" sz="1800" spc="-1" strike="noStrike">
                <a:solidFill>
                  <a:srgbClr val="000000"/>
                </a:solidFill>
                <a:latin typeface="Arial"/>
              </a:rPr>
              <a:t>, λόγω οικολογικής ευαισθητοποίηση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η δεκαετία του ‘60</a:t>
            </a:r>
            <a:r>
              <a:rPr b="0" lang="el-GR" sz="1800" spc="-1" strike="noStrike">
                <a:solidFill>
                  <a:srgbClr val="000000"/>
                </a:solidFill>
                <a:latin typeface="Arial"/>
              </a:rPr>
              <a:t> ο Alfred Heineken συνέλαβε την ιδέα της χρήσης των γυάλινων μπουκαλιών3 μπύρας της εταιρίας του, ως τούβλα, μετά από ένα ταξίδι του στις Ολλανδικές Αντίλλες, όπου η λατινοαμερικάνικη ακτή Bidonvilles ήταν γεμάτη άδεια μπουκάλια που μόλυναν το περιβάλλον.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John Habraken ανέλαβε το 1962 μαζί με το Heineken Technisch Beheer το σχεδιασμό αυτού του μπουκαλιού και το 1965 κατασκευάστηκε μία πρωτότυπη κατοικία με αυτά τα μπουκάλια. Ο αέρας που περιείχαν τα μπουκάλια, παρείχε στο σπίτι την απαραίτητη μόνωσ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99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1965</a:t>
            </a:r>
            <a:r>
              <a:rPr b="0" lang="el-GR" sz="1800" spc="-1" strike="noStrike">
                <a:solidFill>
                  <a:srgbClr val="000000"/>
                </a:solidFill>
                <a:latin typeface="Arial"/>
              </a:rPr>
              <a:t> στην Αμερική, στο νότιο Κολοράντο, ιδρύεται η πόλη Drop City, μία κοινότητα καλλιτεχνών την οποία οργάνωσαν ο παραγωγός ταινιών Gene Bernofsky κ αι οι καλλιτέχνες JoAnn Bernofsky, Richard Kallweit και Clark Richert. Η πρόθεση ήταν να δημιουργηθεί μία εγκατάσταση , η οποία θα λειτουργούσε σα πραγματική πόλη, συνεχίζοντας τη λογική της τέχνης drop art4 που είχε αναπτυχθεί νωρίτερα στα πανεπιστήμια του Κάνσας και του Κολοράντο. </a:t>
            </a:r>
            <a:endParaRPr b="0" lang="en-US" sz="1800" spc="-1" strike="noStrike">
              <a:solidFill>
                <a:srgbClr val="000000"/>
              </a:solidFill>
              <a:latin typeface="Arial"/>
            </a:endParaRPr>
          </a:p>
        </p:txBody>
      </p:sp>
      <p:pic>
        <p:nvPicPr>
          <p:cNvPr id="53" name="" descr=""/>
          <p:cNvPicPr/>
          <p:nvPr/>
        </p:nvPicPr>
        <p:blipFill>
          <a:blip r:embed="rId1"/>
          <a:stretch/>
        </p:blipFill>
        <p:spPr>
          <a:xfrm rot="5400000">
            <a:off x="1980000" y="3859920"/>
            <a:ext cx="1942920" cy="2808360"/>
          </a:xfrm>
          <a:prstGeom prst="rect">
            <a:avLst/>
          </a:prstGeom>
          <a:ln w="0">
            <a:noFill/>
          </a:ln>
        </p:spPr>
      </p:pic>
      <p:pic>
        <p:nvPicPr>
          <p:cNvPr id="54" name="" descr=""/>
          <p:cNvPicPr/>
          <p:nvPr/>
        </p:nvPicPr>
        <p:blipFill>
          <a:blip r:embed="rId2"/>
          <a:stretch/>
        </p:blipFill>
        <p:spPr>
          <a:xfrm>
            <a:off x="4680000" y="4329000"/>
            <a:ext cx="2700360" cy="19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9:28:51Z</dcterms:created>
  <dc:creator>teachers</dc:creator>
  <dc:description/>
  <dc:language>en-US</dc:language>
  <cp:lastModifiedBy>teachers</cp:lastModifiedBy>
  <dcterms:modified xsi:type="dcterms:W3CDTF">2012-04-04T07:23:32Z</dcterms:modified>
  <cp:revision>9</cp:revision>
  <dc:subject/>
  <dc:title>Διαφάνεια 1</dc:title>
</cp:coreProperties>
</file>