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B66FD-5B3E-4498-982F-7E9402A71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AE173-F1C4-4C29-9E78-10180879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BDC24-6F7E-455F-B3BA-0C3144B70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2BAB5-145B-4DF9-B862-6DD1EC511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1235-5AD6-4852-93BD-CE2F030BC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0B35-465B-4CCC-9E74-DFB5E25C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6DAF7-24F5-4F6E-811C-3B0D75305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939ED-9765-4711-B317-CDA7FB7D9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C4389-D101-48EF-AEE7-369987A8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3883-0119-4439-A320-A321B3B22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1D8C-B147-48CE-BBA6-21984786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356D-225E-4666-99E1-117C3008D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5349-50FD-40E9-AC65-F0D77CCCD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6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Arial"/>
              </a:rPr>
              <a:t>Η ΔΙΑΤΡΟΦΙΚΕΣ ΣΥΝΗΘΕΙΕΣ ΤΩΝ ΜΑΘΗΤΩΝ</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539640" y="2420640"/>
            <a:ext cx="7777440" cy="360036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0000"/>
                </a:solidFill>
                <a:uFillTx/>
                <a:latin typeface="Arial"/>
              </a:rPr>
              <a:t>Πρόλογο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l-GR" sz="1800" spc="-1" strike="noStrike">
                <a:solidFill>
                  <a:srgbClr val="000000"/>
                </a:solidFill>
                <a:latin typeface="Arial"/>
              </a:rPr>
              <a:t>Η σχέση διατροφής και υγείας είναι γνωστή από την αρχαιότητα. Ο πατέρας της Ιατρικής Ιππoκράτης (460 π.χ.) συνέδεσε τη σωστή διατροφή, με την καλή υγεία. Είναι ενδιαφέρουσα η σημασία, που αποδίδει ο Ιπποκράτης στη συνύπαρξη σωστής διατροφής και άσκησης. Είναι, επίσης, ενδιαφέρουσα η αναγνώριση της σχέσης μεταξύ φυσικής και διανοητικής υγείας, όπως αυτή διατυπώθηκε, από τους αρχαίους προγόνους μας, στο γνωστό ρητό: "Νους υγιής εν σώματι υγιή". Δυόμισι χιλιάδες χρόνια μετά, η κακή διατροφή αποτελεί ένα παγκόσμιο πρόβλημα, με δύο όψεις. Η μία αφορά τον τρίτο κόσμο, όπου συνεχίζουν να επικρατούν η πείνα και η εξαθλίωση. Κάθε μέρα, 40.000 συνάνθρωποί μας, κυρίως παιδιά, πεθαίνουν από πείνα. Από την άλλη μεριά, οι ζώντες στην αφθονία των αναπτυγμένων χωρών, πεθαίνουν από το πολύ ή το ακατάλληλο φαγητό ή και από τα δύο (τι τραγική ειρωνεί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Στον παρακάτω πίνακα παρουσιάζονται οι ημερήσιες ανάγκες των εφήβων σε ενέργεια και πρωτεΐνη:</a:t>
            </a:r>
            <a:endParaRPr b="0" lang="en-US" sz="2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0000"/>
                </a:solidFill>
                <a:latin typeface="Arial"/>
              </a:rPr>
              <a:t>Ημερήσιες ανάγκες, εφήβων σε ενέργεια και πρωτεΐνη</a:t>
            </a:r>
            <a:r>
              <a:rPr b="0" i="1" lang="en-US" sz="2000" spc="-1" strike="noStrike">
                <a:solidFill>
                  <a:srgbClr val="ff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0000"/>
                </a:solidFill>
                <a:latin typeface="Arial"/>
              </a:rPr>
              <a:t>Ηλικία</a:t>
            </a:r>
            <a:r>
              <a:rPr b="0" i="1" lang="en-US" sz="2000" spc="-1" strike="noStrike">
                <a:solidFill>
                  <a:srgbClr val="ff0000"/>
                </a:solidFill>
                <a:latin typeface="Arial"/>
              </a:rPr>
              <a:t>     </a:t>
            </a:r>
            <a:r>
              <a:rPr b="0" i="1" lang="el-GR" sz="2000" spc="-1" strike="noStrike">
                <a:solidFill>
                  <a:srgbClr val="ff0000"/>
                </a:solidFill>
                <a:latin typeface="Arial"/>
              </a:rPr>
              <a:t>Ενέργεια</a:t>
            </a:r>
            <a:r>
              <a:rPr b="0" i="1" lang="en-US" sz="2000" spc="-1" strike="noStrike">
                <a:solidFill>
                  <a:srgbClr val="ff0000"/>
                </a:solidFill>
                <a:latin typeface="Arial"/>
              </a:rPr>
              <a:t>      </a:t>
            </a:r>
            <a:r>
              <a:rPr b="0" i="1" lang="el-GR" sz="2000" spc="-1" strike="noStrike">
                <a:solidFill>
                  <a:srgbClr val="ff0000"/>
                </a:solidFill>
                <a:latin typeface="Arial"/>
              </a:rPr>
              <a:t>Ανάλογο</a:t>
            </a:r>
            <a:r>
              <a:rPr b="0" i="1" lang="en-US" sz="2000" spc="-1" strike="noStrike">
                <a:solidFill>
                  <a:srgbClr val="ff0000"/>
                </a:solidFill>
                <a:latin typeface="Arial"/>
              </a:rPr>
              <a:t>       </a:t>
            </a:r>
            <a:r>
              <a:rPr b="0" i="1" lang="el-GR" sz="2000" spc="-1" strike="noStrike">
                <a:solidFill>
                  <a:srgbClr val="ff0000"/>
                </a:solidFill>
                <a:latin typeface="Arial"/>
              </a:rPr>
              <a:t>Eνέργεια</a:t>
            </a:r>
            <a:r>
              <a:rPr b="0" i="1" lang="en-US" sz="2000" spc="-1" strike="noStrike">
                <a:solidFill>
                  <a:srgbClr val="ff0000"/>
                </a:solidFill>
                <a:latin typeface="Arial"/>
              </a:rPr>
              <a:t>         </a:t>
            </a:r>
            <a:r>
              <a:rPr b="0" i="1" lang="el-GR" sz="2000" spc="-1" strike="noStrike">
                <a:solidFill>
                  <a:srgbClr val="ff0000"/>
                </a:solidFill>
                <a:latin typeface="Arial"/>
              </a:rPr>
              <a:t>Πρωτεΐν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l-GR" sz="2000" spc="-1" strike="noStrike">
                <a:solidFill>
                  <a:srgbClr val="000000"/>
                </a:solidFill>
                <a:latin typeface="Arial"/>
              </a:rPr>
              <a:t>(έτη)</a:t>
            </a:r>
            <a:r>
              <a:rPr b="0" i="1" lang="en-US" sz="2000" spc="-1" strike="noStrike">
                <a:solidFill>
                  <a:srgbClr val="000000"/>
                </a:solidFill>
                <a:latin typeface="Arial"/>
              </a:rPr>
              <a:t>     </a:t>
            </a:r>
            <a:r>
              <a:rPr b="0" i="1" lang="el-GR" sz="2000" spc="-1" strike="noStrike">
                <a:solidFill>
                  <a:srgbClr val="000000"/>
                </a:solidFill>
                <a:latin typeface="Arial"/>
              </a:rPr>
              <a:t>(θερμίδες)</a:t>
            </a:r>
            <a:r>
              <a:rPr b="0" i="1" lang="en-US" sz="2000" spc="-1" strike="noStrike">
                <a:solidFill>
                  <a:srgbClr val="000000"/>
                </a:solidFill>
                <a:latin typeface="Arial"/>
              </a:rPr>
              <a:t>   </a:t>
            </a:r>
            <a:r>
              <a:rPr b="0" i="1" lang="el-GR" sz="2000" spc="-1" strike="noStrike">
                <a:solidFill>
                  <a:srgbClr val="000000"/>
                </a:solidFill>
                <a:latin typeface="Arial"/>
              </a:rPr>
              <a:t>ύψος (cm)</a:t>
            </a:r>
            <a:r>
              <a:rPr b="0" i="1" lang="en-US" sz="2000" spc="-1" strike="noStrike">
                <a:solidFill>
                  <a:srgbClr val="000000"/>
                </a:solidFill>
                <a:latin typeface="Arial"/>
              </a:rPr>
              <a:t>   </a:t>
            </a:r>
            <a:r>
              <a:rPr b="0" i="1" lang="el-GR" sz="2000" spc="-1" strike="noStrike">
                <a:solidFill>
                  <a:srgbClr val="000000"/>
                </a:solidFill>
                <a:latin typeface="Arial"/>
              </a:rPr>
              <a:t>(θερμίδες/cm)</a:t>
            </a:r>
            <a:r>
              <a:rPr b="0" i="1" lang="en-US" sz="2000" spc="-1" strike="noStrike">
                <a:solidFill>
                  <a:srgbClr val="000000"/>
                </a:solidFill>
                <a:latin typeface="Arial"/>
              </a:rPr>
              <a:t>    </a:t>
            </a:r>
            <a:r>
              <a:rPr b="0" i="1" lang="el-GR" sz="2000" spc="-1" strike="noStrike">
                <a:solidFill>
                  <a:srgbClr val="000000"/>
                </a:solidFill>
                <a:latin typeface="Arial"/>
              </a:rPr>
              <a:t>(γρ./ c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a:t>
            </a:r>
            <a:r>
              <a:rPr b="0" i="1" lang="en-US" sz="2000" spc="-1" strike="noStrike">
                <a:solidFill>
                  <a:srgbClr val="000000"/>
                </a:solidFill>
                <a:latin typeface="Arial"/>
              </a:rPr>
              <a:t>  </a:t>
            </a:r>
            <a:r>
              <a:rPr b="0" i="1" lang="el-GR" sz="2000" spc="-1" strike="noStrike">
                <a:solidFill>
                  <a:srgbClr val="000000"/>
                </a:solidFill>
                <a:latin typeface="Arial"/>
              </a:rPr>
              <a:t>----------------</a:t>
            </a:r>
            <a:r>
              <a:rPr b="0" i="1" lang="en-US" sz="2000" spc="-1" strike="noStrike">
                <a:solidFill>
                  <a:srgbClr val="000000"/>
                </a:solidFill>
                <a:latin typeface="Arial"/>
              </a:rPr>
              <a:t> </a:t>
            </a:r>
            <a:r>
              <a:rPr b="0" i="1" lang="el-GR" sz="2000" spc="-1" strike="noStrike">
                <a:solidFill>
                  <a:srgbClr val="000000"/>
                </a:solidFill>
                <a:latin typeface="Arial"/>
              </a:rPr>
              <a:t>---------------</a:t>
            </a:r>
            <a:r>
              <a:rPr b="0" i="1" lang="en-US" sz="2000" spc="-1" strike="noStrike">
                <a:solidFill>
                  <a:srgbClr val="000000"/>
                </a:solidFill>
                <a:latin typeface="Arial"/>
              </a:rPr>
              <a:t> </a:t>
            </a:r>
            <a:r>
              <a:rPr b="0" i="1" lang="el-GR" sz="2000" spc="-1" strike="noStrike">
                <a:solidFill>
                  <a:srgbClr val="000000"/>
                </a:solidFill>
                <a:latin typeface="Arial"/>
              </a:rPr>
              <a:t>--------------------</a:t>
            </a:r>
            <a:r>
              <a:rPr b="0" i="1" lang="en-US" sz="2000" spc="-1" strike="noStrike">
                <a:solidFill>
                  <a:srgbClr val="000000"/>
                </a:solidFill>
                <a:latin typeface="Arial"/>
              </a:rPr>
              <a:t> </a:t>
            </a:r>
            <a:r>
              <a:rPr b="0" i="1" lang="el-GR" sz="2000" spc="-1" strike="noStrike">
                <a:solidFill>
                  <a:srgbClr val="000000"/>
                </a:solidFill>
                <a:latin typeface="Arial"/>
              </a:rPr>
              <a:t>-----------------</a:t>
            </a:r>
            <a:r>
              <a:rPr b="0" i="1" lang="el-GR" sz="2000" spc="-1" strike="noStrike">
                <a:solidFill>
                  <a:srgbClr val="ff0000"/>
                </a:solidFill>
                <a:latin typeface="Arial"/>
              </a:rPr>
              <a:t>ΑΓΟΡΙ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11-14</a:t>
            </a:r>
            <a:r>
              <a:rPr b="0" i="1" lang="en-US" sz="2000" spc="-1" strike="noStrike">
                <a:solidFill>
                  <a:srgbClr val="000000"/>
                </a:solidFill>
                <a:latin typeface="Arial"/>
              </a:rPr>
              <a:t>	</a:t>
            </a:r>
            <a:r>
              <a:rPr b="0" i="1" lang="el-GR" sz="2000" spc="-1" strike="noStrike">
                <a:solidFill>
                  <a:srgbClr val="000000"/>
                </a:solidFill>
                <a:latin typeface="Arial"/>
              </a:rPr>
              <a:t>2500</a:t>
            </a:r>
            <a:r>
              <a:rPr b="0" i="1" lang="en-US" sz="2000" spc="-1" strike="noStrike">
                <a:solidFill>
                  <a:srgbClr val="000000"/>
                </a:solidFill>
                <a:latin typeface="Arial"/>
              </a:rPr>
              <a:t>	</a:t>
            </a:r>
            <a:r>
              <a:rPr b="0" i="1" lang="en-US" sz="2000" spc="-1" strike="noStrike">
                <a:solidFill>
                  <a:srgbClr val="000000"/>
                </a:solidFill>
                <a:latin typeface="Arial"/>
              </a:rPr>
              <a:t>     </a:t>
            </a:r>
            <a:r>
              <a:rPr b="0" i="1" lang="el-GR" sz="2000" spc="-1" strike="noStrike">
                <a:solidFill>
                  <a:srgbClr val="000000"/>
                </a:solidFill>
                <a:latin typeface="Arial"/>
              </a:rPr>
              <a:t>157</a:t>
            </a:r>
            <a:r>
              <a:rPr b="0" i="1" lang="en-US" sz="2000" spc="-1" strike="noStrike">
                <a:solidFill>
                  <a:srgbClr val="000000"/>
                </a:solidFill>
                <a:latin typeface="Arial"/>
              </a:rPr>
              <a:t>	</a:t>
            </a:r>
            <a:r>
              <a:rPr b="0" i="1" lang="en-US" sz="2000" spc="-1" strike="noStrike">
                <a:solidFill>
                  <a:srgbClr val="000000"/>
                </a:solidFill>
                <a:latin typeface="Arial"/>
              </a:rPr>
              <a:t>            </a:t>
            </a:r>
            <a:r>
              <a:rPr b="0" i="1" lang="el-GR" sz="2000" spc="-1" strike="noStrike">
                <a:solidFill>
                  <a:srgbClr val="000000"/>
                </a:solidFill>
                <a:latin typeface="Arial"/>
              </a:rPr>
              <a:t>15.9</a:t>
            </a:r>
            <a:r>
              <a:rPr b="0" i="1" lang="en-US" sz="2000" spc="-1" strike="noStrike">
                <a:solidFill>
                  <a:srgbClr val="000000"/>
                </a:solidFill>
                <a:latin typeface="Arial"/>
              </a:rPr>
              <a:t>	</a:t>
            </a:r>
            <a:r>
              <a:rPr b="0" i="1" lang="en-US" sz="2000" spc="-1" strike="noStrike">
                <a:solidFill>
                  <a:srgbClr val="000000"/>
                </a:solidFill>
                <a:latin typeface="Arial"/>
              </a:rPr>
              <a:t>          </a:t>
            </a:r>
            <a:r>
              <a:rPr b="0" i="1" lang="el-GR" sz="2000" spc="-1" strike="noStrike">
                <a:solidFill>
                  <a:srgbClr val="000000"/>
                </a:solidFill>
                <a:latin typeface="Arial"/>
              </a:rPr>
              <a:t>0.2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15-18</a:t>
            </a:r>
            <a:r>
              <a:rPr b="0" i="1" lang="en-US" sz="2000" spc="-1" strike="noStrike">
                <a:solidFill>
                  <a:srgbClr val="000000"/>
                </a:solidFill>
                <a:latin typeface="Arial"/>
              </a:rPr>
              <a:t>            </a:t>
            </a:r>
            <a:r>
              <a:rPr b="0" i="1" lang="el-GR" sz="2000" spc="-1" strike="noStrike">
                <a:solidFill>
                  <a:srgbClr val="000000"/>
                </a:solidFill>
                <a:latin typeface="Arial"/>
              </a:rPr>
              <a:t>3000</a:t>
            </a:r>
            <a:r>
              <a:rPr b="0" i="1" lang="en-US" sz="2000" spc="-1" strike="noStrike">
                <a:solidFill>
                  <a:srgbClr val="000000"/>
                </a:solidFill>
                <a:latin typeface="Arial"/>
              </a:rPr>
              <a:t>          </a:t>
            </a:r>
            <a:r>
              <a:rPr b="0" i="1" lang="el-GR" sz="2000" spc="-1" strike="noStrike">
                <a:solidFill>
                  <a:srgbClr val="000000"/>
                </a:solidFill>
                <a:latin typeface="Arial"/>
              </a:rPr>
              <a:t>176</a:t>
            </a:r>
            <a:r>
              <a:rPr b="0" i="1" lang="en-US" sz="2000" spc="-1" strike="noStrike">
                <a:solidFill>
                  <a:srgbClr val="000000"/>
                </a:solidFill>
                <a:latin typeface="Arial"/>
              </a:rPr>
              <a:t>             </a:t>
            </a:r>
            <a:r>
              <a:rPr b="0" i="1" lang="el-GR" sz="2000" spc="-1" strike="noStrike">
                <a:solidFill>
                  <a:srgbClr val="000000"/>
                </a:solidFill>
                <a:latin typeface="Arial"/>
              </a:rPr>
              <a:t>17.0</a:t>
            </a:r>
            <a:r>
              <a:rPr b="0" i="1" lang="en-US" sz="2000" spc="-1" strike="noStrike">
                <a:solidFill>
                  <a:srgbClr val="000000"/>
                </a:solidFill>
                <a:latin typeface="Arial"/>
              </a:rPr>
              <a:t>                  </a:t>
            </a:r>
            <a:r>
              <a:rPr b="0" i="1" lang="el-GR" sz="2000" spc="-1" strike="noStrike">
                <a:solidFill>
                  <a:srgbClr val="000000"/>
                </a:solidFill>
                <a:latin typeface="Arial"/>
              </a:rPr>
              <a:t>0.34</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0000"/>
                </a:solidFill>
                <a:latin typeface="Arial"/>
              </a:rPr>
              <a:t>ΚΟΡΙΤΣΙ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11-14</a:t>
            </a:r>
            <a:r>
              <a:rPr b="0" i="1" lang="en-US" sz="2000" spc="-1" strike="noStrike">
                <a:solidFill>
                  <a:srgbClr val="000000"/>
                </a:solidFill>
                <a:latin typeface="Arial"/>
              </a:rPr>
              <a:t>            </a:t>
            </a:r>
            <a:r>
              <a:rPr b="0" i="1" lang="el-GR" sz="2000" spc="-1" strike="noStrike">
                <a:solidFill>
                  <a:srgbClr val="000000"/>
                </a:solidFill>
                <a:latin typeface="Arial"/>
              </a:rPr>
              <a:t>2200</a:t>
            </a:r>
            <a:r>
              <a:rPr b="0" i="1" lang="en-US" sz="2000" spc="-1" strike="noStrike">
                <a:solidFill>
                  <a:srgbClr val="000000"/>
                </a:solidFill>
                <a:latin typeface="Arial"/>
              </a:rPr>
              <a:t>          </a:t>
            </a:r>
            <a:r>
              <a:rPr b="0" i="1" lang="el-GR" sz="2000" spc="-1" strike="noStrike">
                <a:solidFill>
                  <a:srgbClr val="000000"/>
                </a:solidFill>
                <a:latin typeface="Arial"/>
              </a:rPr>
              <a:t>157</a:t>
            </a:r>
            <a:r>
              <a:rPr b="0" i="1" lang="en-US" sz="2000" spc="-1" strike="noStrike">
                <a:solidFill>
                  <a:srgbClr val="000000"/>
                </a:solidFill>
                <a:latin typeface="Arial"/>
              </a:rPr>
              <a:t>            </a:t>
            </a:r>
            <a:r>
              <a:rPr b="0" i="1" lang="el-GR" sz="2000" spc="-1" strike="noStrike">
                <a:solidFill>
                  <a:srgbClr val="000000"/>
                </a:solidFill>
                <a:latin typeface="Arial"/>
              </a:rPr>
              <a:t>14.0</a:t>
            </a:r>
            <a:r>
              <a:rPr b="0" i="1" lang="en-US" sz="2000" spc="-1" strike="noStrike">
                <a:solidFill>
                  <a:srgbClr val="000000"/>
                </a:solidFill>
                <a:latin typeface="Arial"/>
              </a:rPr>
              <a:t>                  </a:t>
            </a:r>
            <a:r>
              <a:rPr b="0" i="1" lang="el-GR" sz="2000" spc="-1" strike="noStrike">
                <a:solidFill>
                  <a:srgbClr val="000000"/>
                </a:solidFill>
                <a:latin typeface="Arial"/>
              </a:rPr>
              <a:t>0.2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15-18</a:t>
            </a:r>
            <a:r>
              <a:rPr b="0" i="1" lang="en-US" sz="2000" spc="-1" strike="noStrike">
                <a:solidFill>
                  <a:srgbClr val="000000"/>
                </a:solidFill>
                <a:latin typeface="Arial"/>
              </a:rPr>
              <a:t>            </a:t>
            </a:r>
            <a:r>
              <a:rPr b="0" i="1" lang="el-GR" sz="2000" spc="-1" strike="noStrike">
                <a:solidFill>
                  <a:srgbClr val="000000"/>
                </a:solidFill>
                <a:latin typeface="Arial"/>
              </a:rPr>
              <a:t>2200</a:t>
            </a:r>
            <a:r>
              <a:rPr b="0" i="1" lang="en-US" sz="2000" spc="-1" strike="noStrike">
                <a:solidFill>
                  <a:srgbClr val="000000"/>
                </a:solidFill>
                <a:latin typeface="Arial"/>
              </a:rPr>
              <a:t>          </a:t>
            </a:r>
            <a:r>
              <a:rPr b="0" i="1" lang="el-GR" sz="2000" spc="-1" strike="noStrike">
                <a:solidFill>
                  <a:srgbClr val="000000"/>
                </a:solidFill>
                <a:latin typeface="Arial"/>
              </a:rPr>
              <a:t>163</a:t>
            </a:r>
            <a:r>
              <a:rPr b="0" i="1" lang="en-US" sz="2000" spc="-1" strike="noStrike">
                <a:solidFill>
                  <a:srgbClr val="000000"/>
                </a:solidFill>
                <a:latin typeface="Arial"/>
              </a:rPr>
              <a:t>           </a:t>
            </a:r>
            <a:r>
              <a:rPr b="0" i="1" lang="el-GR" sz="2000" spc="-1" strike="noStrike">
                <a:solidFill>
                  <a:srgbClr val="000000"/>
                </a:solidFill>
                <a:latin typeface="Arial"/>
              </a:rPr>
              <a:t>13.5</a:t>
            </a:r>
            <a:r>
              <a:rPr b="0" i="1" lang="en-US" sz="2000" spc="-1" strike="noStrike">
                <a:solidFill>
                  <a:srgbClr val="000000"/>
                </a:solidFill>
                <a:latin typeface="Arial"/>
              </a:rPr>
              <a:t>                 </a:t>
            </a:r>
            <a:r>
              <a:rPr b="0" i="1" lang="el-GR" sz="2000" spc="-1" strike="noStrike">
                <a:solidFill>
                  <a:srgbClr val="000000"/>
                </a:solidFill>
                <a:latin typeface="Arial"/>
              </a:rPr>
              <a:t>0.2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Προσαρμογή από τις Ημερήσιες Προτεινόμενες Προσλήψεις R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475920"/>
            <a:ext cx="8147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Ισορροπημένο  πρωινό για μαθητές</a:t>
            </a:r>
            <a:br>
              <a:rPr sz="4000"/>
            </a:b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ο πρώτο γεύμα της ημέρας που δεν πρέπει να λείπει ποτέ από την διατροφή του μαθητή  επιβάλλεται να περιλαμβάνει δημητριακά ολικής άλεσης, καθώς σύμφωνα με μια πρωτοποριακή  αμερικανική επιδημιολογική μελέτη, τέτοιου είδους τροφές πλούσιες σε υδατάνθρακες και φυτικές ίνες βοηθούν στην επίλυση μαθηματικών  υπολογισμών. Επίσης, απαραίτητα για το πρωινό των μαθητών είναι τα γαλακτοκομικά προϊόντα, που εξασφαλίζουν  πρωτεΐνες για την αύξηση της μυϊκής μάζας και  ασβέστιο μαζί με βιταμίνη D  για  το «χτίσιμο» γερού σκελετού.</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Ωστόσο, για την αποφυγή πρόσληψης περιττών θερμίδων που ευνοούν την  εξάπλωση της επιδημίας της παιδικής παχυσαρκίας το γάλα  πρέπει να είναι  ημι-αποβουτυρωμένο ή άπαχο και το γιαούρτι ή τα τυριά χαμηλά σε λίπ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Διατροφή  στο σχολείο</a:t>
            </a:r>
            <a:br>
              <a:rPr sz="3200"/>
            </a:br>
            <a:endParaRPr b="0" lang="en-US" sz="3200" spc="-1" strike="noStrike">
              <a:solidFill>
                <a:srgbClr val="000000"/>
              </a:solidFill>
              <a:latin typeface="Arial"/>
            </a:endParaRPr>
          </a:p>
        </p:txBody>
      </p:sp>
      <p:sp>
        <p:nvSpPr>
          <p:cNvPr id="62" name="PlaceHolder 2"/>
          <p:cNvSpPr>
            <a:spLocks noGrp="1"/>
          </p:cNvSpPr>
          <p:nvPr>
            <p:ph/>
          </p:nvPr>
        </p:nvSpPr>
        <p:spPr>
          <a:xfrm>
            <a:off x="456840" y="1599840"/>
            <a:ext cx="4475160" cy="4924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Κατά την διάρκεια των σχολικών ωρών οι μαθητές  κουράζονται και γι αυτό έχουν ανάγκη από  τα κατάλληλα σνακ που τους προσφέρουν ενέργεια.  Οι καλύτερες επιλογές γι αυτή  τη περίπτωση είναι οι υγιεινές τροφές που περιέχουν υδατάνθρακες όπως τα  φρούτα, τα bar δημητριακών ( κατά προτίμηση χωρίς επικαλύψεις σοκολάτας ή ζάχαρης),  το  κουλούρι Θεσσαλονίκης</a:t>
            </a:r>
            <a:r>
              <a:rPr b="0" i="1" lang="en-US" sz="1800" spc="-1" strike="noStrike">
                <a:solidFill>
                  <a:srgbClr val="000000"/>
                </a:solidFill>
                <a:latin typeface="Arial"/>
              </a:rPr>
              <a:t> </a:t>
            </a:r>
            <a:r>
              <a:rPr b="0" i="1" lang="el-GR" sz="1800" spc="-1" strike="noStrike">
                <a:solidFill>
                  <a:srgbClr val="000000"/>
                </a:solidFill>
                <a:latin typeface="Arial"/>
              </a:rPr>
              <a:t>ή</a:t>
            </a:r>
            <a:r>
              <a:rPr b="0" i="1" lang="en-US" sz="1800" spc="-1" strike="noStrike">
                <a:solidFill>
                  <a:srgbClr val="000000"/>
                </a:solidFill>
                <a:latin typeface="Arial"/>
              </a:rPr>
              <a:t> </a:t>
            </a:r>
            <a:r>
              <a:rPr b="0" i="1" lang="el-GR" sz="1800" spc="-1" strike="noStrike">
                <a:solidFill>
                  <a:srgbClr val="000000"/>
                </a:solidFill>
                <a:latin typeface="Arial"/>
              </a:rPr>
              <a:t>ένα κουτάκι  άπαχο γάλα με κακάο.</a:t>
            </a:r>
            <a:endParaRPr b="0" lang="en-US" sz="1800" spc="-1" strike="noStrike">
              <a:solidFill>
                <a:srgbClr val="000000"/>
              </a:solidFill>
              <a:latin typeface="Arial"/>
            </a:endParaRPr>
          </a:p>
        </p:txBody>
      </p:sp>
      <p:pic>
        <p:nvPicPr>
          <p:cNvPr id="63" name="" descr=""/>
          <p:cNvPicPr/>
          <p:nvPr/>
        </p:nvPicPr>
        <p:blipFill>
          <a:blip r:embed="rId1"/>
          <a:stretch/>
        </p:blipFill>
        <p:spPr>
          <a:xfrm>
            <a:off x="5219640" y="1700280"/>
            <a:ext cx="3486240" cy="22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147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Arial"/>
              </a:rPr>
              <a:t>Διατροφή στο σπίτι</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Η σωστή διατροφή ωστόσο πρέπει να συνεχίζεται και στο σπίτι, αφού άλλωστε το μεσημεριανό γεύμα είναι  απαραίτητο στους μαθητές. Όταν λοιπόν  επιστρέφουν στο σπίτι από το σχολείο  πρέπει να βρίσκουν μαγειρεμένο φαγητό, γιατί στην αντίθετη περίπτωση ξεγελούν την πείνα τους καταναλώνοντας junk food, που τους προσφέρει μονάχα άχρηστες θερμίδες μέσα από «κρυφά» λίπη και «κρυφή» ζάχαρη, σε συνδυασμό με άφθονο αλάτι και συντηρητικά.</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όσο το μεσημέρι, όσο και το  βράδυ το μενού του μαθητή  πρέπει οπωσδήποτε να περιλαμβάνει σαλάτα και φρούτο σε καθημερινή βάση. Σύμφωνα με τις συστάσεις των ειδικών, τα όσπρια πρέπει να αποτελούν το κύριο γεύμα 1-2 φορές την εβδομάδα,  ενώ το ίδιο ισχύει και για το ψάρι. Όταν τρώνε κρέας, οι μαθητές καλό είναι να βγάζουν πάντα το ορατό λίπος, ενώ οι γονείς τους  δεν πρέπει να τους πιέζουν  να αδειάσουν το πιάτο τους αν δεν πεινάνε. Κι αυτό γιατί η πίεση για την κατανάλωση μεγαλύτερης ποσότητας τροφής-σε συνδυασμό με τις ανθυγιεινές λιχουδιές που  οι μαθητές αγοράζουν σε περίπτερα, σούπερ-Μάρκε ή φαστφουντάδικα  βοηθούν τα παιδιά να γίνουν παχύσαρκα. Και όπως επιβεβαιώνει πρόσφατη  έρευνα από την Μονάδα  Εφηβικής Υγείας  του  Νοσοκομείου Αγλαΐα Κυριακού  οι μαθητές που γίνονται  υπέρβαροι ή παχύσαρκοι, έχουν 80% πιθανότητα  να διατηρήσουν στο ακέραιο τα  παραπανίσια κιλά τους σε όλη τους την ενήλικη ζωή, κάτι που αυξάνει τον κίνδυνο για διαβήτη,  καρδιοπάθειες και τους σχετιζόμενους με την παχυσαρκία καρκίν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Arial"/>
              </a:rPr>
              <a:t>ΕΠΙΛΟΓΟΣ</a:t>
            </a:r>
            <a:endParaRPr b="0" lang="en-US" sz="3600" spc="-1" strike="noStrike">
              <a:solidFill>
                <a:srgbClr val="000000"/>
              </a:solidFill>
              <a:latin typeface="Arial"/>
            </a:endParaRPr>
          </a:p>
        </p:txBody>
      </p:sp>
      <p:sp>
        <p:nvSpPr>
          <p:cNvPr id="67" name="PlaceHolder 2"/>
          <p:cNvSpPr>
            <a:spLocks noGrp="1"/>
          </p:cNvSpPr>
          <p:nvPr>
            <p:ph/>
          </p:nvPr>
        </p:nvSpPr>
        <p:spPr>
          <a:xfrm>
            <a:off x="456840" y="1599840"/>
            <a:ext cx="519444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l-GR" sz="1800" spc="-1" strike="noStrike">
                <a:solidFill>
                  <a:srgbClr val="000000"/>
                </a:solidFill>
                <a:latin typeface="Arial"/>
              </a:rPr>
              <a:t>Σύμφωνα με τις εκτιμήσεις του Παγκόσμιου Οργανισμού Υγείας (WHO) περίπου 1.6 δισεκατομμύρια ενήλικες είναι υπέρβαροι και 400 εκατομμύρια παχύσαρκοι, στη δε παιδική ηλικία  τουλάχιστον 20 εκατομμύρια  παιδιά κάτω των 5 ετών είναι υπέρβαροι και 120 εκατομμύρια (10%)παιδιά άνω των  6 ετών είναι υπέρβαρα ή παχύσαρκα(ΟργανισμόςΜελέτης Παχυσαρκίας, IAS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Όσον αφορά  τις χώρες  μέλη της Ευρωπαϊκής Ένωσης το 20% των παιδιών άνω των 6 ετών , είναι υπέρβαρα ή παχύσαρκα και προβλέπεται ότι  15 εκατομμύρια παιδιά θα είναι παχύσαρκα μέχρι το 2010 στις 53 χώρες τις Ευρώπης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Είναι τραγικό να βλέπουμε ένα τόσο μεγάλο αριθμό υπέρβαρων και  παχύσαρκων παιδιών, γνωρίζοντας ότι με μεγάλη πιθανότητα καθένα από τα παιδιά αυτά θα είναι ένας μελλοντικός ενήλικας παχύσαρκος.</a:t>
            </a:r>
            <a:endParaRPr b="0" lang="en-US" sz="1800" spc="-1" strike="noStrike">
              <a:solidFill>
                <a:srgbClr val="000000"/>
              </a:solidFill>
              <a:latin typeface="Arial"/>
            </a:endParaRPr>
          </a:p>
        </p:txBody>
      </p:sp>
      <p:pic>
        <p:nvPicPr>
          <p:cNvPr id="68" name="" descr=""/>
          <p:cNvPicPr/>
          <p:nvPr/>
        </p:nvPicPr>
        <p:blipFill>
          <a:blip r:embed="rId1"/>
          <a:stretch/>
        </p:blipFill>
        <p:spPr>
          <a:xfrm>
            <a:off x="5724360" y="1484280"/>
            <a:ext cx="314496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75920"/>
            <a:ext cx="5338800" cy="5329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0000"/>
                </a:solidFill>
                <a:latin typeface="Arial"/>
              </a:rPr>
              <a:t>ΕΦΗΒΙΚΗ ΑΝΑΠΤΥΞΗ</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Η εφηβική ανάπτυξη για τα κορίτσια ξεκινάει στην ηλικία των 10-11 ετών και ολοκληρώνεται συνήθως μέχρι τα 15 έτη ενώ για τα αγόρια ξεκινάει σε ηλικία 12-13 ετών, φτάνει στο μέγιστο ρυθμό ανάπτυξης σε ηλικία 14 ετών και ολοκληρώνεται στα 19 έτη. Οι αυξημένες ενεργειακές ανάγκες σε αυτήν την ηλικία είναι αδιαμφισβήτητο γεγονός, καθώς ο έφηβος χρειάζεται ενέργεια για την αύξηση του μυϊκού ιστού, την ανάπτυξη του σκελετού και του νευρικού συστήματος, καθώς και για την ανάπτυξη του γεννητικού συστήματος.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Είναι λοιπόν απαραίτητο, οι έφηβοι να προσλαμβάνουν την κατάλληλη ποσότητα ενέργειας καθημερινά αλλά και να εκπαιδευτούν σε σχέση με την ποιότητα των τροφών που θα πρέπει να καταναλώνουν.</a:t>
            </a:r>
            <a:r>
              <a:rPr b="0" lang="el-GR"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
          <p:cNvPicPr/>
          <p:nvPr/>
        </p:nvPicPr>
        <p:blipFill>
          <a:blip r:embed="rId1"/>
          <a:stretch/>
        </p:blipFill>
        <p:spPr>
          <a:xfrm>
            <a:off x="5940360" y="765000"/>
            <a:ext cx="265896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0000"/>
                </a:solidFill>
                <a:uFillTx/>
                <a:latin typeface="Arial"/>
              </a:rPr>
              <a:t>Διατροφικές διαταραχές στην Εφηβική ηλικί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Arial"/>
              </a:rPr>
              <a:t>	</a:t>
            </a:r>
            <a:r>
              <a:rPr b="0" i="1" lang="el-GR" sz="1800" spc="-1" strike="noStrike">
                <a:solidFill>
                  <a:srgbClr val="000000"/>
                </a:solidFill>
                <a:latin typeface="Arial"/>
              </a:rPr>
              <a:t>Η εφηβεία είναι μία μεταβατική περίοδος μεταξύ της παιδικής ηλικίας και της ενήλικης ζωής. Χαρακτηρίζεται από συγκεκριμένα στάδια, όσον αφορά τη σεξουαλική ωρίμανση του ατόμου, την αύξηση του βάρους και του ύψους του, αλλά και των αλλαγών στη σύσταση σώματός του. Είναι επίσης μία περίοδος νοητικών, συναισθηματικών και κοινωνικών αλλαγών. Οι αλλαγές αυτές αποτελούν μέρος της γενικότερης ωρίμανσης του ατόμου, που δεν συμβαίνουν απότομα, αλλά ο ρυθμός και το εύρος τους εξαρτάται άμεσα από το κοινωνικό περιβάλλον του εφήβ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333000"/>
            <a:ext cx="8353440" cy="60087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0000"/>
                </a:solidFill>
                <a:latin typeface="Arial"/>
              </a:rPr>
              <a:t>Αίτια της παχυσαρκίας</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Η παχυσαρκία είναι ένα τυπικό παράδειγμα πολυπαραγοντικής νόσου και πρέπει να θεωρείται ως το αποτέλεσμα διαφόρων παραγόντων όπως ο τρόπος ζωής, η δίαιτα, η ηλικία, το φύλο και η κληρονομικότητα.</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όσο τα γονίδια όσο και το περιβάλλον επιδρούν στην εμφάνιση της παιδικής παχυσαρκίας. Τα παιδιά των οποίων και οι δυο γονείς είναι παχύσαρκοι έχουν 80% πιθανότητα να γίνουν παχύσαρκα και ο κίνδυνος αυτός πέφτει στο 40% αν μόνο ο ένας γονιός είναι παχύσαρκος και στο 8% αν κανείς από τους γονείς</a:t>
            </a:r>
            <a:r>
              <a:rPr b="0" lang="el-GR" sz="1800" spc="-1" strike="noStrike">
                <a:solidFill>
                  <a:srgbClr val="000000"/>
                </a:solidFill>
                <a:latin typeface="Arial"/>
              </a:rPr>
              <a:t> </a:t>
            </a:r>
            <a:r>
              <a:rPr b="0" i="1" lang="el-GR" sz="1800" spc="-1" strike="noStrike">
                <a:solidFill>
                  <a:srgbClr val="000000"/>
                </a:solidFill>
                <a:latin typeface="Arial"/>
              </a:rPr>
              <a:t>δεν είναι παχύσαρκος.</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	</a:t>
            </a:r>
            <a:r>
              <a:rPr b="0" i="1" lang="el-GR" sz="1800" spc="-1" strike="noStrike">
                <a:solidFill>
                  <a:srgbClr val="ff0000"/>
                </a:solidFill>
                <a:latin typeface="Arial"/>
              </a:rPr>
              <a:t>Διατροφή:</a:t>
            </a:r>
            <a:r>
              <a:rPr b="0" i="1" lang="el-GR" sz="1800" spc="-1" strike="noStrike">
                <a:solidFill>
                  <a:srgbClr val="000000"/>
                </a:solidFill>
                <a:latin typeface="Arial"/>
              </a:rPr>
              <a:t> Η διατροφή είναι ένα βασικό καθοριστικό στοιχείο του βάρους του σώματος. Η πρόσληψη θερμίδων με τη διατροφή αλλά και η ισορροπία των θρεπτικών συστατικών στη δίαιτα καθώς και η κατανομή των γευμάτων κατά τη διάρκεια της ημέρας σχετίζονται με τη σύσταση του σώματος.</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	</a:t>
            </a:r>
            <a:r>
              <a:rPr b="0" i="1" lang="el-GR" sz="1800" spc="-1" strike="noStrike">
                <a:solidFill>
                  <a:srgbClr val="ff0000"/>
                </a:solidFill>
                <a:latin typeface="Arial"/>
              </a:rPr>
              <a:t>Φυσική δραστηριότητα:</a:t>
            </a:r>
            <a:r>
              <a:rPr b="0" i="1" lang="el-GR" sz="1800" spc="-1" strike="noStrike">
                <a:solidFill>
                  <a:srgbClr val="000000"/>
                </a:solidFill>
                <a:latin typeface="Arial"/>
              </a:rPr>
              <a:t> Η ελαττωμένη φυσική δραστηριότητα, η οποία οφείλεται κυρίως στον σύγχρονο καθιστικό τρόπο ζωής, έχει σαν αποτέλεσμα την ελαττωμένη «δαπάνη» ενέργειας γεγονός που αποτελεί κακό προγνωστικό παράγοντα για την αύξηση του βάρ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Οι διατροφικές συνήθειες των νέων  και διατροφικές διαταραχές</a:t>
            </a:r>
            <a:endParaRPr b="0" lang="en-US" sz="2800" spc="-1" strike="noStrike">
              <a:solidFill>
                <a:srgbClr val="000000"/>
              </a:solidFill>
              <a:latin typeface="Arial"/>
            </a:endParaRPr>
          </a:p>
        </p:txBody>
      </p:sp>
      <p:pic>
        <p:nvPicPr>
          <p:cNvPr id="48" name="" descr=""/>
          <p:cNvPicPr/>
          <p:nvPr/>
        </p:nvPicPr>
        <p:blipFill>
          <a:blip r:embed="rId1"/>
          <a:stretch/>
        </p:blipFill>
        <p:spPr>
          <a:xfrm>
            <a:off x="6588000" y="1916280"/>
            <a:ext cx="1943280" cy="1581120"/>
          </a:xfrm>
          <a:prstGeom prst="rect">
            <a:avLst/>
          </a:prstGeom>
          <a:ln w="0">
            <a:noFill/>
          </a:ln>
        </p:spPr>
      </p:pic>
      <p:sp>
        <p:nvSpPr>
          <p:cNvPr id="49" name=""/>
          <p:cNvSpPr/>
          <p:nvPr/>
        </p:nvSpPr>
        <p:spPr>
          <a:xfrm>
            <a:off x="250920" y="1709640"/>
            <a:ext cx="612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ην εποχή που η παχυσαρκία στους ενήλικες αυξάνεται συνεχώς και η παιδική παχυσαρκία χαρακτηρίζεται ως παγκόσμια επιδημία, η εφηβεία φαίνεται να παίζει καθοριστικό ρόλο στη μετάβαση της παχυσαρκίας από την παιδική στην ενήλικη ζωή. Όλο και περισσότερες έρευνες έρχονται στη δημοσιότητα οι οποίες δείχνουν πως οι παχύσαρκοι έφηβοι έχουν αυξημένες πιθανότητες να παραμείνουν παχύσαρκοι στην ενήλικη ζωή τους. Η σχέση αυτή κάνει επιτακτική την ανάγκη αναζήτησης τρόπου και μεθόδων αντιμετώπισης της παχυσαρκίας στους νέου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Οι ανθυγιεινές και παχυντικές τροφές επιλέγουν οι μαθητές να τρώνε στο σχολείο, παρά το γεγονός ότι τα κυλικεία είναι πλέον υποχρεωμένα να διαθέτουν συγκεκριμένα τρόφιμα, τα οποία δεν βλάπτουν την υγεία και δεν παχαίνου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476280"/>
            <a:ext cx="7931160" cy="612144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l-GR" sz="1800" spc="-1" strike="noStrike">
                <a:solidFill>
                  <a:srgbClr val="000000"/>
                </a:solidFill>
                <a:latin typeface="Arial"/>
              </a:rPr>
              <a:t>Έτσι όταν τα παιδιά δεν μπορούν να βρουν τις τροφές που θέλουν στα κυλικεία, ψωνίζουν από τα κοντινά -εκτός σχολείου- καταστήματα τσιπς, σάντουιτς, παγωτά και γλυκά, τα οποία συνήθως περιέχουν μεγάλες ποσότητες από λιπαρές ουσίες.  Αποτέλεσμα της κατάστασης αυτής είναι η χώρα μας να έχει το τρίτο μεγαλύτερο ποσοστό υπέρβαρων παιδιών στην Ευρώπη μετά την Ιταλία και την Ισπανία, γεγονός που οφείλεται κατά κύριο λόγο στις κακές διατροφικές συνήθειες που απέκτησαν τα παιδιά (σ.σ.: και οι γονείς τους), στη μειωμένη δραστηριότητα και σε ψυχολογικούς παράγοντες.</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Η παιδική παχυσαρκία έχει φτάσει σε ανησυχητικά επίπεδα και γι αυτό τον λόγο πέρυσι το υπουργείο Παιδείας είχε ξεκινήσει μια σχετική έρευνα όσον αφορά τους μαθητές, τα αποτελέσματα της οποίας όμως δεν ανακοινώθηκαν, ούτε και ποια μέτρα προτίθεται να πάρει η Πολιτεία προκειμένου να ενημερώσει την κοινή γνώμη και να προστατεύσει τους μαθητές από τη μάστιγα της εποχής, που έχει πάρει διαστάσεις επιδημίας τόσο στη χώρα μας αλλά και σε ολόκληρο τον κόσμο.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ο φαινόμενο δεν είναι μόνο ελληνικό, αφού, σύμφωνα με πρόσφατες έρευνες, τα τελευταία 15 χρόνια τα ποσοστά των παχύσαρκων ατόμων παγκοσμίως έχουν αυξηθεί κατά 50%, ενώ, όπως αποκάλυψε η Ομάδα Μελέτης της διεθνούς Παχυσαρκίας σε ολόκληρο τον πλανήτη, πάνω από 1,7 δισεκατομμύρια άτομα είναι υπέρβαρα ή παχύσαρκ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781360"/>
            <a:ext cx="8229600" cy="36338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Το fast food από το μαγειρευτό φαγητό προτιμά το 88% των νέων. Ωστόσο 7 στους 10 δηλώνουν πρόθυμοι να ακολουθήσουν ένα πρόγραμμα σωστής διατροφής, παρ΄ ότι οι συνθήκες δεν τους το επιτρέπουν λόγω του μειωμένου χρόνου που διαθέτουν.</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l-GR" sz="1800" spc="-1" strike="noStrike">
                <a:solidFill>
                  <a:srgbClr val="000000"/>
                </a:solidFill>
                <a:latin typeface="Arial"/>
              </a:rPr>
              <a:t>Εξάλλου, σχεδόν 4 στους 10 νέους παρουσιάζουν διαταραχές βάρους και από αυτούς το 22,66% είναι παχύσαρκοι, ενώ το 17,3% λιποβαρείς.</a:t>
            </a:r>
            <a:endParaRPr b="0" lang="en-US" sz="1800" spc="-1" strike="noStrike">
              <a:solidFill>
                <a:srgbClr val="000000"/>
              </a:solidFill>
              <a:latin typeface="Arial"/>
            </a:endParaRPr>
          </a:p>
        </p:txBody>
      </p:sp>
      <p:pic>
        <p:nvPicPr>
          <p:cNvPr id="52" name="" descr=""/>
          <p:cNvPicPr/>
          <p:nvPr/>
        </p:nvPicPr>
        <p:blipFill>
          <a:blip r:embed="rId1"/>
          <a:stretch/>
        </p:blipFill>
        <p:spPr>
          <a:xfrm>
            <a:off x="2843280" y="476280"/>
            <a:ext cx="324000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764640"/>
            <a:ext cx="821844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Διατροφικές συνήθειες  εφήβων μαθητών Γυμνασίων &amp; Λυκείων  Αθήνας</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Κύρια Ευρήματα:</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a:t>
            </a:r>
            <a:r>
              <a:rPr b="0" i="1" lang="el-GR" sz="1800" spc="-1" strike="noStrike">
                <a:solidFill>
                  <a:srgbClr val="000000"/>
                </a:solidFill>
                <a:latin typeface="Arial"/>
              </a:rPr>
              <a:t>Μόλις το 10 % λαμβάνει πρωινό και τις 7 (ή 6) ημέρες της εβδομάδα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a:t>
            </a:r>
            <a:r>
              <a:rPr b="0" i="1" lang="el-GR" sz="1800" spc="-1" strike="noStrike">
                <a:solidFill>
                  <a:srgbClr val="000000"/>
                </a:solidFill>
                <a:latin typeface="Arial"/>
              </a:rPr>
              <a:t>Το 52% επιλέγει ως βασικό ρόφημα στο πρωινό τον καφέ</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a:t>
            </a:r>
            <a:r>
              <a:rPr b="0" i="1" lang="el-GR" sz="1800" spc="-1" strike="noStrike">
                <a:solidFill>
                  <a:srgbClr val="000000"/>
                </a:solidFill>
                <a:latin typeface="Arial"/>
              </a:rPr>
              <a:t>Παρόλο που το 97% καταναλώνει δεκατιανό (κολατσιό), το 60% από το συγκεκριμένο ποσοστό επιλέγει να αγοράσει κάτι από το κυλικείο του σχολείου και μόλις το 11% καταναλώνει κάτι που προετοιμάστηκε στο σπίτ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a:t>
            </a:r>
            <a:r>
              <a:rPr b="0" i="1" lang="el-GR" sz="1800" spc="-1" strike="noStrike">
                <a:solidFill>
                  <a:srgbClr val="000000"/>
                </a:solidFill>
                <a:latin typeface="Arial"/>
              </a:rPr>
              <a:t>Σε ποσοστό 16,35% δεν τρώνε καθόλου στα διαλείμματα, στο σχολεί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a:t>
            </a:r>
            <a:r>
              <a:rPr b="0" i="1" lang="el-GR" sz="1800" spc="-1" strike="noStrike">
                <a:solidFill>
                  <a:srgbClr val="000000"/>
                </a:solidFill>
                <a:latin typeface="Arial"/>
              </a:rPr>
              <a:t>Τα αγόρια τρώνε το πρωί στο σπίτι σε ποσοστό 57,1% και τα κορίτσια μόνο σε ποσοστό 25,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 στοιχεία αυτά προκύπτουν από τα αποτελέσματα έρευνας για τις διατροφικές συνήθειες παιδιών δημοτικού σχολείου, σχετικά με τη λήψη πρωινού γεύματος, που διενεργήθηκε από το ΤΕΦΑΑ ΑΠΘ, σε δείγμα 55 μαθητών της ΣΤ' τάξης του δημοτικού και παρουσιάστηκαν στο 2ο Διεθνές Συνέδριο με θέμα «Σύγχρονος τρόπος ζωής και πρόληψη καρδιαγγειακών και μυοσκελετικών παθήσεων», το διεξήχθη στη Θεσσαλονίκ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8147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Οι Διατροφικές ανάγκες των νέων</a:t>
            </a:r>
            <a:endParaRPr b="0" lang="en-US" sz="3200" spc="-1" strike="noStrike">
              <a:solidFill>
                <a:srgbClr val="000000"/>
              </a:solidFill>
              <a:latin typeface="Arial"/>
            </a:endParaRPr>
          </a:p>
        </p:txBody>
      </p:sp>
      <p:sp>
        <p:nvSpPr>
          <p:cNvPr id="56"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fontScale="99000"/>
          </a:bodyPr>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Οι ανάγκες σε πρωτεΐνη κατά την εφηβεία κυμαίνονται από 0,8-1 α/kgr σωματικού βάρους την ημέρα. Ο έφηβος θα πρέπει να καταναλώνει ικανοποιητικές ποσότητες πρωτεΐνης υψηλής βιολογικής αξίας και άρα τροφές όπως το κρέας, το ψάρι, το κοτόπουλο, τα γαλακτοκομικά και το αυγό.</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Τα λιπαρά πρέπει να καλύπτουν το 30% των ημερήσιων προσλαμβανομένων θερμίδων, με το κορεσμένο λίπος (λίπος κρέατος- λίπος γαλακτοκομικών) να καλύπτει λιγότερο από το 10% της ενέργειας αυτής. Προσοχή! Το λίπος της τροφής είναι απαραίτητο, αλλά σε ισορροπημένες ποσότητες. Μια διατροφή που προσδίδει ποσοστό λίπους μικρότερο του 30% των ημερήσιων θερμίδων, μπορεί να οδηγήσει σε ανεπαρκή πρόσληψη βιταμινών και απαραίτητων λιπαρών οξέων και άρα σε προβλήματα ανάπτυξης.</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 </a:t>
            </a:r>
            <a:r>
              <a:rPr b="0" i="1" lang="el-GR" sz="1500" spc="-1" strike="noStrike">
                <a:solidFill>
                  <a:srgbClr val="000000"/>
                </a:solidFill>
                <a:latin typeface="Arial"/>
              </a:rPr>
              <a:t>Από την άλλη πλευρά διαιτολόγια πλούσια σε λίπος μπορεί να οδηγήσουν σε προβλήματα παχυσαρκίας. Κατά την εφηβεία και λόγω των αυξημένων ενεργειακών απαιτήσεων οι ανάγκες σε Β1, σε Β2 και σε Νιασίνη είναι ιδιαίτερα αυξημένες.</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Τροφές πλούσιες σε Β1 είναι η μαγιά μπίρας, το κόκκινο κρέας, τα δημητριακά προγεύματος, τα όσπρια, οι ηλιόσποροι.</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Τροφές πλούσιες σε B2 είναι το κόκκινο κρέας, τα δημητριακά προγεύματος, τα όσπρια, οι ξηροί καρποί, το συκώτι, τα γαλακτοκομικά, τα μανιτάρια.</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Τροφές πλούσιες σε Νιασίνη είναι η μαγιά μπίρας, τα μανιτάρια, ο τόνος, τα όσπρια, οι ξηροί καρποί, τα γαλακτοκομικά.</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Η επαρκής πρόσληψη βιταμίνης D είναι πολύ σημαντική για καλή σκελετική υγεία.</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Καλές πηγές βιταμίνης D είναι οι σαρδέλες, ο σολομός, ο τόνος, τα γαλακτοκομικά, το συκώτι και τα αβγά.</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500" spc="-1" strike="noStrike">
                <a:solidFill>
                  <a:srgbClr val="000000"/>
                </a:solidFill>
                <a:latin typeface="Arial"/>
              </a:rPr>
              <a:t>Για τις υπόλοιπες βιταμίνες οι απαιτήσεις είναι παρόμοιες όπως στουςενήλικες.</a:t>
            </a:r>
            <a:br>
              <a:rPr sz="1500"/>
            </a:br>
            <a:r>
              <a:rPr b="0" i="1" lang="el-GR" sz="1500" spc="-1" strike="noStrike">
                <a:solidFill>
                  <a:srgbClr val="000000"/>
                </a:solidFill>
                <a:latin typeface="Arial"/>
              </a:rPr>
              <a:t>Μεγάλη έμφαση κατά την εφηβεία πρέπει να δίνεται στις τροφές που είναι πλούσιες σε ασβέστιο. Ο έφηβος πρέπει να καταναλώνει τουλάχιστον τρεις μερίδες γαλακτοκομικών ημερησίως.</a:t>
            </a:r>
            <a:r>
              <a:rPr b="0" lang="el-G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07:11:33Z</dcterms:created>
  <dc:creator>teachers</dc:creator>
  <dc:description/>
  <dc:language>en-US</dc:language>
  <cp:lastModifiedBy>teachers</cp:lastModifiedBy>
  <dcterms:modified xsi:type="dcterms:W3CDTF">2012-05-09T07:24:33Z</dcterms:modified>
  <cp:revision>4</cp:revision>
  <dc:subject/>
  <dc:title>Η ΔΙΑΤΡΟΦΙΚΕΣ ΣΥΝΗΘΕΙΕΣ ΤΩΝ ΜΑΘΗΤΩΝ </dc:title>
</cp:coreProperties>
</file>